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A55-8C9E-49E5-8399-851C7967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D19-4FE3-4B50-8A94-DC6BFDF0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FDB-8F5E-427D-85F5-D81B328B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D60-248E-4B55-ADC3-AC857207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FE4-430B-4FED-A600-5898BD46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049-A318-467B-8899-46C16E0C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CC1-BC59-48D8-98A0-25A8BAC7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7C6-384A-4FAF-AEA7-5FA40DDA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E6C-FBCB-4AF7-A089-8B1E1FD8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C039-BC59-40BF-A11D-D642C838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791-8875-4A47-9769-C3A5A3E4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30B-9860-47EE-9392-BF0603FA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A757-FC9B-4C89-A2F2-9C58A6B07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CONVENIOS DE COOPERACION EMPRESAR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836640"/>
            <a:ext cx="7777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UERDOS DE ACTUACIÓN CONJU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 la convención entre dos o más personas que participan simultáneamente en la propiedad de una sociedad, directamente o a través de otras personas naturales o jurídicas controladas, mediante la cual se comprometen a participar con idéntico interés en la gestión de la sociedad y obtener el control de la mis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e presume que existe tal acuerdo ent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Representantes y represen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Una persona, su cónyuge y parientes hasta un 2º g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Entidades pertenecientes a un mismo grupo empres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Una sociedad y su contro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669960"/>
            <a:ext cx="777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OINT VENTURE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8.1 Conce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 una reunión de fuerzas entre dos o más empresas del mismo o de diferentes países con la finalidad de realizar una o varias operaciones específicas: industrial, comercial, inversión, producción, comercia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 un acuerdo de asociación entre dos o más personas naturales o jurídicas para llevar adelante una empresa particular, con fines de lucro, para el cual combinan propiedad, dinero, efectos, capacidades y conocimi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U.S. courts have defined a joint venture as an association of two or more persons ( whether corporate, individual, or otherwise ) combining property and expertise to carry out a single business enterprise and having a joint proprietary interest, a joint right to control, and a sharing of profits and lo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669960"/>
            <a:ext cx="7777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8.2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Forma jur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o está reglamentada en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 consecuencia del principio de la autonomía de la volun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uede constar en cualquier instrumento jurídico, privado o público, en donde se exprese la voluntad de las par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o requiere solemnidad alg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s partes en su autonomía determinarán la forma y el conte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uede constar como pacto de accionistas o como acuerdo de actuación conjunta, u otro sim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669960"/>
            <a:ext cx="7777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8.3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Vinculada a un proyecto específico de interés para las p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munidad de intereses entre las p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terminación de contribuciones y aportes de cada una de e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articipación en las utilidades y en las pér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ntrol conjunto de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aturaleza fiduciaria de la r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ber de lealtad y de no competencia entre los partíci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istema de solución de controvers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70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sarrollo económ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recimiento del comercio inter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ecesidad de nuevas 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Búsqueda de nuev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ecesidad de enfrentar competenc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RESULTAD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tudio de nuevas formas de cooperación y asociación empresa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836640"/>
            <a:ext cx="777708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EVAS FORMAS DE ASOCIACION Y COOPER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nsorcios, agrupamientos o unión de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F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ncorpo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Grupos empresa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cuerdos de actuación conjun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Joint Venture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836640"/>
            <a:ext cx="777708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SORCIOS, AGRUPAMIENTOS O UNION DE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●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l consorcio es un acuerdo entre dos o más sociedades que acuerdan realizar cierto tipo de actividades en forma común, sin perder su identidad y su personalidad jurí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L consorcio tiende a especializarse en algún tipo de actividades que sean comunes para los asociad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Importaciones de materias pr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Estudio de merc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Investigación tecnológ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n ciertos países sajones (Australia, Nueva Zelandia, Sud Africa) se conocen con el nombre de “Board” y por lo general se orientan a la exportación de ciertos productos, estableciendo requisitos de calidad, precios y procedimiento de ventas al extranj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836640"/>
            <a:ext cx="777708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SIONES DE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fusión consiste en la reunión de dos o más sociedades en una sola que las sucede en todos sus derechos y obligaciones y a la cual se incorporan la totalidad del patrimonio y accionistas de los entes fusion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fusión puede ser por creación o por incor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Hay fusión por creación cuando el activo y pasivo de dos o más sociedades que se disuelven se aporta a una nueva sociedad que se constituy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Hay fusión por incorporación cuando una o más sociedades que se disuelven son absorbidas por una sociedad ya existente la que adquiere todos sus activos y pas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(Art. 99 Ley Sociedades Anóni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777708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RUPOS EMPRESA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Artículo 96.- LEY DE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Grupo empresarial es el conjunto de  entidades que presentan vínculos de tal naturaleza en  su propiedad, administración o responsabilidad  crediticia, que hacen presumir que la actu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conómica y financiera de sus integrantes está guiada por 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intereses comunes del grupo o subordinada a éstos, o que existen riesgos financieros comunes en los créditos que se les otorgan o en la adquisición de valores que emi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836640"/>
            <a:ext cx="77770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Forman parte de un mismo grupo empresar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a) Una sociedad y su controlad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b) Todas las sociedades que tienen un controlador comú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y este último,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c) Toda entidad que determine la Superinten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considerando la concurrencia de una o más de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siguientes circunstanci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620640"/>
            <a:ext cx="8280360" cy="67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1. Que un porcentaje significativo del activo de la sociedad está comprometido en el grupo empresarial, ya sea en la forma de inversión en valores, derechos en sociedades, acreencias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garantí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2. Que la sociedad tiene un significativo nivel de endeudamiento y que el grupo empresarial tiene importante participación como acreedor o garante de dicha deu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3. Que la sociedad sea miembro de un controlador de algunas de las entidades mencionadas en las letras a) o b), cuando este controlador corresponda a un grupo de personas y existan razones fundadas en lo dispuesto en el inciso primero para incluirla en el grupo empresarial,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4. Que la sociedad sea controlada por uno o más miembros del controlador de alguna de las entidades del grupo empresarial, si dicho controlador está compuesto por más de una person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y existan razones fundadas en lo dispuesto en el inciso primero para incluirla en el grupo empresa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836640"/>
            <a:ext cx="777708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TROLADOR DE UN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ntrolador de una sociedad es toda persona o grupo de personas con acuerdo de actuación conjunta que directamente o a través de otras personas naturales o jurídicas participan en su propiedad y tiene poder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Asegurar la mayoría de votos en las juntas de accionistas y elegir a la mayoría de los directores o designar al administrador o representante legal o la mayoría de ell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Influir decisivamente en la administración de la socie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. 97 Ley de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09T02:15:07Z</dcterms:modified>
  <cp:revision>102</cp:revision>
  <dc:subject/>
  <dc:title>Diapositiva 1</dc:title>
</cp:coreProperties>
</file>