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37A0-952B-47F5-9664-659159DF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648-7133-48AC-98C1-0479889A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886-D363-4ECD-A48C-2B477867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E61-B08A-4F4E-ABC5-73AB4D60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B12C-8390-42F8-9A5D-143FEF44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FD57-937B-4C4D-B1C0-970705C0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BC10-C18D-43AD-8181-A36C94F4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16A-246E-4DDF-B9B0-44899459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06D-0C7C-4247-BB72-34EF990C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C216-4962-493C-96E1-498661EF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FE7-FDB3-49B6-840B-2B6ECD81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379-F490-42E8-A227-01DD9A36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925F-BA52-40EC-A48F-1131DB143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buongiorno-romania.ro/Image/Negocios03.png&amp;imgrefurl=http://www.elrincontecnologico.com/2008/07/herramienta-muy-til.html&amp;h=469&amp;w=725&amp;sz=502&amp;hl=es&amp;start=2&amp;usg=__AUtfgOQ1NAFtx3lh6SKVr7DDLFo=&amp;tbnid=uwZrTOOKT0x9jM:&amp;tbnh=91&amp;tbnw=140&amp;prev=/images%3Fq%3DNegocios%26gbv%3D2%26hl%3Des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SOCIEDADES EN COMANDI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052640"/>
            <a:ext cx="777708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SOCIOS GESTORES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den de la misma forma que en la sociedad colecti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3640" y="24922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3961080" cy="176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052640"/>
            <a:ext cx="7777080" cy="35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ta sociedad participa de las características principales de las sociedades colectivas, por esta razón en caso de dudas se considera una sociedad cole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052640"/>
            <a:ext cx="777708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5400" spc="-1" strike="noStrike">
                <a:solidFill>
                  <a:srgbClr val="3333cc"/>
                </a:solidFill>
                <a:latin typeface="Verdana"/>
              </a:rPr>
              <a:t>TIPOS DE SOCIEDADES EN COMANDITA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Verdana"/>
              </a:rPr>
              <a:t>(ART. 47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052640"/>
            <a:ext cx="77770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SI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(Art. 47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POR ACC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(Art. 47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052640"/>
            <a:ext cx="7777080" cy="42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SI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forma por la reunión de un fondo suministrado en su totalidad por uno o más socios comanditarios, o por estos y los socios gestores a la vez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052640"/>
            <a:ext cx="7777080" cy="46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FORM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forma y se prueba de la misma forma que las colectivas (Art. 47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nombre de los socios comanditarios no figura en el extracto del pacto social que debe inscribir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052640"/>
            <a:ext cx="7777080" cy="35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RAZÓN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Nombre socio gestor si fuere uno o el nombre de uno o varios gestores si fueren muchos (Art. 47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052640"/>
            <a:ext cx="7777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ADMINIS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stá radicada únicamente en los socios gestores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(Art. 470-48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052640"/>
            <a:ext cx="77770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POR ACC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constituye por la reunión de un capital dividido en acciones o cupones de acción y suministrado por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cuyo nombre no figura en la escritura de constitu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052640"/>
            <a:ext cx="777708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FORMACIÓN DEL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capital se divide en acciones que son títulos representativos del aporte social y son negoc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Agosto 30, 2007"/>
          <p:cNvPicPr/>
          <p:nvPr/>
        </p:nvPicPr>
        <p:blipFill>
          <a:blip r:embed="rId2"/>
          <a:stretch/>
        </p:blipFill>
        <p:spPr>
          <a:xfrm>
            <a:off x="3419640" y="4005360"/>
            <a:ext cx="1508040" cy="201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836640"/>
            <a:ext cx="777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Verdana"/>
              </a:rPr>
              <a:t>SOCIEDADES EN COMAND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052640"/>
            <a:ext cx="7777080" cy="34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FORM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critura pública inscrita, pero con esta formalidad no se entiende que esté legalmente constituida para ello es necesario entre otras cosas que el capital esté íntegramente suscri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6156360" y="465300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4000" y="1413000"/>
          <a:ext cx="8028000" cy="404316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EN COMAND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rt. 2061 inc. 3 del Código Civil complementado con el Art. 470 del Código de Comerci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AZ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mbre de alguno o todos los socios gestores y la palabra CI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i es en comandita por acciones se agrega CP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4000" y="1413000"/>
          <a:ext cx="8028000" cy="5235480"/>
        </p:xfrm>
        <a:graphic>
          <a:graphicData uri="http://schemas.openxmlformats.org/drawingml/2006/table">
            <a:tbl>
              <a:tblPr/>
              <a:tblGrid>
                <a:gridCol w="3095640"/>
                <a:gridCol w="4932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RESPONSABILIDAD LTD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los socios gestor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os socios comanditarios tienen prohibido tomar parte de la administración, si lo hacen son considerados socios gestor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OS COMANDIT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den hasta el monto de su a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OS COMANDIT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den al igual que en las sociedades comercial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777708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 ORI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rigen muy antiguo, deriva del llamado “contrato de encargo” </a:t>
            </a:r>
            <a:r>
              <a:rPr b="0" i="1" lang="es-CL" sz="2400" spc="-1" strike="noStrike">
                <a:solidFill>
                  <a:srgbClr val="3333cc"/>
                </a:solidFill>
                <a:latin typeface="Verdana"/>
              </a:rPr>
              <a:t>(contrat de comm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i="1" lang="es-CL" sz="2400" spc="-1" strike="noStrike">
                <a:solidFill>
                  <a:srgbClr val="3333cc"/>
                </a:solidFill>
                <a:latin typeface="Verdana"/>
              </a:rPr>
              <a:t>Desde su origen este tipo se caracteriza por la presencia de dos tipos de so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4653000"/>
            <a:ext cx="2735280" cy="165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052640"/>
            <a:ext cx="77770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 REGULACIÓ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encuentran reguladas por el Código de Comercio y en forma supletoria y por el Código Ci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forme a lo establecido de los Artículos 470 del Código de Comercio y el 2061 inciso 3 del Código Civil podemos definirlas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052640"/>
            <a:ext cx="7777080" cy="44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quellas que forman una o más personas que se comprometen a llevar a la caja social un determinado aporte, obligándose sólo hasta concurrencia de éste y una o más personas que se obligan a administrar exclusivamente la sociedad, por sí o por sus deleg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84720" y="1413000"/>
            <a:ext cx="2519280" cy="138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052640"/>
            <a:ext cx="777708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Art. 2061 inc. 3 del Código de Comercio nos entrega parte de esta definición </a:t>
            </a:r>
            <a:r>
              <a:rPr b="1" i="1" lang="es-CL" sz="2800" spc="-1" strike="noStrike">
                <a:solidFill>
                  <a:srgbClr val="3333cc"/>
                </a:solidFill>
                <a:latin typeface="Verdana"/>
              </a:rPr>
              <a:t>(es incompleta, trata únicamente la responsabilidad),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debemos complementarla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IEMPRE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on lo establecido en el Art. 470 del Código de Comerci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777708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Las sociedades encomandita representan una etapa intermedia entre las sociedades de personas y sociedades de capi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ACTUALMENTE NO POSE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GRAN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Ganar dinero con un blog"/>
          <p:cNvPicPr/>
          <p:nvPr/>
        </p:nvPicPr>
        <p:blipFill>
          <a:blip r:embed="rId2"/>
          <a:stretch/>
        </p:blipFill>
        <p:spPr>
          <a:xfrm>
            <a:off x="6443640" y="3789360"/>
            <a:ext cx="1444680" cy="1657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777708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ARACTERÍ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 una sociedad en la que participan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os clases de socios,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ta es una de las principales características de este tipo de soc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COMANDITARIOS        Apo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GESTORES         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4437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5013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052640"/>
            <a:ext cx="777708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n cuanto a la responsabilidad de los s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COMANDI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den por regla general hasta el monto de sus aportes, salvo que toleren la inserción de su nombre en la razón social o participen en la administración, pues en estos casos responden como socios ges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350028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07T03:18:51Z</dcterms:modified>
  <cp:revision>90</cp:revision>
  <dc:subject/>
  <dc:title>Diapositiva 1</dc:title>
</cp:coreProperties>
</file>