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D61-8172-42D1-897F-0B8475E3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374-57C4-4A96-B028-2EE017F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4A9-0503-473D-892F-07789594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A14-340B-4AF8-B23A-64308836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9EE-FE87-4B1D-B5F5-C6536665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2C6-7CDD-46E7-B576-7D8F2835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103-2D74-49FC-A881-AE7AD5A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71A-6D5B-46BE-8726-67F937F5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142-CE7C-45E4-A757-7648F27A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39D-2CB4-4A74-B814-FB117FD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A2F-C8CE-4A9A-A6B5-02DAA0B1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1DD-69A6-4778-BBAC-99CCB82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5128-8F48-4C11-888E-7D3CDB148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SOCIEDADES EN COMANDI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777708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SOCIOS GESTORE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de la misma forma que en la sociedad col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3961080" cy="176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777708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sociedad participa de las características principales de las sociedades colectivas, por esta razón en caso de dudas se considera una 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7777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TIPOS DE SOCIEDADES EN COMANDIT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(ART. 4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777708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por la reunión de un fondo suministrado en su totalidad por uno o más socios comanditarios, o por estos y los socios gestores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777708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y se prueba de la misma forma que las colectivas (Art. 4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nombre de los socios comanditarios no figura en el extracto del pacto social que debe inscribi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777708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RAZÓN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mbre socio gestor si fuere uno o el nombre de uno o varios gestores si fueren muchos (Art. 4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052640"/>
            <a:ext cx="777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stá radicada únicamente en los socios gestores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470-4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constituye por la reunión de un capital dividido en acciones o cupones de acción y suministrado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uyo nombre no figura en la escritura de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CIÓN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capital se divide en acciones que son títulos representativos del aporte social y son negoc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Agosto 30, 2007"/>
          <p:cNvPicPr/>
          <p:nvPr/>
        </p:nvPicPr>
        <p:blipFill>
          <a:blip r:embed="rId2"/>
          <a:stretch/>
        </p:blipFill>
        <p:spPr>
          <a:xfrm>
            <a:off x="3419640" y="4005360"/>
            <a:ext cx="1508040" cy="20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EN COMAND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052640"/>
            <a:ext cx="777708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inscrita, pero con esta formalidad no se entiende que esté legalmente constituida para ello es necesario entre otras cosas que el capital esté íntegramente suscr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15636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13000"/>
          <a:ext cx="8028000" cy="40431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 COMAND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2061 inc. 3 del Código Civil complementado con el Art. 470 del Código de Comerci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alguno o todos los socios gestores y la palabra CI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i es en comandita por acciones se agrega C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13000"/>
          <a:ext cx="8028000" cy="523548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los socios gesto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os socios comanditarios tienen prohibido tomar parte de la administración, si lo hacen son considerados socios gestor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hasta el monto de su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al igual que en las sociedades comercia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77770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rigen muy antiguo, deriva del llamado “contrato de encargo”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(contrat de 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Desde su origen este tipo se caracteriza por la presencia de dos tipos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465300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052640"/>
            <a:ext cx="7777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n reguladas por el Código de Comercio y en forma supletoria y por el Código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forme a lo establecido de los Artículos 470 del Código de Comercio y el 2061 inciso 3 del Código Civil podemos definirla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052640"/>
            <a:ext cx="777708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as que forman una o más personas que se comprometen a llevar a la caja social un determinado aporte, obligándose sólo hasta concurrencia de éste y una o más personas que se obligan a administrar exclusivamente la sociedad, por sí o por sus deleg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2519280" cy="138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77770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Art. 2061 inc. 3 del Código de Comercio nos entrega parte de esta definición </a:t>
            </a:r>
            <a:r>
              <a:rPr b="1" i="1" lang="es-CL" sz="2800" spc="-1" strike="noStrike">
                <a:solidFill>
                  <a:srgbClr val="3333cc"/>
                </a:solidFill>
                <a:latin typeface="Verdana"/>
              </a:rPr>
              <a:t>(es incompleta, trata únicamente la responsabilidad),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debemos complementarla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IEMPRE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 lo establecido en el Art. 470 del Códig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as sociedades encomandita representan una etapa intermedia entre las sociedades de personas y sociedades de cap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CTUALMENTE NO POS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GRAN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Ganar dinero con un blog"/>
          <p:cNvPicPr/>
          <p:nvPr/>
        </p:nvPicPr>
        <p:blipFill>
          <a:blip r:embed="rId2"/>
          <a:stretch/>
        </p:blipFill>
        <p:spPr>
          <a:xfrm>
            <a:off x="6443640" y="3789360"/>
            <a:ext cx="1444680" cy="16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77770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una sociedad en la que particip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os clases de socios,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a es una de las principales características de este tipo de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        A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GESTORES       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437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uanto a la responsabilidad de los s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por regla general hasta el monto de sus aportes, salvo que toleren la inserción de su nombre en la razón social o participen en la administración, pues en estos casos responden como socios ge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35002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7T03:18:51Z</dcterms:modified>
  <cp:revision>90</cp:revision>
  <dc:subject/>
  <dc:title>Diapositiva 1</dc:title>
</cp:coreProperties>
</file>