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59C-6DA4-48C7-B439-6AD2D6B9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D59-07CC-4966-BE53-C4E4A990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E03-D266-4387-89E8-089E0E4D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B0C-705B-4A6B-B371-13E57AF4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CB5-1FCE-4900-840C-B882752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6C1-3C32-4706-8BCC-4AB42F4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373-FC7A-41DA-8BAE-99E3AD5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0D1-0EAA-486B-9A00-EC82CAFF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3D1-E828-423E-8B29-FD1776F6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8CC-CDE6-4E92-BEC4-B09B2643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06F-FD58-4522-864B-B409E30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329-C2CD-44F0-9ECA-601214E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5429-17EA-4C2B-A944-4A33EB56D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SOCIEDADES EN COMANDI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777708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SOCIOS GESTORE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de la misma forma que en la sociedad col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3961080" cy="176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777708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sociedad participa de las características principales de las sociedades colectivas, por esta razón en caso de dudas se considera una 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7777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TIPOS DE SOCIEDADES EN COMANDIT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(ART. 4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777708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por la reunión de un fondo suministrado en su totalidad por uno o más socios comanditarios, o por estos y los socios gestores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777708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y se prueba de la misma forma que las colectivas (Art. 4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nombre de los socios comanditarios no figura en el extracto del pacto social que debe inscribi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77770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RAZÓN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mbre socio gestor si fuere uno o el nombre de uno o varios gestores si fueren muchos (Art. 4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052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stá radicada únicamente en los socios gestores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470-4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constituye por la reunión de un capital dividido en acciones o cupones de acción y suministrado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uyo nombre no figura en la escritura de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capital se divide en acciones que son títulos representativos del aporte social y son negoc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Agosto 30, 2007"/>
          <p:cNvPicPr/>
          <p:nvPr/>
        </p:nvPicPr>
        <p:blipFill>
          <a:blip r:embed="rId2"/>
          <a:stretch/>
        </p:blipFill>
        <p:spPr>
          <a:xfrm>
            <a:off x="3419640" y="4005360"/>
            <a:ext cx="150804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EN COMAND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52640"/>
            <a:ext cx="777708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inscrita, pero con esta formalidad no se entiende que esté legalmente constituida para ello es necesario entre otras cosas que el capital esté íntegramente suscr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15636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13000"/>
          <a:ext cx="8028000" cy="40431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 COMAND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2061 inc. 3 del Código Civil complementado con el Art. 470 del Código de Comerci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alguno o todos los socios gestores y la palabra C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i es en comandita por acciones se agrega C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13000"/>
          <a:ext cx="8028000" cy="523548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los socios gesto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os socios comanditarios tienen prohibido tomar parte de la administración, si lo hacen son considerados socios gestor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hasta el monto de su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al igual que en las sociedades comercia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77770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rigen muy antiguo, deriva del llamado “contrato de encargo”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(contrat de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Desde su origen este tipo se caracteriza por la presencia de dos tipos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65300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052640"/>
            <a:ext cx="7777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n reguladas por el Código de Comercio y en forma supletoria y por el Código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forme a lo establecido de los Artículos 470 del Código de Comercio y el 2061 inciso 3 del Código Civil podemos definirla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as que forman una o más personas que se comprometen a llevar a la caja social un determinado aporte, obligándose sólo hasta concurrencia de éste y una o más personas que se obligan a administrar exclusivamente la sociedad, por sí o por sus deleg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2519280" cy="138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7777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Art. 2061 inc. 3 del Código de Comercio nos entrega parte de esta definición </a:t>
            </a:r>
            <a:r>
              <a:rPr b="1" i="1" lang="es-CL" sz="2800" spc="-1" strike="noStrike">
                <a:solidFill>
                  <a:srgbClr val="3333cc"/>
                </a:solidFill>
                <a:latin typeface="Verdana"/>
              </a:rPr>
              <a:t>(es incompleta, trata únicamente la responsabilidad),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debemos complementarla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IEMPRE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 lo establecido en el Art. 470 del Códig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as sociedades encomandita representan una etapa intermedia entre las sociedades de personas y sociedades de ca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CTUALMENTE NO POS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GRAN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Ganar dinero con un blog"/>
          <p:cNvPicPr/>
          <p:nvPr/>
        </p:nvPicPr>
        <p:blipFill>
          <a:blip r:embed="rId2"/>
          <a:stretch/>
        </p:blipFill>
        <p:spPr>
          <a:xfrm>
            <a:off x="6443640" y="3789360"/>
            <a:ext cx="1444680" cy="16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77770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una sociedad en la que particip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os clases de socios,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a es una de las principales características de este tipo de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        A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GESTORES       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437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uanto a la responsabilidad de los s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por regla general hasta el monto de sus aportes, salvo que toleren la inserción de su nombre en la razón social o participen en la administración, pues en estos casos responden como socios ge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5002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7T03:18:51Z</dcterms:modified>
  <cp:revision>90</cp:revision>
  <dc:subject/>
  <dc:title>Diapositiva 1</dc:title>
</cp:coreProperties>
</file>