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FC8-03F1-4138-ADB1-3E28272E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74A-6184-4DCE-B9CE-3BCD8660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392-C19B-4C83-8162-33BAF8C1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FF2-F5B1-480F-AD08-1695167A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FD5-B7C4-4AA6-ADFA-BAF7EF28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29B-0BF1-42E5-8564-AD1F6426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1AC-4585-476E-ACEB-D1A6EE56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37D-0163-4C10-82A7-76E0D615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EF9-2C78-4FB2-90AC-3544FAC8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540-696E-40E7-8544-61A97B11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1CD-0F11-426F-AE06-DFF5BFE9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3F5-023A-4D50-A910-95869A98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9B94-156A-4DEC-8D5D-AE9969EDF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buongiorno-romania.ro/Image/Negocios03.png&amp;imgrefurl=http://www.elrincontecnologico.com/2008/07/herramienta-muy-til.html&amp;h=469&amp;w=725&amp;sz=502&amp;hl=es&amp;start=2&amp;usg=__AUtfgOQ1NAFtx3lh6SKVr7DDLFo=&amp;tbnid=uwZrTOOKT0x9jM:&amp;tbnh=91&amp;tbnw=140&amp;prev=/images%3Fq%3DNegocios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SOCIEDADES EN COMANDI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052640"/>
            <a:ext cx="777708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SOCIOS GESTORES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den de la misma forma que en la sociedad colect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2492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3961080" cy="176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7777080" cy="35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ta sociedad participa de las características principales de las sociedades colectivas, por esta razón en caso de dudas se considera una sociedad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052640"/>
            <a:ext cx="777708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TIPOS DE SOCIEDADES EN COMANDIT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Verdana"/>
              </a:rPr>
              <a:t>(ART. 47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7777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SI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(Art. 4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POR AC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(Art. 47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052640"/>
            <a:ext cx="7777080" cy="42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SI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forma por la reunión de un fondo suministrado en su totalidad por uno o más socios comanditarios, o por estos y los socios gestores a la ve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052640"/>
            <a:ext cx="777708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forma y se prueba de la misma forma que las colectivas (Art. 47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nombre de los socios comanditarios no figura en el extracto del pacto social que debe inscribir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052640"/>
            <a:ext cx="777708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RAZÓN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Nombre socio gestor si fuere uno o el nombre de uno o varios gestores si fueren muchos (Art. 47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052640"/>
            <a:ext cx="7777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stá radicada únicamente en los socios gestores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(Art. 470-48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052640"/>
            <a:ext cx="77770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POR AC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constituye por la reunión de un capital dividido en acciones o cupones de acción y suministrado po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uyo nombre no figura en la escritura de constitu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777708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CIÓN DEL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capital se divide en acciones que son títulos representativos del aporte social y son negoc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Agosto 30, 2007"/>
          <p:cNvPicPr/>
          <p:nvPr/>
        </p:nvPicPr>
        <p:blipFill>
          <a:blip r:embed="rId2"/>
          <a:stretch/>
        </p:blipFill>
        <p:spPr>
          <a:xfrm>
            <a:off x="3419640" y="4005360"/>
            <a:ext cx="1508040" cy="201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SOCIEDADES EN COMAND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052640"/>
            <a:ext cx="777708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critura pública inscrita, pero con esta formalidad no se entiende que esté legalmente constituida para ello es necesario entre otras cosas que el capital esté íntegramente suscri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6156360" y="465300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1413000"/>
          <a:ext cx="8028000" cy="40431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N COMAND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. 2061 inc. 3 del Código Civil complementado con el Art. 470 del Código de Comerci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 de alguno o todos los socios gestores y la palabra CI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i es en comandita por acciones se agrega CP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1413000"/>
          <a:ext cx="8028000" cy="523548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los socios gestor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os socios comanditarios tienen prohibido tomar parte de la administración, si lo hacen son considerados socios gestor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OS COMANDIT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hasta el monto de su a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OS COMANDIT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al igual que en las sociedades comercial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777708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rigen muy antiguo, deriva del llamado “contrato de encargo” </a:t>
            </a: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(contrat de comm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Desde su origen este tipo se caracteriza por la presencia de dos tipos de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465300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052640"/>
            <a:ext cx="77770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 REGULACIÓ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encuentran reguladas por el Código de Comercio y en forma supletoria y por el Código Ci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forme a lo establecido de los Artículos 470 del Código de Comercio y el 2061 inciso 3 del Código Civil podemos definirlas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052640"/>
            <a:ext cx="7777080" cy="4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quellas que forman una o más personas que se comprometen a llevar a la caja social un determinado aporte, obligándose sólo hasta concurrencia de éste y una o más personas que se obligan a administrar exclusivamente la sociedad, por sí o por sus deleg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2519280" cy="138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777708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Art. 2061 inc. 3 del Código de Comercio nos entrega parte de esta definición </a:t>
            </a:r>
            <a:r>
              <a:rPr b="1" i="1" lang="es-CL" sz="2800" spc="-1" strike="noStrike">
                <a:solidFill>
                  <a:srgbClr val="3333cc"/>
                </a:solidFill>
                <a:latin typeface="Verdana"/>
              </a:rPr>
              <a:t>(es incompleta, trata únicamente la responsabilidad),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debemos complementarla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IEMPRE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n lo establecido en el Art. 470 del Código de Comerc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777708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Las sociedades encomandita representan una etapa intermedia entre las sociedades de personas y sociedades de cap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ACTUALMENTE NO POS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GRAN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Ganar dinero con un blog"/>
          <p:cNvPicPr/>
          <p:nvPr/>
        </p:nvPicPr>
        <p:blipFill>
          <a:blip r:embed="rId2"/>
          <a:stretch/>
        </p:blipFill>
        <p:spPr>
          <a:xfrm>
            <a:off x="6443640" y="3789360"/>
            <a:ext cx="1444680" cy="165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77770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 una sociedad en la que participan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os clases de socios,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ta es una de las principales características de este tipo de soc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OMANDITARIOS        Ap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GESTORES        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4437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501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77770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n cuanto a la responsabilidad de los s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OMAND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den por regla general hasta el monto de sus aportes, salvo que toleren la inserción de su nombre en la razón social o participen en la administración, pues en estos casos responden como socios ge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350028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7T03:18:51Z</dcterms:modified>
  <cp:revision>90</cp:revision>
  <dc:subject/>
  <dc:title>Diapositiva 1</dc:title>
</cp:coreProperties>
</file>