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6D6-2A2B-4D13-9B8E-2B927E91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667-AD13-4438-AB95-122CE585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007-6214-47A1-AC7F-A18D697A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0242-8AC0-454B-B151-2F429BC7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D6BE-7A99-4915-B06C-077F5DAA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F8B-A9E3-4EA3-B3B9-034A9EFA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6F0-D16E-4962-88D8-C7A34A27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1F8-C614-42B4-A522-9A35A255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5410-58E9-4F6D-8DD8-44A1D581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C460-ECFC-442E-B399-36CB6ED3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740-3627-4D19-9158-1616B7B3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88A3-19ED-48FE-A95E-3541D468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B0F4-A933-42B3-8377-3961FB90F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buongiorno-romania.ro/Image/Negocios03.png&amp;imgrefurl=http://www.elrincontecnologico.com/2008/07/herramienta-muy-til.html&amp;h=469&amp;w=725&amp;sz=502&amp;hl=es&amp;start=2&amp;usg=__AUtfgOQ1NAFtx3lh6SKVr7DDLFo=&amp;tbnid=uwZrTOOKT0x9jM:&amp;tbnh=91&amp;tbnw=140&amp;prev=/images%3Fq%3DNegocios%26gbv%3D2%26hl%3Des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Verdana"/>
              </a:rPr>
              <a:t>SOCIEDADES EN COMANDI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7777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SOCIOS GESTORES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de la misma forma que en la sociedad colec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24922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3961080" cy="176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7777080" cy="35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ta sociedad participa de las características principales de las sociedades colectivas, por esta razón en caso de dudas se considera una sociedad cole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052640"/>
            <a:ext cx="7777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TIPOS DE SOCIEDADES EN COMANDITA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33cc"/>
                </a:solidFill>
                <a:latin typeface="Verdana"/>
              </a:rPr>
              <a:t>(ART. 4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1052640"/>
            <a:ext cx="7777080" cy="37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(Art. 47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052640"/>
            <a:ext cx="7777080" cy="42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SIM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por la reunión de un fondo suministrado en su totalidad por uno o más socios comanditarios, o por estos y los socios gestores a la vez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1052640"/>
            <a:ext cx="7777080" cy="46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forma y se prueba de la misma forma que las colectivas (Art. 47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nombre de los socios comanditarios no figura en el extracto del pacto social que debe inscribir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7777080" cy="35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RAZÓN SO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Nombre socio gestor si fuere uno o el nombre de uno o varios gestores si fueren muchos (Art. 47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1052640"/>
            <a:ext cx="7777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stá radicada únicamente en los socios gestores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(Art. 470-48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1052640"/>
            <a:ext cx="77770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Verdan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EN COMANDITA POR ACCION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constituye por la reunión de un capital dividido en acciones o cupones de acción y suministrado por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uyo nombre no figura en la escritura de constitu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capital se divide en acciones que son títulos representativos del aporte social y son negoc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Agosto 30, 2007"/>
          <p:cNvPicPr/>
          <p:nvPr/>
        </p:nvPicPr>
        <p:blipFill>
          <a:blip r:embed="rId2"/>
          <a:stretch/>
        </p:blipFill>
        <p:spPr>
          <a:xfrm>
            <a:off x="3419640" y="4005360"/>
            <a:ext cx="1508040" cy="201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836640"/>
            <a:ext cx="777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3333cc"/>
                </a:solidFill>
                <a:latin typeface="Verdana"/>
              </a:rPr>
              <a:t>SOCIEDADES EN COMANDI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052640"/>
            <a:ext cx="7777080" cy="34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FORMA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critura pública inscrita, pero con esta formalidad no se entiende que esté legalmente constituida para ello es necesario entre otras cosas que el capital esté íntegramente suscri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6156360" y="465300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324000" y="1413000"/>
          <a:ext cx="8028000" cy="4043160"/>
        </p:xfrm>
        <a:graphic>
          <a:graphicData uri="http://schemas.openxmlformats.org/drawingml/2006/table">
            <a:tbl>
              <a:tblPr/>
              <a:tblGrid>
                <a:gridCol w="2952720"/>
                <a:gridCol w="507528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EN COMAND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GUL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rt. 2061 inc. 3 del Código Civil complementado con el Art. 470 del Código de Comerci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AZÓN SOC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Nombre de alguno o todos los socios gestores y la palabra CI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i es en comandita por acciones se agrega CP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UADRO RES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981000"/>
            <a:ext cx="77770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1413000"/>
          <a:ext cx="8028000" cy="5235480"/>
        </p:xfrm>
        <a:graphic>
          <a:graphicData uri="http://schemas.openxmlformats.org/drawingml/2006/table">
            <a:tbl>
              <a:tblPr/>
              <a:tblGrid>
                <a:gridCol w="3095640"/>
                <a:gridCol w="4932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SPECTO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4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EDAD RESPONSABILIDAD LTDA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ADMINISTR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Corresponde a los socios gestor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Los socios comanditarios tienen prohibido tomar parte de la administración, si lo hacen son considerados socios gestor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SABILID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hasta el monto de su apor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3333cc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 </a:t>
                      </a: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SOCIOS COMANDITARI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3333cc"/>
                          </a:solidFill>
                          <a:latin typeface="Verdana"/>
                        </a:rPr>
                        <a:t>Responden al igual que en las sociedades comercial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Derecho Comercial. Actos de Comercio</a:t>
            </a:r>
            <a:r>
              <a:rPr b="0" lang="es-ES_tradnl" sz="2400" spc="-1" strike="noStrike">
                <a:solidFill>
                  <a:srgbClr val="3333cc"/>
                </a:solidFill>
                <a:latin typeface="Verdana"/>
              </a:rPr>
              <a:t>. Tomo I, volumen 1. Editorial Jurídica de Chi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777708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)  ORIG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rigen muy antiguo, deriva del llamado “contrato de encargo”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(contrat de comm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0" i="1" lang="es-CL" sz="2400" spc="-1" strike="noStrike">
                <a:solidFill>
                  <a:srgbClr val="3333cc"/>
                </a:solidFill>
                <a:latin typeface="Verdana"/>
              </a:rPr>
              <a:t>Desde su origen este tipo se caracteriza por la presencia de dos tipos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76720" y="4653000"/>
            <a:ext cx="2735280" cy="1655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1052640"/>
            <a:ext cx="7777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2)  REGULAC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e encuentran reguladas por el Código de Comercio y en forma supletoria y por el Código Ci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onforme a lo establecido de los Artículos 470 del Código de Comercio y el 2061 inciso 3 del Código Civil podemos definirlas com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5280" y="1052640"/>
            <a:ext cx="7777080" cy="44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Aquellas que forman una o más personas que se comprometen a llevar a la caja social un determinado aporte, obligándose sólo hasta concurrencia de éste y una o más personas que se obligan a administrar exclusivamente la sociedad, por sí o por sus delegad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284720" y="1413000"/>
            <a:ext cx="2519280" cy="1385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777708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l Art. 2061 inc. 3 del Código de Comercio nos entrega parte de esta definición </a:t>
            </a:r>
            <a:r>
              <a:rPr b="1" i="1" lang="es-CL" sz="2800" spc="-1" strike="noStrike">
                <a:solidFill>
                  <a:srgbClr val="3333cc"/>
                </a:solidFill>
                <a:latin typeface="Verdana"/>
              </a:rPr>
              <a:t>(es incompleta, trata únicamente la responsabilidad),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debemos complementarla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IEMPRE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n lo establecido en el Art. 470 del Códig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777708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as sociedades encomandita representan una etapa intermedia entre las sociedades de personas y sociedades de capit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ACTUALMENTE NO POSE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GRAN AP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Ganar dinero con un blog"/>
          <p:cNvPicPr/>
          <p:nvPr/>
        </p:nvPicPr>
        <p:blipFill>
          <a:blip r:embed="rId2"/>
          <a:stretch/>
        </p:blipFill>
        <p:spPr>
          <a:xfrm>
            <a:off x="6443640" y="3789360"/>
            <a:ext cx="1444680" cy="1657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777708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 una sociedad en la que participan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os clases de socios,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a es una de las principales características de este tipo de socied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        Apor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GESTORES       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4437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00" y="5013360"/>
            <a:ext cx="64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304920"/>
            <a:ext cx="738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Verdana"/>
              </a:rPr>
              <a:t>SOCIEDAD EN COMANDI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7777080" cy="44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n cuanto a la responsabilidad de los so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OS COMANDI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por regla general hasta el monto de sus aportes, salvo que toleren la inserción de su nombre en la razón social o participen en la administración, pues en estos casos responden como socios ges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00360" y="3500280"/>
            <a:ext cx="0" cy="360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0-07T03:18:51Z</dcterms:modified>
  <cp:revision>90</cp:revision>
  <dc:subject/>
  <dc:title>Diapositiva 1</dc:title>
</cp:coreProperties>
</file>