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746-2567-4D55-8115-9D6F2567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27E-882E-41A5-86C2-FC7F1E24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E5F-D4B9-4975-B971-B5C49BD4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104-F919-4054-996B-E0E9721B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32F-2D5D-4291-AEFB-59F2B42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DAA-6BBC-4845-9015-5B887B00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E2C-42A3-45F8-B365-6A5F6860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F09-6D4C-4E8A-AD3B-D716909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363-407B-48C6-97D0-199D6A5C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105-3398-4823-B3A7-B804DD2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FC0-B337-4BE9-B2E0-3238563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56E-8534-4D9E-B8A9-374291C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F1B3-24BD-4273-ABE8-BE3D442C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maquinariaysubastas.com/attachments/Image/ejecutivos_20caminando.jpg&amp;imgrefurl=http://www.maquinariaysubastas.com/page6.php&amp;h=344&amp;w=236&amp;sz=41&amp;hl=es&amp;start=7&amp;usg=__WtPGB1TFtKC36Vp9Xy19m-2hb4g=&amp;tbnid=CMLS5VU35cVr1M:&amp;tbnh=120&amp;tbnw=82&amp;prev=/images%3Fq%3DEjecutivos%26gbv%3D2%26hl%3Des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ENERALIDADES Y SOCIEDADES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137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Verdana"/>
              </a:rPr>
              <a:t>CUADRO RESUMEN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13000"/>
          <a:ext cx="8028000" cy="508140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ículo 2061 inc. 2 d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nombre de todos los socios o con el de uno a algunos de ellos y las palabras y compañía (CIA)</a:t>
                      </a: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(</a:t>
                      </a: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365 y 366 del Código de Comercio)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413000"/>
          <a:ext cx="8028000" cy="322236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IVIL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: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A PRORR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ERCIAL :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SOLI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77770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FUNDAMENTAL SABER QUE OCURRE EN MATERI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i el administrador ha actuado por cuenta de la sociedad se producirán los efectos del Art. 370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Todos los socios responderán de las obligaciones que hayan contraído en form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IDARIA e ILIMITADA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con todo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ILIMITAD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LIDAR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 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COLECTIVA COMERCIAL CONSTITUYE UN TREMENDO RIESGO PARA LOS SOCIOS, POR LA RESPONSABILIDAD EN QUE PUEDEN INCURRIR , REPRESENTADO PARA LOS ACREEDORES UNA MUY EFICAZ GARANT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jemplo: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149720"/>
            <a:ext cx="273708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7777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 regulada por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3918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l 14 de Marzo de 1923 y en forma supletoria por el Código de Comercio y por 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 básicament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50864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ntrega un concepto, la podemos defini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quella en que todos los socios la administran por sí o por mandatarios elegidos de común acuerdo y en la que la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responsabilidad de los socios está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socios no pueden ser más de 50 (Art. 2 inciso final de la 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836640"/>
            <a:ext cx="7777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bemos que el comerciante dentro de sus actividades puede actuar de las siguientes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Individual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2) Bajo las diversas formas jurídicas en que puede manifestarse su unión o vinculación con otra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La forma jurídica más importante es la sociedad y como ya vimos se encuentra regulada tanto por el Código Civil como por el Código de 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NUEVOS SOCIOS"/>
          <p:cNvPicPr/>
          <p:nvPr/>
        </p:nvPicPr>
        <p:blipFill>
          <a:blip r:embed="rId2"/>
          <a:stretch/>
        </p:blipFill>
        <p:spPr>
          <a:xfrm>
            <a:off x="5508720" y="206064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sponsabilidad de los socios queda limitada al monto de sus aportes o a la suma superior que p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PRESENTAN UNA ESPECIE DE TRANSICIÓN ENTRE LAS SOCIEDADES DE CAPITAL Y LAS SOCIEDADES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052640"/>
            <a:ext cx="77770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con todas las menciones del Art. 352 del Código de Comercio y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ón explícit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 que los socios responden hasta el monto de sus aportes o hasta la suma adicional que hayan estipulad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CLAÚSULA ESENC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7777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FORMALIDADES DE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templa un trámite no establecido para las sociedades colectiva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TRACTO ADEMÁS DEBE PUBLICARSE EN EL DIARIO O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lazo de 6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46196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77770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alquier negocio con exclusión de los negocios bancarios y otros que estén expresamente destinados a las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2232000" cy="12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413000"/>
          <a:ext cx="8028000" cy="4300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3918 en conjunto con 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1)</a:t>
                      </a:r>
                      <a:r>
                        <a:rPr b="1" lang="es-CL" sz="1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todos  los socios más la palabr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2) Nombre de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lguno (s) de los socios y las palabras CI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3) Referencia a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objeto de la sociedades más L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028000" cy="418932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 </a:t>
                      </a:r>
                      <a:r>
                        <a:rPr b="1" i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Art. 4 otras formas, ejemplo directorio)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sólo hasta el monto de sus aportes o hasta la suma superior estipulada en los estatu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592720" cy="170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personalidad jurídica perdura durante toda la existencia de la Sociedad y se prolonga incluso durante su liquid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tener personalidad jurídica propia la sociedad goza de los atributos de la person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atrimonio 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Nombre 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Domicilio o sede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a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STUDIO DE L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907920"/>
            <a:ext cx="777744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lasificamos las sociedades según su clase y denominac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anón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Cer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es min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ociedades por Accione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149720"/>
            <a:ext cx="147456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PASO SOCIEDADES COL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9079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 2061 Código Civil “ Aquella en que todos los socios administran por sí o por un mandatario elegido de común acuerd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Clas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ivil o mercantil. Art 2059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4T16:58:31Z</dcterms:modified>
  <cp:revision>89</cp:revision>
  <dc:subject/>
  <dc:title>Diapositiva 1</dc:title>
</cp:coreProperties>
</file>