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B466-7A3A-4BDE-ADC9-A153577E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A6AD-3450-477A-80BC-7E53316C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B3FE-3E90-40DC-8916-630A43811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E686-A2DF-4E80-B6EF-B14140CA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3C9-543A-4A45-9DA4-736FAC94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710F-4871-42E3-845D-BE90E6EF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7482-C8C0-4D96-88D3-C262293F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64F0-F580-460A-9647-675B4966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D095-AAA6-449E-9D78-8937C810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E935-2EBA-44B1-91BC-086E1BC5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27AD-EF82-4DD9-A0CD-ED7BD501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A139-5458-41BF-9418-926CEFC5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D6A8-630A-414D-AFF3-D71507F20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navarraconfidencial.com/portal/images/handstied-767635.jpg&amp;imgrefurl=http://www.navarraconfidencial.com/portal/modules.php%3Fname%3DNoticias%26file%3Darticle%26sid%3D652&amp;h=616&amp;w=779&amp;sz=67&amp;hl=es&amp;start=16&amp;usg=__aUn7q0u1WDaHgIcjGivyShMzalY=&amp;tbnid=O60BAAO2xlj-QM:&amp;tbnh=112&amp;tbnw=142&amp;prev=/images%3Fq%3DSOCIEDADES%26gbv%3D2%26hl%3Des%26sa%3D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buongiorno-romania.ro/Image/Negocios03.png&amp;imgrefurl=http://www.elrincontecnologico.com/2008/07/herramienta-muy-til.html&amp;h=469&amp;w=725&amp;sz=502&amp;hl=es&amp;start=2&amp;usg=__AUtfgOQ1NAFtx3lh6SKVr7DDLFo=&amp;tbnid=uwZrTOOKT0x9jM:&amp;tbnh=91&amp;tbnw=140&amp;prev=/images%3Fq%3DNegocios%26gbv%3D2%26hl%3Des%26sa%3D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maquinariaysubastas.com/attachments/Image/ejecutivos_20caminando.jpg&amp;imgrefurl=http://www.maquinariaysubastas.com/page6.php&amp;h=344&amp;w=236&amp;sz=41&amp;hl=es&amp;start=7&amp;usg=__WtPGB1TFtKC36Vp9Xy19m-2hb4g=&amp;tbnid=CMLS5VU35cVr1M:&amp;tbnh=120&amp;tbnw=82&amp;prev=/images%3Fq%3DEjecutivos%26gbv%3D2%26hl%3Des%26sa%3D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GENERALIDADES Y SOCIEDADES DE RESPONSABILIDAD LIMI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907920"/>
            <a:ext cx="81374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_tradnl" sz="4000" spc="-1" strike="noStrike">
                <a:solidFill>
                  <a:srgbClr val="3333cc"/>
                </a:solidFill>
                <a:latin typeface="Verdana"/>
              </a:rPr>
              <a:t>CUADRO RESUMEN SOCIEDAD COLECTIVA COMER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4000" y="1413000"/>
          <a:ext cx="8028000" cy="5081400"/>
        </p:xfrm>
        <a:graphic>
          <a:graphicData uri="http://schemas.openxmlformats.org/drawingml/2006/table">
            <a:tbl>
              <a:tblPr/>
              <a:tblGrid>
                <a:gridCol w="2952720"/>
                <a:gridCol w="5075280"/>
              </a:tblGrid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COLECTIV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GU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rtículo 2061 inc. 2 del Código Civil y el Código de Comer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AZ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Formada</a:t>
                      </a: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n el nombre de todos los socios o con el de uno a algunos de ellos y las palabras y compañía (CIA)</a:t>
                      </a: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(</a:t>
                      </a:r>
                      <a:r>
                        <a:rPr b="0" lang="es-CL" sz="16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rt. 365 y 366 del Código de Comercio)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DMINIS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rresponde a todos los socios ya sea, que la ejerzan por si mismos o por un mandatario, socio o extraño, escogido de común acuerd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4000" y="1413000"/>
          <a:ext cx="8028000" cy="3222360"/>
        </p:xfrm>
        <a:graphic>
          <a:graphicData uri="http://schemas.openxmlformats.org/drawingml/2006/table">
            <a:tbl>
              <a:tblPr/>
              <a:tblGrid>
                <a:gridCol w="3095640"/>
                <a:gridCol w="493236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COLEC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S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IVIL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: Los socios responden en forma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ILIMITADA Y A PRORRA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MERCIAL :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Los socios responden en forma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ILIMITADA Y SOLID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IMPORTANCI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836640"/>
            <a:ext cx="7777080" cy="59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 FUNDAMENTAL SABER QUE OCURRE EN MATERIA DE RESPONS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Si el administrador ha actuado por cuenta de la sociedad se producirán los efectos del Art. 370 del Código de Comerc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Todos los socios responderán de las obligaciones que hayan contraído en forma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LIDARIA e ILIMITADA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con todo su patrim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8366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205000"/>
            <a:ext cx="2376360" cy="107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atrimon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2276640"/>
            <a:ext cx="2592360" cy="107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ocios respon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con su patrimon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ILIMITADA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OLIDARIA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678480" y="3890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49197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NO SE ENCUENTRA LIMITADA LA 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IMPORTANCI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836640"/>
            <a:ext cx="777708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SOCIEDAD COLECTIVA COMERCIAL CONSTITUYE UN TREMENDO RIESGO PARA LOS SOCIOS, POR LA RESPONSABILIDAD EN QUE PUEDEN INCURRIR , REPRESENTADO PARA LOS ACREEDORES UNA MUY EFICAZ GARANTÍ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jemplo: Ban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4149720"/>
            <a:ext cx="2737080" cy="1873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981000"/>
            <a:ext cx="777708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052640"/>
            <a:ext cx="7777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)  OR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 REGULACIÓN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e encuentra regulada por la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EY 3918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del 14 de Marzo de 1923 y en forma supletoria por el Código de Comercio y por el Código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s básicamente un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co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4508640"/>
            <a:ext cx="2735280" cy="165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052640"/>
            <a:ext cx="777708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3) CONCEP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ley no entrega un concepto, la podemos definir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i="1" lang="es-CL" sz="2400" spc="-1" strike="noStrike">
                <a:solidFill>
                  <a:srgbClr val="3333cc"/>
                </a:solidFill>
                <a:latin typeface="Verdana"/>
              </a:rPr>
              <a:t>Aquella en que todos los socios la administran por sí o por mandatarios elegidos de común acuerdo y en la que la </a:t>
            </a:r>
            <a:r>
              <a:rPr b="1" i="1" lang="es-CL" sz="2400" spc="-1" strike="noStrike">
                <a:solidFill>
                  <a:srgbClr val="3333cc"/>
                </a:solidFill>
                <a:latin typeface="Verdana"/>
              </a:rPr>
              <a:t>responsabilidad de los socios está lim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052640"/>
            <a:ext cx="7777080" cy="44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4) CARACTERÍ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edad de 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os socios no pueden ser más de 50 (Art. 2 inciso final de la L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SABILIDAD LIM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IDERACIONES PREV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836640"/>
            <a:ext cx="777708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Sabemos que el comerciante dentro de sus actividades puede actuar de las siguientes form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333cc"/>
                </a:solidFill>
                <a:latin typeface="Verdana"/>
              </a:rPr>
              <a:t>Individual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333cc"/>
                </a:solidFill>
                <a:latin typeface="Verdana"/>
              </a:rPr>
              <a:t>2) Bajo las diversas formas jurídicas en que puede manifestarse su unión o vinculación con otras perso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La forma jurídica más importante es la sociedad y como ya vimos se encuentra regulada tanto por el Código Civil como por el Código de Comer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NUEVOS SOCIOS"/>
          <p:cNvPicPr/>
          <p:nvPr/>
        </p:nvPicPr>
        <p:blipFill>
          <a:blip r:embed="rId2"/>
          <a:stretch/>
        </p:blipFill>
        <p:spPr>
          <a:xfrm>
            <a:off x="5508720" y="2060640"/>
            <a:ext cx="1944720" cy="1292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052640"/>
            <a:ext cx="777708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SABILIDAD LIM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responsabilidad de los socios queda limitada al monto de sus aportes o a la suma superior que pa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PRESENTAN UNA ESPECIE DE TRANSICIÓN ENTRE LAS SOCIEDADES DE CAPITAL Y LAS SOCIEDADES DE PERSO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1052640"/>
            <a:ext cx="7777080" cy="37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critura pública con todas las menciones del Art. 352 del Código de Comercio y la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mención explícita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de que los socios responden hasta el monto de sus aportes o hasta la suma adicional que hayan estipulado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(CLAÚSULA ESENCI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052640"/>
            <a:ext cx="7777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FORMALIDADES DE 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ontempla un trámite no establecido para las sociedades colectivas comer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XTRACTO ADEMÁS DEBE PUBLICARSE EN EL DIARIO O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lazo de 60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92720" y="4437000"/>
            <a:ext cx="1461960" cy="20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052640"/>
            <a:ext cx="7777080" cy="26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BJE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ualquier negocio con exclusión de los negocios bancarios y otros que estén expresamente destinados a las S.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356000" y="4437000"/>
            <a:ext cx="2232000" cy="1230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24000" y="1413000"/>
          <a:ext cx="8028000" cy="4300560"/>
        </p:xfrm>
        <a:graphic>
          <a:graphicData uri="http://schemas.openxmlformats.org/drawingml/2006/table">
            <a:tbl>
              <a:tblPr/>
              <a:tblGrid>
                <a:gridCol w="2952720"/>
                <a:gridCol w="50752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RESPONSABILIDAD LT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GU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Ley 3918 en conjunto con el Código Civil y el Código de Comer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AZ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1)</a:t>
                      </a:r>
                      <a:r>
                        <a:rPr b="1" lang="es-CL" sz="1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Formada</a:t>
                      </a: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n el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nombre de todos  los socios más la palabra LTDA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2) Nombre de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lguno (s) de los socios y las palabras CIA LTDA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3) Referencia al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objeto de la sociedades más LT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24000" y="1413000"/>
          <a:ext cx="8028000" cy="4189320"/>
        </p:xfrm>
        <a:graphic>
          <a:graphicData uri="http://schemas.openxmlformats.org/drawingml/2006/table">
            <a:tbl>
              <a:tblPr/>
              <a:tblGrid>
                <a:gridCol w="3095640"/>
                <a:gridCol w="4932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RESPONSABILIDAD LTD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DMINIS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rresponde a todos los socios ya sea, que la ejerzan por si mismos o por un mandatario, socio o extraño, escogido de común acuerdo </a:t>
                      </a:r>
                      <a:r>
                        <a:rPr b="1" i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(Art. 4 otras formas, ejemplo directorio)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S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den sólo hasta el monto de sus aportes o hasta la suma superior estipulada en los estatu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Derecho Comercial. Actos de Comercio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. Tomo I, volumen 1. Editorial Jurídica de Ch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IDERACIONES PREV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836640"/>
            <a:ext cx="77770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ódigo Civil. Artículo 20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“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o compañía  es un contrato en que dos o más personas estipulan poner algo en común con la mira de repartir entre sí los beneficios que de ello proveng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forma una persona jurídica distinta de los socios individualmente considera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MENTARIOS DE ESTAS 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981000"/>
            <a:ext cx="7777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on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sona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oner algo en com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Obtener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parti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sponsabilidad de los partíc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dministración de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Naturaleza civil o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2592720" cy="1709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PERSONA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981000"/>
            <a:ext cx="777708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sona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a personalidad jurídica perdura durante toda la existencia de la Sociedad y se prolonga incluso durante su liquid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Al tener personalidad jurídica propia la sociedad goza de los atributos de la personali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1_ Patrimonio pro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2_ Nombre o razón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3_ Domicilio o sede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4_ Nacion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ESTUDIO DE LOS 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125360"/>
            <a:ext cx="77774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QUISITOS RELATIVOS A TODO CON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Para que el contrato sea válido debe reunir los siguientes requisit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 consentimiento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apacidad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bjeto de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causa en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981000"/>
            <a:ext cx="777708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stos requisitos distinguen al contrato de sociedad de otros contr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estipulación de un a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participación en los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contribución a las pér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affectio societ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907920"/>
            <a:ext cx="7777440" cy="75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Clasificamos las sociedades según su clase y denominació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Sociedad co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Sociedad anóni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-  Abi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-  Cer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Sociedades min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Sociedades por Acciones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2000" y="4149720"/>
            <a:ext cx="1474560" cy="215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PASO SOCIEDADES COLEC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907920"/>
            <a:ext cx="8137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SOCIEDAD COLE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1.- Concep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rt 2061 Código Civil “ Aquella en que todos los socios administran por sí o por un mandatario elegido de común acuerdo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2.- Clase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ivil o mercantil. Art 2059 Código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0-04T16:58:31Z</dcterms:modified>
  <cp:revision>89</cp:revision>
  <dc:subject/>
  <dc:title>Diapositiva 1</dc:title>
</cp:coreProperties>
</file>