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F31-6C90-41E8-9D6C-111FC8B1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2E5A-FA3E-493F-8543-CF5687D1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3192-C346-40D9-9EB7-5762B00F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118-87DB-4803-9A33-E2CBE64F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0BE-9A8C-4F31-9D9F-D930549E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D17-F134-485D-A904-FBDF5BC0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C9DD-85A4-492C-B41D-BEB4DC11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E7F-4B1D-4666-B061-B5379719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E8B-27F2-449B-9BCD-F4CA11C2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E83-6726-4E0E-91DB-C495E192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185-8F15-466E-9619-B939F270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B11-84A1-4FF0-988D-937B0FC8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83B2-8FA5-4C98-8DD9-3F8AED098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daniel-cano.es/img/abogado_sociedades.gif&amp;imgrefurl=http://www.daniel-cano.es/especialidades/sociedades.html&amp;h=194&amp;w=434&amp;sz=43&amp;hl=es&amp;start=1&amp;usg=__akwD8mWOZFiL2Njtqcf9862-xoo=&amp;tbnid=Gvc_kLtJHlOBfM:&amp;tbnh=56&amp;tbnw=126&amp;prev=/images%3Fq%3DSOCIEDADES%26gbv%3D2%26hl%3Des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SOCIEDADES COLECTIVAS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ADMINIS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 COLECTIVA COMER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981000"/>
            <a:ext cx="777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4000" spc="-1" strike="noStrike">
                <a:solidFill>
                  <a:srgbClr val="3333cc"/>
                </a:solidFill>
                <a:latin typeface="Verdana"/>
              </a:rPr>
              <a:t>ADMINISTRACIÓN DELEG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59280" y="3357720"/>
            <a:ext cx="2904840" cy="2546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DMINISTRACIÓN DEL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777708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orresponde a la otra situación que puede presentarse, es aquella que recae en uno o más de los socios o en un tercero extr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rtículo 392 del Código de 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Delegada la facultad de administrar en uno o más de los socios, los demás quedan por este solo hecho inhibidos de toda injerencia en la administración so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DMINISTRACIÓN DEL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981000"/>
            <a:ext cx="77770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designación de los socios administradores es una de las cláusulas esenciales del pacto social. Art. 352 del Códig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a escritura social deberá expres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3) Los socios encargados de la administración y del uso de la razón so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DMINISTRACIÓN DEL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981000"/>
            <a:ext cx="777708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 se delega la administración en un socio en el pacto de constitución se producen los efectos del Artículo 2072 del Código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puede renunciar a su cargo, sino por causa prevista en el pacto o por aceptación unánime de todos los soci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puede ser removido del cargo salvo que se estemos en los casos previstos en el pacto  o por causa grave (Indigno de confianza o incapaz de administra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TROS ASP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052640"/>
            <a:ext cx="7777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1700280"/>
            <a:ext cx="7632720" cy="37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ACULTADES DE LOS ADMINIST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Están facultados para ejercer todos los actos de administración que figuren en su designación, ACTOS DE ADMINISTRACIÓN Y DE CONSERVACIÓN PROPIOS DEL G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DMINISTRADORES DESIGNADOS POR UN ACTO POS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EXISTENCIA DE UN SOLO ADMINIST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8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, TOMO I. Editorial jurídica Lexis Nexis, 2005, p. 233 - 28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 COLECTIVA COMER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777708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CL" sz="4000" spc="-1" strike="noStrike">
                <a:solidFill>
                  <a:srgbClr val="3333cc"/>
                </a:solidFill>
                <a:latin typeface="Verdana"/>
              </a:rPr>
              <a:t>ADMINISTRACIÓN DE LA SOCIEDAD COLECTIVA COMER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 COLECTIVA COMER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981000"/>
            <a:ext cx="777708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ADMINISTRACIÓN DE LA SOCIEDAD COLECTIVA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regla general es que ésta será administrada en la forma prevista en los estatut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s decir, primero debo recurrir a los estatutos y en forma supletoria a la l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 COLECTIVA COMER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81000"/>
            <a:ext cx="7777080" cy="45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 es una exigencia colocar en el estatuto a quien corresponde la administración, si los estatutos nada dicen debemos recurrir a lo contemplado en los Artículos 384 y siguientes del  Código de Comer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Art. 384. El régimen de la sociedad colectiva se ajustará a los pactos que contenga la escritura social, y en lo que no se hubiere previsto en ellos, a las reglas que a continuación se expres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 COLECTIVA COMER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98100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cc"/>
                </a:solidFill>
                <a:latin typeface="Verdana"/>
              </a:rPr>
              <a:t>Art. 385. La administración corresponde de derecho a todos y cada uno de los socios, y éstos pueden desempeñarla por sí mismos o por sus delegados, sean socios o extr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3645000"/>
            <a:ext cx="3961080" cy="176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836640"/>
            <a:ext cx="777708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 u="sng">
                <a:solidFill>
                  <a:srgbClr val="3333cc"/>
                </a:solidFill>
                <a:uFillTx/>
                <a:latin typeface="Verdana"/>
              </a:rPr>
              <a:t>ADMINISTRACIÓN EJERCIDA POR TODOS Y CADA UNO DE LOS SOCIOS. MANDATO TÁCITO Y RECÍPRO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a administración corresponde de derecho a todos y cada uno de los socios, los cuales pueden desempeñarla por sí mismos o por sus delegados, SEAN SOCIOS O EXTR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ta es la REGLA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981000"/>
            <a:ext cx="777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Artículo 386 plantea la posibilidad de que todos los socios puedan administrar sin que se haya pactado nada. La ley supone la existencia de un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MANDATO TÁCITO Y RECÍPRO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os socios pueden ejercer todos los actos y contratos comprendidos en el gi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RECHO DE O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981000"/>
            <a:ext cx="77770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uede ocurrir que los socios choquen en sus intereses, por lo cual disponen del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ERECHO DE OPOSICIÓN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, facultad que tienen los socios para oponerse a los actos o contratos proyectados por otros soci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ara poder ejercer este derecho debe cumplirse con los siguientes requis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Debe tratarse de actos proyectados (no perfecciona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No se refiera a actos de mera conserv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981000"/>
            <a:ext cx="7777080" cy="55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ÍMITES A LA ADMINIST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os socios deben actuar atendiendo al giro ordinario de la sociedad y además pueden realizar todos los actos tendientes a alcanzar los fines de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os socios también pueden determinar con posterioridad quien va a administrar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01T03:50:27Z</dcterms:modified>
  <cp:revision>76</cp:revision>
  <dc:subject/>
  <dc:title>Diapositiva 1</dc:title>
</cp:coreProperties>
</file>