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863-6AB0-4198-B455-68D64293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1D3-66D0-4010-883F-DE6A5DB2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5DF-2DEA-4E1C-ACEC-1E2E5434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061-5EC9-48F4-B859-1D35C64A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775-5861-471C-A2BE-56C5B419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5BF-8326-41F5-8EE0-88D19028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31A-78CC-49D7-A2B8-CC0C884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23A-40F3-4DA8-B863-1E9672C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F87-B864-44FB-9A46-99C60DB3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CFD-275D-41AA-B337-72AAC5BD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110-EFAE-4810-9AD1-9F81A1E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1B8-1278-40E2-BCBA-74C4B694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B1EA-9C0C-4F44-BF62-CCADB1B60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aniel-cano.es/img/abogado_sociedades.gif&amp;imgrefurl=http://www.daniel-cano.es/especialidades/sociedades.html&amp;h=194&amp;w=434&amp;sz=43&amp;hl=es&amp;start=1&amp;usg=__akwD8mWOZFiL2Njtqcf9862-xoo=&amp;tbnid=Gvc_kLtJHlOBfM:&amp;tbnh=56&amp;tbnw=126&amp;prev=/images%3Fq%3DSOCIEDAD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SOCIEDADES COLECTIVAS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ADMIN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40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2904840" cy="254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rresponde a la otra situación que puede presentarse, es aquella que recae en uno o más de los socios o en un tercero extr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rtículo 392 del Código de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Delegada la facultad de administrar en uno o más de los socios, los demás quedan por este solo hecho inhibidos de toda injerencia en la administración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981000"/>
            <a:ext cx="7777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designación de los socios administradores es una de las cláusulas esenciales del pacto social. Art. 352 del Códi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escritura social deberá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3) Los socios encargados de la administración y del uso de la razón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DMINISTRACIÓN DE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se delega la administración en un socio en el pacto de constitución se producen los efectos del Artículo 2072 del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puede renunciar a su cargo, sino por causa prevista en el pacto o por aceptación unánime de todos los so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puede ser removido del cargo salvo que se estemos en los casos previstos en el pacto  o por causa grave (Indigno de confianza o incapaz de administra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TROS ASP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700280"/>
            <a:ext cx="763272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ACULTADES DE LOS ADMINIST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Están facultados para ejercer todos los actos de administración que figuren en su designación, ACTOS DE ADMINISTRACIÓN Y DE CONSERVACIÓN PROPIOS DEL G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DMINISTRADORES DESIGNADOS POR UN ACTO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XISTENCIA DE UN SOLO ADMINIST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, TOMO I. Editorial jurídica Lexis Nexis, 2005, p. 233 - 2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CL" sz="4000" spc="-1" strike="noStrike">
                <a:solidFill>
                  <a:srgbClr val="3333cc"/>
                </a:solidFill>
                <a:latin typeface="Verdana"/>
              </a:rPr>
              <a:t>ADMINISTRACIÓN DE LA SOCIEDAD COLECTIVA COMER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7770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DMINISTRACIÓN DE LA SOCIEDAD COLECTIVA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gla general es que ésta será administrada en la forma prevista en los estatu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 decir, primero debo recurrir a los estatutos y en forma supletoria a la l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es una exigencia colocar en el estatuto a quien corresponde la administración, si los estatutos nada dicen debemos recurrir a lo contemplado en los Artículos 384 y siguientes del 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Art. 384. El régimen de la sociedad colectiva se ajustará a los pactos que contenga la escritura social, y en lo que no se hubiere previsto en ellos, a las reglas que a continuación se expres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 COLECTIVA CO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Art. 385. La administración corresponde de derecho a todos y cada uno de los socios, y éstos pueden desempeñarla por sí mismos o por sus delegados, sean socios o extr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645000"/>
            <a:ext cx="39610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836640"/>
            <a:ext cx="777708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EJERCIDA POR TODOS Y CADA UNO DE LOS SOCIOS. MANDATO TÁCITO Y RECÍPR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administración corresponde de derecho a todos y cada uno de los socios, los cuales pueden desempeñarla por sí mismos o por sus delegados, SEAN SOCIOS O EXTR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ta es la REGL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98100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rtículo 386 plantea la posibilidad de que todos los socios puedan administrar sin que se haya pactado nada. La ley supone la existencia de un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ANDATO TÁCITO Y RECÍPRO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os socios pueden ejercer todos los actos y contratos comprendidos en el gi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RECHO DE O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981000"/>
            <a:ext cx="7777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uede ocurrir que los socios choquen en sus intereses, por lo cual disponen del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ERECHO DE OPOSICIÓ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facultad que tienen los socios para oponerse a los actos o contratos proyectados por otros so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ara poder ejercer este derecho debe cumplirse con los siguientes 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Debe tratarse de actos proyectados (no perfeccion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No se refiera a actos de mera conser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81000"/>
            <a:ext cx="777708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ÍMITES A LA ADMINIS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os socios deben actuar atendiendo al giro ordinario de la sociedad y además pueden realizar todos los actos tendientes a alcanzar los fines de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os socios también pueden determinar con posterioridad quien va a administrar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1T03:50:27Z</dcterms:modified>
  <cp:revision>76</cp:revision>
  <dc:subject/>
  <dc:title>Diapositiva 1</dc:title>
</cp:coreProperties>
</file>