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1C28-8D08-4205-9545-2EE1B552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D3C-63B4-462D-9CBA-F263AC5B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E3F-8C79-4797-917F-D4351714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90A-B421-4B00-942A-91A5E282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3C0-59B2-4CAB-A514-E4E43719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5222-10CD-497E-ACD7-21F7E32D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BCD-039A-4734-8416-F07E2AD1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77BC-0CDE-44B8-AE15-BA04A2CF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A68-80E3-4D22-BB1B-2C33AF58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A62-2BCB-44CD-8D1D-FB40240B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C35-686F-481E-BC4E-B4AE04BD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99ED-54F0-41E5-9D28-98C1FE68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F527-DBB5-4FE0-9366-5C610E751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ventadesociedades.info/imagenes/law.jpg&amp;imgrefurl=http://www.ventadesociedades.info/listado.html&amp;h=384&amp;w=573&amp;sz=41&amp;hl=es&amp;start=17&amp;usg=__--SB_Tss0nG0IK0mmmP1TOi_oLw=&amp;tbnid=ViZNKAHKDa0WaM:&amp;tbnh=90&amp;tbnw=134&amp;prev=/images%3Fq%3DSOCIEDAD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sarabiaygomezabogados.com/img/abogado_sociedades.gif&amp;imgrefurl=http://www.sarabiaygomezabogados.com/derecho%2520mercantil/sociedades.html&amp;h=194&amp;w=434&amp;sz=40&amp;hl=es&amp;start=42&amp;usg=__3-KVljdi1FbiJyPlpUQPRJJmHwU=&amp;tbnid=L2O6C-FZ60ieeM:&amp;tbnh=56&amp;tbnw=126&amp;prev=/images%3Fq%3DSOCIEDADES%26start%3D36%26gbv%3D2%26ndsp%3D18%26hl%3Des%26sa%3D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aniel-cano.es/img/abogado_sociedades.gif&amp;imgrefurl=http://www.daniel-cano.es/especialidades/sociedades.html&amp;h=194&amp;w=434&amp;sz=43&amp;hl=es&amp;start=1&amp;usg=__akwD8mWOZFiL2Njtqcf9862-xoo=&amp;tbnid=Gvc_kLtJHlOBfM:&amp;tbnh=56&amp;tbnw=126&amp;prev=/images%3Fq%3DSOCIEDADES%26gbv%3D2%26hl%3Des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cienladrillos.com/images/2006/09/dinero.jpg&amp;imgrefurl=http://secretosenred.com/foro/showthread.php%3Ft%3D2305&amp;h=605&amp;w=709&amp;sz=71&amp;hl=es&amp;start=1&amp;usg=__WmMAmoLF4QUd3YUoQOpphTc4-6Y=&amp;tbnid=iY-oEPSogmBWVM:&amp;tbnh=119&amp;tbnw=140&amp;prev=/images%3Fq%3Ddinero%26gbv%3D2%26hl%3Des%26sa%3DX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LAS SOC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7777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SITOS RELATIVOS A TODO 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ara que el contrato sea válido debe reunir los siguientes requisi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consentimiento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apacid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o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ausa en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Consentimiento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l contrato nace por el acuerdo de voluntad de las partes, por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gla general es un contrato consensual.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Dicho consentimiento debe estar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xento de vicios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que puedan afectarlo: error, dolo y fuer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4537080" cy="230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981000"/>
            <a:ext cx="777708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Capacid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Aquellas personas que celebran el contrato deben ser capaces, por regla general en nuestro derecho todos son capaces, salvo que la ley disponga lo contra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3) El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Consiste en las actividades o negociaciones para las cuales se forma una sociedad. El objeto debe figurar en los estatutos y debe ser líci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981000"/>
            <a:ext cx="77770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4)La ca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No presenta grandes diferencias con el objeto, usualmente se confunden, ya que la sociedad se forma con la finalidad de realizar ciertas actividades que otorguen beneficios a los so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981000"/>
            <a:ext cx="777708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5) 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alvo la sociedad colectiva civil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TODOS LOS OTROS TIPOS DE SOCIEDADES SON SOLEMNES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, un ejemplo de esto se da en aquellos casos donde se exige escritura pública para la constitu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4365720"/>
            <a:ext cx="2665440" cy="179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981000"/>
            <a:ext cx="777708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stos requisitos distinguen al contrato de sociedad de otros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estipulación de un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participación en los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ontribución a las 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affectio societ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981000"/>
            <a:ext cx="777708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ESTIPULACIÓN DE UN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ontrato por el cual los socios estipulan “poner algo en común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El aporte debe consistir en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ualquier bien apreciable en dinero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. Esto se encuentra directamente ligado a la búsqueda de benefici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Los aportes forman un fondo o capital soc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Dichos aportes pueden consistir en dinero, bienes raíces o muebles, servicios, tecnología, etc.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981000"/>
            <a:ext cx="777708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ARTICIPACIÓN EN LAS 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 sociedad persigue obtener ganancias o beneficios, esto la distingue de organizaciones sin fines de lucro como corporaciones y fund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os beneficios sociales son repartidos conforme a lo establecido en los estatu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bemos tener presente  que siempre debo recurrir  primero a lo establecidos en los PACTOS SOCIALES Y EN SILENCIO DE ESTO RECURRO EN FORMA SUPLETORIA A LA LE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981000"/>
            <a:ext cx="77770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IBUCIÓN A LAS 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Al igual que en el caso de las utilidades debo recurrir primero a lo que señalen los estatutos al resp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Así como los socios perciben utilidades deben contribuir a las pérdidas que genere el ejercicio de la socie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4508640"/>
            <a:ext cx="2736720" cy="187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981000"/>
            <a:ext cx="7777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FFECTIO SOCIET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s uno de los elementos mas complicados de definir, no se encuentra establecido en la legislación de forma ex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rresponde a la intención de cada socio de formar la sociedad, de colaborar en la obtención de beneficios y alcanzar un objetivo comú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ste requisito es más perceptible en las sociedades de perso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1125360"/>
            <a:ext cx="2736720" cy="131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 DE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os comerciantes pueden actuar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INDIVIDUALMENTE O BAJO DIVERSAS FORMAS JURÍDICAS.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¿ Qué conceptos jurídicos existen de las sociedad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¿ Qué tipos de sociedades exist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¿ Cuáles son los elementos esenciales de toda socieda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637000"/>
            <a:ext cx="3384360" cy="1352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907920"/>
            <a:ext cx="813744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Verdana"/>
              </a:rPr>
              <a:t>PERSONALIDAD JURÍD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PERSONALIDAD JURÍD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907920"/>
            <a:ext cx="813744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definición del Código Civil consagra el principio de que la sociedad forma una </a:t>
            </a:r>
            <a:r>
              <a:rPr b="1" i="1" lang="es-ES_tradnl" sz="2400" spc="-1" strike="noStrike">
                <a:solidFill>
                  <a:srgbClr val="3333cc"/>
                </a:solidFill>
                <a:latin typeface="Verdana"/>
              </a:rPr>
              <a:t>persona jurídica distinta a los socios individualmente consider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 personalidad jurídica dura mientras la sociedad conserve su existencia legal y se prolonga durante su liquidación una vez que haya sido disuelta. Pudiendo sufrir transformaciones la personalidad jurídica durante la vigencia de la sociedad (ejemplo fusiones).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NSECUENC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907920"/>
            <a:ext cx="8137440" cy="35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¿Qué consecuencia produce el hecho de tener una personalidad juríd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Esto hace que la sociedad como persona jurídica tenga los mismo atributos de las personas natur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907920"/>
            <a:ext cx="8137440" cy="33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_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La sociedad pasa a tener un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atrimonio propio distinto al de los socios que la conforman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Dicho patrimonio se forma con sus aportes y es administrado por los órganos designados por la soc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4149720"/>
            <a:ext cx="3024360" cy="2019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1197000"/>
            <a:ext cx="813744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B_ La sociedad pasa a tener un NO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ROPIO O RAZÓN SO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_ DOMICILIO O SEDE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n general es aquel donde se encuentran los órganos de control y dirección. El domicilio queda designado en los estatut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907920"/>
            <a:ext cx="813744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_ NA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Vínculo que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une a la sociedad con un estado determinad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s fundamental ya que determina la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egislación aplicable y la jurisdicción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a la cual se encuentra someti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2808360" cy="1771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907920"/>
            <a:ext cx="8137440" cy="50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Verdana"/>
              </a:rPr>
              <a:t>RECONOCIMIENTO CONSTITUCIONAL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19 Nº 15 de la Constitución 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Artículo 19.- La Constitución asegura a todas las persona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15º.- El derecho de asociarse sin permiso previo. </a:t>
            </a:r>
            <a:br>
              <a:rPr sz="2000"/>
            </a:b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Para gozar de personalidad jurídica, las asociaciones deberán constituirse en conformidad a la ley.</a:t>
            </a: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907920"/>
            <a:ext cx="813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Verdana"/>
              </a:rPr>
              <a:t>EL ABUSO DE LA PERSONALIDAD JURID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Lift the corporate ve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BAEZA OVALLE, Gonzal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Tratado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ÓDIGO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836640"/>
            <a:ext cx="77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 ).- Código Civil. Artículo 2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o compañía  es un contrato en que dos o más personas estipulan poner algo en común con la mira de repartir entre sí los beneficios que de ello proveng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forma una persona jurídica distinta de los socios individualmente considera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836640"/>
            <a:ext cx="777708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B)._  Ley sobre sociedades anónim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( 18.046 ) Artículo 1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anónima es una persona jurídica formada por  la reunión de un fondo común, suministrado por accionistas responsable sólo por sus respectivos aportes y administrada por un directorio integrado por miembros esencialmente revo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anónima es siempre mercantil, aún cuando se forme para la realización de negocios de carácter ci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MENTARIOS DE ESTAS 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81000"/>
            <a:ext cx="7777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oner algo en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Obtener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parti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sponsabilidad de los partíc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dministración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Naturaleza civil o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SARROLLO HIST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981000"/>
            <a:ext cx="7777080" cy="60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ódigo de Hamura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recho musulm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da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recho Germá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El Código de Comercio y el Código Civil, siguiendo la tradición Romanista y las Fuentes Francesas consideran y estudian a la sociedad como un contrato, esto conforme al principio de la autonomía de  la volunt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OSTURAS AC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7777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413000"/>
            <a:ext cx="763272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ctualmente se considera que es insuficiente ver a las sociedades únicamente como un contrato, abriendo paso a la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EORÍA DE LA INSTIT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ostula dicha teoría que independiente del origen que tenga la sociedad, ya sea un contrato, un simple acto jurídico o una potestad pública, al nacer forma una INSTITUCIÓN destinada a actuar en el medio jurídico con permanencia. </a:t>
            </a: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1_ Osvaldo Contreras Strauch, Instituciones del Derecho Comercial, pág. 202. Lexis Nexi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Verdana"/>
              </a:rPr>
              <a:t>CONTRATO DE SOCIE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125360"/>
            <a:ext cx="7777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DEL CONTR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25360"/>
            <a:ext cx="7777440" cy="35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onforme a la concepción clásica, la sociedad es un contrato y por ende debe reunir los requisitos relativos a todos los contratos. Además posee ciertos requisitos particulares o especi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132000" y="4149720"/>
            <a:ext cx="2735280" cy="165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24T07:06:07Z</dcterms:modified>
  <cp:revision>78</cp:revision>
  <dc:subject/>
  <dc:title>Diapositiva 1</dc:title>
</cp:coreProperties>
</file>