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E070-0898-425B-903C-C6849367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4AD7-2E98-4237-A7AE-B64CDD36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7B65-7C2B-44B5-963B-FAE7AED0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AA79-7015-4DA8-A324-A9049E13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7DD6-DE76-4941-B267-D96FCF88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3FC9-E358-4807-B289-1B068042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BAC3-80AD-46C4-AE3A-346D5CD0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868-35A8-4254-93B4-A5FC8B5F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C92F-8ECB-4C73-9CDE-E4E556D6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46D-817C-46FF-AE8E-BBDBE515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B1EB-E365-43F8-A895-D40CD7A0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EF4D-5330-410C-BDA1-5A32CDF9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9718-6D74-4B77-82CB-1B05BD802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Comic Sans MS"/>
              </a:rPr>
              <a:t>EL ESTABLECIMIENTO DE COMERCI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859280" y="3333600"/>
            <a:ext cx="3773520" cy="3073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43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TRANSFERENCIA DEL ESTABLECIMIENTO DE COMERCI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8320" y="11253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</a:rPr>
              <a:t>Respecto de las Mercaderí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 transferencia tendrá que observar la norm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general del intercambio de mercancí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o bien, si se trata de mercaderí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 cuyo efecto la ley prescri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normas  especiales para 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transferencia, a estas habrá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estar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004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004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84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NOCIONES GENERALES DEL ESTABLECI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8497800" cy="78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odiere y Houin señalan que el fondo del comercio es un conjunto de elementos mobiliarios, corporales e incorporales que un comerciante agrupa y organiza para satisfacer las necesidades de su clientel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Universalidad de hecho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940360" y="4076640"/>
            <a:ext cx="2448000" cy="2001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2560" y="4437000"/>
            <a:ext cx="29527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8120" y="460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68120" y="460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68120" y="4608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360" y="18900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60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NATURALEZA JURID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177560"/>
            <a:ext cx="8569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eoría de la universalidad jurídica: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bienes están unidos por una afectación a un fin determina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eoría de la universalidad de hecho: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Ensamble de simple hecho entre los bienes que la integran, unidos por un vínculo económico constituido por su destinación comú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eoría de la propiedad incorporal.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Resultado de una actividad emparentada con la creación intelectual análoga a una inven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eoría del establecimiento de comercio como institución.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Organización de elementos materiales y personales en función de un fin superior a todos el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604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348000" y="1563840"/>
            <a:ext cx="5545080" cy="4025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304920"/>
            <a:ext cx="73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</a:rPr>
              <a:t>CARACTERÍS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1942560"/>
            <a:ext cx="79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versalidad de hech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ácter Mue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corpo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No Fungibles.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999040" y="3141720"/>
            <a:ext cx="2676600" cy="3527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ELEMENTOS PRINCIP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1052640"/>
            <a:ext cx="87138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Client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njunto de personas que recurren a un establecimiento con el fin de obtener productos y servic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lemento esencial y fundamental del establecimiento de comer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s un elemento subjetiv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lacionado con compet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sleal y libre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ELEMENTOS PRINCIP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125360"/>
            <a:ext cx="84247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</a:rPr>
              <a:t>Derecho de Ll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osibilidad, basada en antecedentes contables, de obtener utilidades futuras ciert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Jurisprudencia: Fuente de utilidades y beneficios que significan para un establecimiento de comercio circunstancias tales como su prestigio, clientela, calidad de los productos, ubicación, entre otr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84720" y="1622520"/>
            <a:ext cx="4473360" cy="3247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920" y="304920"/>
            <a:ext cx="73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ELEMENTOS PRINCIP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6000" y="1125360"/>
            <a:ext cx="8893080" cy="60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El Nombre o Firma (Nombre comercial u objetiv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El nombre comercial puede s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inscrito en el registro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y posteriormente puede lleg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a ser transferi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La llamada contraseña que se fija a las mercaderías con el fin de indicar su proced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Dos clases de marc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Marca comercial: Individualización del produ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Marca de fábrica: es la procedencia de la mercaderí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CONCEPTOS ECONOMICOS Y JURIDICOS DEL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1052640"/>
            <a:ext cx="864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Derecho al local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Local es el inmueble y no puede considerarse como integrante del establecimiento; el derecho a local sí es un elemento de es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El rótulo o embl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Figura externa o distintivo gráfico que sirve para individualizar al establecimiento de comercio. Dicho rótulo o emblema esta unido íntimamente al concepto de mar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Patente de Inven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Es el título que concede el Estado como garantía para el inventor, que permiten la explotación exclusiva del invento por un tiempo determinado.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76640" y="3170160"/>
            <a:ext cx="36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59280" y="2919240"/>
            <a:ext cx="4043520" cy="3614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876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304920"/>
            <a:ext cx="80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TRANSFERENCIA DEL ESTABLECIMENTO DE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981000"/>
            <a:ext cx="7777080" cy="52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Respecto de los Bienes Inmue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Deberá observar las formalidades que la ley prescribe para la transferencia de este tipo de bie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Ejemplo; Compraventa de inmue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Escritura pública, inscripción 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el Registro Conservador de BBR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Respecto de 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uscripción de escritura pública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inscripción  en registr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Propiedad Industrial correspond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WinuE</cp:lastModifiedBy>
  <dcterms:modified xsi:type="dcterms:W3CDTF">2008-09-16T20:38:22Z</dcterms:modified>
  <cp:revision>64</cp:revision>
  <dc:subject/>
  <dc:title>Diapositiva 1</dc:title>
</cp:coreProperties>
</file>