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4C9-60AD-4049-9312-342483A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AF5-7F8F-4B74-9DFA-9A5D3A19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176-18D6-416B-9AFA-92BCE352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ADA-E030-4E3A-AA74-02823EFD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9A0-5752-4E51-A449-07E7CFC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713-C97E-43B6-B9D2-C5B82509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B8D-A8CF-48B3-BCD0-B8996612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0FB-A56D-4031-846E-D8D07DB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0F4-F9BB-4194-B09F-737CD24C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D78-3B76-457D-AE45-4A0AB687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A34-A858-46E4-994B-1515BC9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779-3A0E-4C97-AB5D-228AEFB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F503-13BF-4363-B4E6-7F18BEB84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EL ESTABLECIMIENT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333600"/>
            <a:ext cx="3773520" cy="307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IENTO DE COMER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320" y="1125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Respecto de las Mercader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transferencia tendrá que observar la n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general del intercambio de mercanc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o bien, si se trata de mercader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 cuyo efecto la ley pr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normas  especiales para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ferencia, a estas habrá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OCIONES GENERALES DEL ESTABL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odiere y Houin señalan que el fondo del comercio es un conjunto de elementos mobiliarios, corporales e incorporales que un comerciante agrupa y organiza para satisfacer las necesidades de su clientel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Universalidad de hecho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2560" y="4437000"/>
            <a:ext cx="2952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TURALEZA JURI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7756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jurídica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bienes están unidos por una afectación a un fin determin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de hecho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samble de simple hecho entre los bienes que la integran, unidos por un vínculo económico constituido por su destinación comú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propiedad incorporal.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Resultado de una actividad emparentada con la creación intelectual análoga a una inv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l establecimiento de comercio como institución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Organización de elementos materiales y personales en función de un fin superior a todos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1563840"/>
            <a:ext cx="5545080" cy="402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04920"/>
            <a:ext cx="73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CARACTERÍS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9425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versalidad de he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ácter Mue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corp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No Fungibles.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99040" y="3141720"/>
            <a:ext cx="267660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052640"/>
            <a:ext cx="8713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lient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junto de personas que recurren a un establecimiento con el fin de obtener productos y servi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emento esencial y fundamental del establecimiento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un elemento subje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lacionado con compe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sleal y libre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12536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Derecho de Ll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osibilidad, basada en antecedentes contables, de obtener utilidades futuras cier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Jurisprudencia: Fuente de utilidades y beneficios que significan para un establecimiento de comercio circunstancias tales como su prestigio, clientela, calidad de los productos, ubicación, entre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1622520"/>
            <a:ext cx="4473360" cy="324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125360"/>
            <a:ext cx="88930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Nombre o Firma (Nombre comercial u obje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nombre comercial pue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to en el regist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y posteriormente puede lleg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a ser transfer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llamada contraseña que se fija a las mercaderías con el fin de indicar su proced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s clases de mar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comercial: Individualización d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de fábrica: es la procedencia de la mercade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Derecho al loc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Local es el inmueble y no puede considerarse como integrante del establecimiento; el derecho a local sí es un elemento de es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rótulo o em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igura externa o distintivo gráfico que sirve para individualizar al establecimiento de comercio. Dicho rótulo o emblema esta unido íntimamente al concepto de ma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atente de Inv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el título que concede el Estado como garantía para el inventor, que permiten la explotación exclusiva del invento por un tiempo determinado.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76640" y="31701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043520" cy="361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876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80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ENT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981000"/>
            <a:ext cx="7777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os Bienes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eberá observar las formalidades que la ley prescribe para la transferencia de este tipo de bie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jemplo; Compraventa de inmue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scritura pública, inscripción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Registro Conservador de BBR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uscripción de escritura públic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pción  en registr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Propiedad Industrial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8-09-16T20:38:22Z</dcterms:modified>
  <cp:revision>64</cp:revision>
  <dc:subject/>
  <dc:title>Diapositiva 1</dc:title>
</cp:coreProperties>
</file>