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08E0-4570-40E3-A7B7-4B97A0EC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79EB-4233-4232-B3D1-45EF5E17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F14-A6C1-4BFD-A143-D34D2A6F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1834-F8B4-49C9-A72E-74AC6DAF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0D5B-E262-4E9B-8B0D-E764EE41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B73-5DC3-4403-9E24-2B004867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DD1-ECAE-487D-864C-5191E2C3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BFB-82BA-46CE-9AF5-F3B91001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83A8-3132-4658-9BDF-476819A3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03A-3064-42AB-8293-2EFCE340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F2E0-AF8B-4E8A-99BF-B2808CFB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9D03-36DD-4F04-8175-DF4BAA1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CC310-E0AD-4D5A-A4CA-C095E61C6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Comic Sans MS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Comic Sans MS"/>
              </a:rPr>
              <a:t>EL ESTABLECIMIENTO DE COMERCI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3333600"/>
            <a:ext cx="3773520" cy="30736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843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TRANSFERENCIA DEL ESTABLECIMIENTO DE COMERCI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8320" y="1125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Respecto de las Mercaderí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La transferencia tendrá que observar la norm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general del intercambio de mercancí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o bien, si se trata de mercaderí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a cuyo efecto la ley pre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normas  especiales para 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transferencia, a estas habrá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estar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30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004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84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OCIONES GENERALES DEL ESTABLE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981000"/>
            <a:ext cx="8497800" cy="78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odiere y Houin señalan que el fondo del comercio es un conjunto de elementos mobiliarios, corporales e incorporales que un comerciante agrupa y organiza para satisfacer las necesidades de su clientel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Universalidad de hecho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2448000" cy="2001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2560" y="4437000"/>
            <a:ext cx="29527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168120" y="460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89000"/>
            <a:ext cx="669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260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NATURALEZA JURID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77560"/>
            <a:ext cx="8569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universalidad jurídica: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Los bienes están unidos por una afectación a un fin determin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universalidad de hecho: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Ensamble de simple hecho entre los bienes que la integran, unidos por un vínculo económico constituido por su destinación comú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 la propiedad incorporal.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 Resultado de una actividad emparentada con la creación intelectual análoga a una inven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Teoría del establecimiento de comercio como institución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Organización de elementos materiales y personales en función de un fin superior a todos e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604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348000" y="1563840"/>
            <a:ext cx="5545080" cy="4025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04920"/>
            <a:ext cx="738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CARACTERÍS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1942560"/>
            <a:ext cx="79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Universalidad de hech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ácter Mue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corpo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No Fungibles.</a:t>
            </a:r>
            <a:r>
              <a:rPr b="0" lang="es-ES" sz="2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999040" y="3141720"/>
            <a:ext cx="2676600" cy="3527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052640"/>
            <a:ext cx="87138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Comic Sans MS"/>
              </a:rPr>
              <a:t>Client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Conjunto de personas que recurren a un establecimiento con el fin de obtener productos y servi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lemento esencial y fundamental del establecimiento de comer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s un elemento subjetiv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lacionado con competenc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sleal y libre compe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920" y="304920"/>
            <a:ext cx="73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125360"/>
            <a:ext cx="8424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Comic Sans MS"/>
              </a:rPr>
              <a:t>Derecho de Ll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Posibilidad, basada en antecedentes contables, de obtener utilidades futuras cier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Jurisprudencia: Fuente de utilidades y beneficios que significan para un establecimiento de comercio circunstancias tales como su prestigio, clientela, calidad de los productos, ubicación, entre otr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84720" y="1622520"/>
            <a:ext cx="4473360" cy="3247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304920"/>
            <a:ext cx="73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EMENTO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000" y="1125360"/>
            <a:ext cx="8893080" cy="60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 Nombre o Firma (Nombre comercial u objetiv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l nombre comercial puede s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nscrito en el registro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y posteriormente puede lleg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a ser transferi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La llamada contraseña que se fija a las mercaderías con el fin de indicar su proced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os clases de marca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Marca comercial: Individualización del produ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Marca de fábrica: es la procedencia de la mercaderí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CONCEPTOS ECONOMICOS Y JURIDICOS DEL COME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052640"/>
            <a:ext cx="8642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Derecho al local</a:t>
            </a:r>
            <a:r>
              <a:rPr b="0" lang="es-ES" sz="2400" spc="-1" strike="noStrike">
                <a:solidFill>
                  <a:srgbClr val="33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</a:rPr>
              <a:t>Local es el inmueble y no puede considerarse como integrante del establecimiento; el derecho a local sí es un elemento de es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El rótulo o embl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Figura externa o distintivo gráfico que sirve para individualizar al establecimiento de comercio. Dicho rótulo o emblema esta unido íntimamente al concepto de marc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Patente de Inven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</a:rPr>
              <a:t>Es el título que concede el Estado como garantía para el inventor, que permiten la explotación exclusiva del invento por un tiempo determinado.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76640" y="3170160"/>
            <a:ext cx="36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859280" y="2919240"/>
            <a:ext cx="4043520" cy="36147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5876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304920"/>
            <a:ext cx="802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TRANSFERENCIA DEL ESTABLECIMENTO DE COMER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981000"/>
            <a:ext cx="777708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specto de los Bienes Inmue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Deberá observar las formalidades que la ley prescribe para la transferencia de este tipo de bien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jemplo; Compraventa de inmue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scritura pública, inscripción 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el Registro Conservador de BBR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Comic Sans MS"/>
              </a:rPr>
              <a:t>Respecto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Suscripción de escritura pública 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inscripción  en registr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   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</a:rPr>
              <a:t>Propiedad Industrial correspond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8-09-16T20:38:22Z</dcterms:modified>
  <cp:revision>64</cp:revision>
  <dc:subject/>
  <dc:title>Diapositiva 1</dc:title>
</cp:coreProperties>
</file>