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7F6-63A8-42D6-844C-BCA66D24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C52-DD61-4F86-A1A7-23EE2519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55E-D6AF-44C3-AE46-1572983F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8D5-B877-466F-9076-1A2A475D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50A-490F-46CC-B4E7-948A942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54A-4DAB-40FB-866D-2F0AB119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E97-78D4-4423-864A-217ABB8D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A4A-1CD0-41FD-A370-35199DFC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323-2F58-45AA-AA90-C356511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B62-7685-46AC-B73E-620210D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3E9-D891-4997-ADF8-D9A98630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2DD-335A-43EC-847C-AB92EB23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815-A42E-4E99-9E0C-ABA757D99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EL ESTABLECIMIENT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3333600"/>
            <a:ext cx="3773520" cy="307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43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IENTO DE COMERC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320" y="1125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Respecto de las Mercader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transferencia tendrá que observar la n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general del intercambio de mercanc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o bien, si se trata de mercader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 cuyo efecto la ley pre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normas  especiales para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nsferencia, a estas habrá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OCIONES GENERALES DEL ESTABL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odiere y Houin señalan que el fondo del comercio es un conjunto de elementos mobiliarios, corporales e incorporales que un comerciante agrupa y organiza para satisfacer las necesidades de su clientel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Universalidad de hecho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2560" y="4437000"/>
            <a:ext cx="2952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ATURALEZA JURI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77560"/>
            <a:ext cx="85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jurídica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bienes están unidos por una afectación a un fin determin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de hecho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Ensamble de simple hecho entre los bienes que la integran, unidos por un vínculo económico constituido por su destinación comú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propiedad incorporal.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Resultado de una actividad emparentada con la creación intelectual análoga a una inv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l establecimiento de comercio como institución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Organización de elementos materiales y personales en función de un fin superior a todos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1563840"/>
            <a:ext cx="5545080" cy="402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04920"/>
            <a:ext cx="73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CARACTERÍS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94256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versalidad de hech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ácter Mue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corp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No Fungibles.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99040" y="3141720"/>
            <a:ext cx="2676600" cy="352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052640"/>
            <a:ext cx="8713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lient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junto de personas que recurren a un establecimiento con el fin de obtener productos y servi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emento esencial y fundamental del establecimiento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 un elemento subjet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lacionado con compe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sleal y libre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12536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Derecho de Ll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osibilidad, basada en antecedentes contables, de obtener utilidades futuras cier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Jurisprudencia: Fuente de utilidades y beneficios que significan para un establecimiento de comercio circunstancias tales como su prestigio, clientela, calidad de los productos, ubicación, entre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4720" y="1622520"/>
            <a:ext cx="4473360" cy="3247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1125360"/>
            <a:ext cx="88930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Nombre o Firma (Nombre comercial u objetiv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nombre comercial pue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to en el registro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y posteriormente puede lleg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a ser transfer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llamada contraseña que se fija a las mercaderías con el fin de indicar su proced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s clases de mar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comercial: Individualización del produ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de fábrica: es la procedencia de la mercader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Derecho al loc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Local es el inmueble y no puede considerarse como integrante del establecimiento; el derecho a local sí es un elemento de es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rótulo o em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igura externa o distintivo gráfico que sirve para individualizar al establecimiento de comercio. Dicho rótulo o emblema esta unido íntimamente al concepto de ma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atente de Inv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s el título que concede el Estado como garantía para el inventor, que permiten la explotación exclusiva del invento por un tiempo determinado.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76640" y="317016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043520" cy="361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876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80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ENT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981000"/>
            <a:ext cx="77770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os Bienes Inmue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eberá observar las formalidades que la ley prescribe para la transferencia de este tipo de bie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jemplo; Compraventa de inmue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scritura pública, inscripción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Registro Conservador de BBR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uscripción de escritura pública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pción  en registr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Propiedad Industrial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8-09-16T20:38:22Z</dcterms:modified>
  <cp:revision>64</cp:revision>
  <dc:subject/>
  <dc:title>Diapositiva 1</dc:title>
</cp:coreProperties>
</file>