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A1E-D0D4-4721-B72B-D9F9FA0B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BDC-BF76-4B11-9CC3-4D2DA2BF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F59-C3D9-4738-AB50-AE4CCB1D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CE3-CD06-473C-8315-F1F6392A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B8F-DC44-4F3B-95CA-49C6E0B4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6079-3DE4-49AD-A921-3ADD4D5A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5D6-50EF-47F7-8085-7417AC8E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6E7-5C5F-4AD6-8952-9DA86EA0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4E8-D314-41EE-A961-9D697B72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7D9-CFB1-4E04-86EB-78A3EF6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522-62E8-48CC-9D49-E60A7A4B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978-2A5D-4C6A-93EB-7EF6F1A5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A6C1-12AF-43D8-BCAA-3EAD0921C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</a:rPr>
              <a:t>ACTOS MERCANTILES EN EL CO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OPERACIONES DE CAMBIO, CORRETAJE Y DE BOLSA (Nº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4200" y="1026360"/>
            <a:ext cx="86058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ES DE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- Casa de cambio: Mercan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- Persona: Teoría de lo acces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ES DE CORRET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rreduría: art. 243 Cº Cio., Forma de mandato comer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DE DE BO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Art.39 LMV: “En entidades que tiene por objeto proveer a sus miembros la implementación necesaria para que puedan realizar eficazmente en el lugar que le proporcione, las transacciones de valores mediante mecanismos continuos de subastas y para que puedan efectuar las demás actividades de intermediación de valores que procedan en conformidad a la ley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ACTOS MARITI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Nº 13 AL Nº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 Son siempre mercantiles, sin considerar los actos mixtos ni accesorie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 “El Mar mercantiliza los act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1680" y="1052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ACTOS DE COMERCIO  NO MENCIONADOSS EN EL ART.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Las socieda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e encuentra regulado en el artículo 2059 del Código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El contrato de cuenta corriente mercanti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ntrato intrínsecamente civil, pero que puede asumir características mercant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Los contratos accesori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o están incluidos, pero se analiza según el principio de accesorieda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680" y="1557360"/>
            <a:ext cx="6933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604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LASIFICAC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8497800" cy="86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Actos relativos al comercio terrestre (Nº 1 al Nº 12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b) Actos relativos al comercio marítimo (Nº 13 al Nº 9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De acuerdo con el criterio mercantil emple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a) Actos para cuya calificación se atiende a la intención de la persona que los ejecuta (Nº 1 al Nº 4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b) Actos que se califican de mercantiles por ser ejecutados por una empresa (Nº 5 al Nº 9 y Nº 20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c) Actos que son comerciales en todo caso, sin atender a la intención de las partes que los ejecuta ni a su carácter  de empresa o también llamados actos de comercio formal (Nº 10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8900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844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Análisis particular de los Actos de Comercio enumerados en el Art.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402000"/>
            <a:ext cx="849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22400" y="400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omic Sans MS"/>
              </a:rPr>
              <a:t>LA COMPRA MERCANTIL (Nº1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92280"/>
            <a:ext cx="83516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1-. Que la compra verse sobre una cosa mueble (Art. 567 C.C.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Exclusión de inmue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Se incluyen muebles por anticipación (Art.571 C.C). Ejemplos: Bosque de árboles, frutos de qui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2-. La compra, se haga con ánimo de vender, permutar o arrendar esas cosas compradas, en la misma forma o en otra distint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Intención (Subjetiva)/problema probator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Debe existir al momento de la compra un ánimo de luc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6040" y="69228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249200"/>
            <a:ext cx="842472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.- La venta será mercantil cuando sea precedida por una compra mercantil.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Actividades primarias extractivas (pesca, agricultura, caza y minerí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Comic Sans MS"/>
              </a:rPr>
              <a:t>.- Caso de los acuicul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.- El arrendamiento será mercantil cuando sea precedido por una compra permuta mercantil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Se aplican los requisitos de la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Arrendamiento regulado por Código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681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VENTA, PERMUTA Y ARRENDAMIENTO MERCANTIL (Nº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341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-50760"/>
            <a:ext cx="896472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COMPRA DE UN ESTABLECIMIENTO DE COMER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510560"/>
            <a:ext cx="8758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junto de bienes materiales e in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que conforman una unidad económica dedicada al ejercicio de una actividad comercial”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(Contrer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Universalidad juríd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No se exige gana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Importa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168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304920"/>
            <a:ext cx="89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ARRENDAMIENTO DE COSAS MUEBLES HECHAS CON EL ANIMOS DE SUBARRANDARLAS (Nº3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040" y="2030760"/>
            <a:ext cx="8329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 Noción de intermedi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Intención de lucro.(Ánimo de subarrendar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 Código Civil: Normas sustan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ANDATO COMERCIAL (Nº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9360" y="967680"/>
            <a:ext cx="8613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omisión: Espe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andato: Gén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rt. 235. El mandato comercial toma el nombre de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comisión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cuando versa sobre una o más operaciones mercantiles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ndividualmente determinadas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” (Lo destacado es nuestr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Mercantilidad: Naturaleza del acto encar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andatario: Teoría de lo Acceso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30492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CTOS FORMALES DE COMERCIO (Nº 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1125360"/>
            <a:ext cx="896472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Siempre son actos de comercio/Incausados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No se utiliza ni actos mixtos ni principio de accesor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No dejan de ser comerciales si complementan una actividad principal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ONES DE BAN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Ley General de Ban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Conjunto de actos juríd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Carácter mercantil per 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05T03:15:02Z</dcterms:modified>
  <cp:revision>72</cp:revision>
  <dc:subject/>
  <dc:title>Diapositiva 1</dc:title>
</cp:coreProperties>
</file>