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566-5C27-4A3F-BDDB-5B301545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7ED-4CA5-4688-968E-07FAE3B1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6CD-FDF7-4857-AECB-7967A628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5B32-A347-4579-A5C3-C0556665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CD3-565F-4B9A-8EE2-932B1DB5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F13-69FA-498D-A5A8-F5B04980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A1B-E232-437B-8DA7-40DCE707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123-9A0E-4E00-9813-B5A2FFD8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C32-9252-448A-9675-D055E00F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4EF-4D43-48E0-8FE5-6FA3B79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71B-14E6-4E63-9295-1EE95125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5F9-A422-4CFB-B7F6-1B415BB0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47F2-94E6-414D-8F91-D76FA0A48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</a:rPr>
              <a:t>ACTOS MERCANTILES EN EL CODIG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OPERACIONES DE CAMBIO, CORRETAJE Y DE BOLSA (Nº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4200" y="1026360"/>
            <a:ext cx="86058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Casa de cambio: Mercan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- Persona: Teoría de lo acces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ES DE CORRET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rreduría: art. 243 Cº Cio., Forma de mandato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PERACIONDE DE BO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Art.39 LMV: “En entidades que tiene por objeto proveer a sus miembros la implementación necesaria para que puedan realizar eficazmente en el lugar que le proporcione, las transacciones de valores mediante mecanismos continuos de subastas y para que puedan efectuar las demás actividades de intermediación de valores que procedan en conformidad a la ley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ACTOS MARITI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Nº 13 AL Nº1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Son siempre mercantiles, sin considerar los actos mixtos ni accesori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.- “El Mar mercantiliza los acto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ACTOS DE COMERCIO  NO MENCIONADOSS EN EL ART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183528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as socie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encuentra regulado en el artículo 2059 del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El contrato de cuenta corriente mercanti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ntrato intrínsecamente civil, pero que puede asumir características mercant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. Los contratos acceso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 están incluidos, pero se analiza según el principio de accesorieda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680" y="155736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LASIFICA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ctos relativos al comercio terrestre (Nº 1 al Nº 1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relativos al comercio marítimo (Nº 13 al Nº 9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De acuerdo con el criterio mercantil emple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a) Actos para cuya calificación se atiende a la intención de la persona que los ejecuta (Nº 1 al Nº 4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b) Actos que se califican de mercantiles por ser ejecutados por una empresa (Nº 5 al Nº 9 y Nº 2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33cc"/>
                </a:solidFill>
                <a:latin typeface="Comic Sans MS"/>
              </a:rPr>
              <a:t>c) Actos que son comerciales en todo caso, sin atender a la intención de las partes que los ejecuta ni a su carácter  de empresa o también llamados actos de comercio formal (Nº 1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844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Análisis particular de los Actos de Comercio enumerados en el Art.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402000"/>
            <a:ext cx="849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22400" y="400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Comic Sans MS"/>
              </a:rPr>
              <a:t>LA COMPRA MERCANTIL (Nº1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92280"/>
            <a:ext cx="835164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1-. Que la compra verse sobre una cosa mueble (Art. 567 C.C.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Exclusión de inmue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Se incluyen muebles por anticipación (Art.571 C.C). Ejemplos: Bosque de árboles, frutos de qui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2-. La compra, se haga con ánimo de vender, permutar o arrendar esas cosas compradas, en la misma forma o en otra distint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Intención (Subjetiva)/problema probato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333cc"/>
                </a:solidFill>
                <a:latin typeface="Comic Sans MS"/>
              </a:rPr>
              <a:t>.- Debe existir al momento de la compra un ánimo de luc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6040" y="69228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249200"/>
            <a:ext cx="842472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La venta será mercantil cuando sea precedida por una compra mercantil.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ctividades primarias extractivas (pesca, agricultura, caza y minerí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.- Caso de los acuicul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.- El arrendamiento será mercantil cuando sea precedido por una compra permuta mercantil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e aplican los requisitos de la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Arrendamiento regulado por Código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681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VENTA, PERMUTA Y ARRENDAMIENTO MERCANTIL (Nº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-50760"/>
            <a:ext cx="896472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omic Sans MS"/>
              </a:rPr>
              <a:t>COMPRA DE UN ESTABLECIMIENTO DE COMER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1510560"/>
            <a:ext cx="8758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Conjunto de bienes materiales e inmate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que conforman una unidad económica dedicada al ejercicio de una actividad comercial”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(Contrer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Universalidad juríd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No se exige ganac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Import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6000" y="304920"/>
            <a:ext cx="89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ARRENDAMIENTO DE COSAS MUEBLES HECHAS CON EL ANIMOS DE SUBARRANDARLAS (Nº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040" y="2030760"/>
            <a:ext cx="8329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Noción de intermedi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Intención de lucro.(Ánimo de subarrendarl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.- Código Civil: Normas sustan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ANDATO COMERCIAL (Nº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360" y="967680"/>
            <a:ext cx="86137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omisión: Espe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andato: Gén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235. El mandato comercial toma el nombre de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omisión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cuando versa sobre una o más operaciones mercantiles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individualmente determinada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” (Lo destacado es nuestr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Mercantilidad: Naturaleza del acto encar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ndatario: Teoría de lo Acces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CTOS FORMALES DE COMERCIO (Nº 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1125360"/>
            <a:ext cx="896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Siempre son actos de comercio/Incausados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se utiliza ni actos mixtos ni principio de accesor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No dejan de ser comerciales si complementan una actividad principal civ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ONES DE BAN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Ley General de Ban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onjunto de actos juríd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- Carácter mercantil per 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5T03:15:02Z</dcterms:modified>
  <cp:revision>72</cp:revision>
  <dc:subject/>
  <dc:title>Diapositiva 1</dc:title>
</cp:coreProperties>
</file>