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AB8-D567-42CB-BAA9-F1BF1DF1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B0B-7CA1-4C78-8774-B60F9DD1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7BA-79D2-4C01-81E9-F54398A9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3D8-9CB9-4405-A4A1-37C2F413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586-B4BD-4E78-98B8-3A805B0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DD9-A648-42CA-AB22-9350385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614-F7F2-4793-80F9-0588CC8F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417-4593-4A04-B9A2-83D1E5D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201-72D4-4873-9DCD-8FA8A75B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EE6-08F8-49F9-9CEE-C18FB8F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EBB-1B7C-499C-AE5F-EF32FCC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067-90BD-423E-B0BD-6F7C2F0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3C83-1580-4993-B1CB-38915E02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</a:rPr>
              <a:t>ACTOS MERCANTILES EN EL CO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OPERACIONES DE CAMBIO, CORRETAJE Y DE BOLSA (Nº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200" y="1026360"/>
            <a:ext cx="86058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Casa de cambio: Mercan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Persona: Teoría de lo acces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ORRE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rreduría: art. 243 Cº Cio., Forma de mandato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DE DE BO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Art.39 LMV: “En entidades que tiene por objeto proveer a sus miembros la implementación necesaria para que puedan realizar eficazmente en el lugar que le proporcione, las transacciones de valores mediante mecanismos continuos de subastas y para que puedan efectuar las demás actividades de intermediación de valores que procedan en conformidad a la le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CTOS MARITI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Nº 13 AL Nº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Son siempre mercantiles, sin considerar los actos mixtos ni accesori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“El Mar mercantiliza los act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ACTOS DE COMERCIO  NO MENCIONADOSS EN EL ART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as soc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encuentra regulado en el artículo 2059 del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El contrato de cuenta corriente mercanti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ntrato intrínsecamente civil, pero que puede asumir características mercant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os contratos acceso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 están incluidos, pero se analiza según el principio de accesorie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680" y="155736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LASIFICA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ctos relativos al comercio terrestre (Nº 1 al Nº 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relativos al comercio marítimo (Nº 13 al Nº 9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De acuerdo con el criterio mercantil emple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) Actos para cuya calificación se atiende a la intención de la persona que los ejecuta (Nº 1 al Nº 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que se califican de mercantiles por ser ejecutados por una empresa (Nº 5 al Nº 9 y Nº 2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c) Actos que son comerciales en todo caso, sin atender a la intención de las partes que los ejecuta ni a su carácter  de empresa o también llamados actos de comercio formal (Nº 1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84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Análisis particular de los Actos de Comercio enumerados en el Art.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40200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22400" y="400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mic Sans MS"/>
              </a:rPr>
              <a:t>LA COMPRA MERCANTIL (Nº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92280"/>
            <a:ext cx="8351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1-. Que la compra verse sobre una cosa mueble (Art. 567 C.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Exclusión de inmue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Se incluyen muebles por anticipación (Art.571 C.C). Ejemplos: Bosque de árboles, frutos de qui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2-. La compra, se haga con ánimo de vender, permutar o arrendar esas cosas compradas, en la misma forma o en otra distint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Intención (Subjetiva)/problema proba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Debe existir al momento de la compra un ánimo de luc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69228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49200"/>
            <a:ext cx="8424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La venta será mercantil cuando sea precedida por una compra mercantil.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ctividades primarias extractivas (pesca, agricultura, caza y minerí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.- Caso de los acuicul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El arrendamiento será mercantil cuando sea precedido por una compra permuta mercantil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e aplican los requisitos de la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rrendamiento regulado por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681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VENTA, PERMUTA Y ARRENDAMIENTO MERCANTIL (Nº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-50760"/>
            <a:ext cx="896472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COMPRA DE UN ESTABLECIMIENTO DE COMER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510560"/>
            <a:ext cx="87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junto de bienes materiales e in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que conforman una unidad económica dedicada al ejercicio de una actividad comercial”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(Contrer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Universalidad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No se exige gana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Import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304920"/>
            <a:ext cx="89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ARRENDAMIENTO DE COSAS MUEBLES HECHAS CON EL ANIMOS DE SUBARRANDARLAS (Nº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40" y="2030760"/>
            <a:ext cx="83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Noción de intermed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Intención de lucro.(Ánimo de subarrendar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Código Civil: Normas sustan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ANDATO COMERCIAL (Nº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360" y="967680"/>
            <a:ext cx="8613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omisión: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andato: Gé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235. El mandato comercial toma el nombre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omisión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cuando versa sobre una o más operaciones mercantiles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ndividualmente determinad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” (Lo destacado es nuest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Mercantilidad: Naturaleza del acto enca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ndatario: Teoría de lo Acces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TOS FORMALES DE COMERCIO (Nº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12536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iempre son actos de comercio/Incausado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se utiliza ni actos mixtos ni principio de accesor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dejan de ser comerciales si complementan una actividad principal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ONES DE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Ley General de Ban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onjunto de actos juríd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arácter mercantil per 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5T03:15:02Z</dcterms:modified>
  <cp:revision>72</cp:revision>
  <dc:subject/>
  <dc:title>Diapositiva 1</dc:title>
</cp:coreProperties>
</file>