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F4E-9E0E-4A5C-A58B-3A1F3049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664-F54E-4D4C-BFDC-6003610F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5A1-D03B-4E59-84B8-A4F08D11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61E-AF16-4E3E-B604-66629915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B9A-DFB7-44E6-B55A-681202C4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54D-0D6A-4A75-97E9-43118840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016-D5A9-408C-863F-5CDEA143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FEE-C307-4340-9613-2164EAE8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3D0-4BF0-4C4A-BE58-F64B2395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9A1-DCDB-4682-813E-7EB369DE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401-72AD-4809-A571-08419933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54C-8E0E-4875-9D7D-9CC25031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108-13BD-471F-839A-B98E97AA2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</a:rPr>
              <a:t>ACTOS MERCANTILES EN EL CO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OPERACIONES DE CAMBIO, CORRETAJE Y DE BOLSA (Nº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4200" y="1026360"/>
            <a:ext cx="86058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Casa de cambio: Mercan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Persona: Teoría de lo acces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ORRE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rreduría: art. 243 Cº Cio., Forma de mandato come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DE DE BO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Art.39 LMV: “En entidades que tiene por objeto proveer a sus miembros la implementación necesaria para que puedan realizar eficazmente en el lugar que le proporcione, las transacciones de valores mediante mecanismos continuos de subastas y para que puedan efectuar las demás actividades de intermediación de valores que procedan en conformidad a la ley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CTOS MARITI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Nº 13 AL Nº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Son siempre mercantiles, sin considerar los actos mixtos ni accesori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“El Mar mercantiliza los act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168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ACTOS DE COMERCIO  NO MENCIONADOSS EN EL ART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as socie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encuentra regulado en el artículo 2059 del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El contrato de cuenta corriente mercanti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ntrato intrínsecamente civil, pero que puede asumir características mercant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os contratos acceso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o están incluidos, pero se analiza según el principio de accesorieda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680" y="155736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6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LASIFICAC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49780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ctos relativos al comercio terrestre (Nº 1 al Nº 1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relativos al comercio marítimo (Nº 13 al Nº 9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De acuerdo con el criterio mercantil emple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) Actos para cuya calificación se atiende a la intención de la persona que los ejecuta (Nº 1 al Nº 4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que se califican de mercantiles por ser ejecutados por una empresa (Nº 5 al Nº 9 y Nº 2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c) Actos que son comerciales en todo caso, sin atender a la intención de las partes que los ejecuta ni a su carácter  de empresa o también llamados actos de comercio formal (Nº 1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844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Análisis particular de los Actos de Comercio enumerados en el Art.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402000"/>
            <a:ext cx="849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22400" y="400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mic Sans MS"/>
              </a:rPr>
              <a:t>LA COMPRA MERCANTIL (Nº1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92280"/>
            <a:ext cx="83516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1-. Que la compra verse sobre una cosa mueble (Art. 567 C.C.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Exclusión de inmue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Se incluyen muebles por anticipación (Art.571 C.C). Ejemplos: Bosque de árboles, frutos de qui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2-. La compra, se haga con ánimo de vender, permutar o arrendar esas cosas compradas, en la misma forma o en otra distint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Intención (Subjetiva)/problema probato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Debe existir al momento de la compra un ánimo de luc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6040" y="69228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49200"/>
            <a:ext cx="842472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La venta será mercantil cuando sea precedida por una compra mercantil.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ctividades primarias extractivas (pesca, agricultura, caza y minerí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.- Caso de los acuicul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El arrendamiento será mercantil cuando sea precedido por una compra permuta mercantil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e aplican los requisitos de la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rrendamiento regulado por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681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VENTA, PERMUTA Y ARRENDAMIENTO MERCANTIL (Nº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-50760"/>
            <a:ext cx="896472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COMPRA DE UN ESTABLECIMIENTO DE COMER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510560"/>
            <a:ext cx="8758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junto de bienes materiales e in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que conforman una unidad económica dedicada al ejercicio de una actividad comercial”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(Contrer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Universalidad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No se exige gana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Import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168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304920"/>
            <a:ext cx="89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ARRENDAMIENTO DE COSAS MUEBLES HECHAS CON EL ANIMOS DE SUBARRANDARLAS (Nº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040" y="2030760"/>
            <a:ext cx="8329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Noción de intermed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Intención de lucro.(Ánimo de subarrendar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Código Civil: Normas sustan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ANDATO COMERCIAL (Nº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9360" y="967680"/>
            <a:ext cx="8613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omisión: Espe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andato: Gén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rt. 235. El mandato comercial toma el nombre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omisión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cuando versa sobre una o más operaciones mercantiles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ndividualmente determinada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” (Lo destacado es nuest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Mercantilidad: Naturaleza del acto encar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andatario: Teoría de lo Acces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TOS FORMALES DE COMERCIO (Nº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125360"/>
            <a:ext cx="8964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iempre son actos de comercio/Incausado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se utiliza ni actos mixtos ni principio de accesor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dejan de ser comerciales si complementan una actividad principal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ONES DE BAN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Ley General de Ban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onjunto de actos juríd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arácter mercantil per 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5T03:15:02Z</dcterms:modified>
  <cp:revision>72</cp:revision>
  <dc:subject/>
  <dc:title>Diapositiva 1</dc:title>
</cp:coreProperties>
</file>