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CA0-CADA-42D6-8727-60BF7487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3F2-3C4E-4F99-8ACD-208D2A4B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EF2-3E82-4DA6-86F5-774A690E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B5D-597B-4615-82A4-530ECEE5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1F5-63D5-4B09-AB92-3A3801A4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1F2-9789-44ED-AA7E-06861A95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493-A788-44BE-9548-AA347991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499-CB5B-48BE-83FA-645D8E36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D92-CEF6-445D-BF37-7F5B929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7BD-9D81-4709-BBB2-81FC4723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DD2-CCE2-46DE-9E0A-4D7848E8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3A0-73E0-40E0-BE31-2708029C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3551-D68E-4C3E-B504-E2699E0A2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</a:rPr>
              <a:t>ACTOS MERCANTILES EN EL CO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OPERACIONES DE CAMBIO, CORRETAJE Y DE BOLSA (Nº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200" y="1026360"/>
            <a:ext cx="86058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Casa de cambio: Mercan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Persona: Teoría de lo acces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ORRE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rreduría: art. 243 Cº Cio., Forma de mandato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DE DE BO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Art.39 LMV: “En entidades que tiene por objeto proveer a sus miembros la implementación necesaria para que puedan realizar eficazmente en el lugar que le proporcione, las transacciones de valores mediante mecanismos continuos de subastas y para que puedan efectuar las demás actividades de intermediación de valores que procedan en conformidad a la ley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CTOS MARITI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Nº 13 AL Nº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Son siempre mercantiles, sin considerar los actos mixtos ni accesori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“El Mar mercantiliza los act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168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ACTOS DE COMERCIO  NO MENCIONADOSS EN EL ART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as socie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encuentra regulado en el artículo 2059 del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El contrato de cuenta corriente mercanti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ntrato intrínsecamente civil, pero que puede asumir características mercant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os contratos acceso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o están incluidos, pero se analiza según el principio de accesorieda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680" y="155736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LASIFICA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ctos relativos al comercio terrestre (Nº 1 al Nº 1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relativos al comercio marítimo (Nº 13 al Nº 9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De acuerdo con el criterio mercantil emple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) Actos para cuya calificación se atiende a la intención de la persona que los ejecuta (Nº 1 al Nº 4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que se califican de mercantiles por ser ejecutados por una empresa (Nº 5 al Nº 9 y Nº 2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c) Actos que son comerciales en todo caso, sin atender a la intención de las partes que los ejecuta ni a su carácter  de empresa o también llamados actos de comercio formal (Nº 1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844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Análisis particular de los Actos de Comercio enumerados en el Art.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402000"/>
            <a:ext cx="84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22400" y="400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mic Sans MS"/>
              </a:rPr>
              <a:t>LA COMPRA MERCANTIL (Nº1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92280"/>
            <a:ext cx="83516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1-. Que la compra verse sobre una cosa mueble (Art. 567 C.C.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Exclusión de inmue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Se incluyen muebles por anticipación (Art.571 C.C). Ejemplos: Bosque de árboles, frutos de qui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2-. La compra, se haga con ánimo de vender, permutar o arrendar esas cosas compradas, en la misma forma o en otra distint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Intención (Subjetiva)/problema proba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Debe existir al momento de la compra un ánimo de luc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6040" y="69228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49200"/>
            <a:ext cx="842472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La venta será mercantil cuando sea precedida por una compra mercantil.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ctividades primarias extractivas (pesca, agricultura, caza y minerí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.- Caso de los acuicul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El arrendamiento será mercantil cuando sea precedido por una compra permuta mercantil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e aplican los requisitos de la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rrendamiento regulado por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681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VENTA, PERMUTA Y ARRENDAMIENTO MERCANTIL (Nº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-50760"/>
            <a:ext cx="896472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COMPRA DE UN ESTABLECIMIENTO DE COMER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510560"/>
            <a:ext cx="8758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junto de bienes materiales e in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que conforman una unidad económica dedicada al ejercicio de una actividad comercial”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(Contrer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Universalidad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No se exige gana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Import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168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304920"/>
            <a:ext cx="89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ARRENDAMIENTO DE COSAS MUEBLES HECHAS CON EL ANIMOS DE SUBARRANDARLAS (Nº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040" y="2030760"/>
            <a:ext cx="832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Noción de intermed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Intención de lucro.(Ánimo de subarrendar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Código Civil: Normas sustan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ANDATO COMERCIAL (Nº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9360" y="967680"/>
            <a:ext cx="8613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omisión: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andato: Gén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rt. 235. El mandato comercial toma el nombre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omisión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cuando versa sobre una o más operaciones mercantiles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ndividualmente determinada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” (Lo destacado es nuest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Mercantilidad: Naturaleza del acto encar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andatario: Teoría de lo Acces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TOS FORMALES DE COMERCIO (Nº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125360"/>
            <a:ext cx="8964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iempre son actos de comercio/Incausado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se utiliza ni actos mixtos ni principio de accesor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dejan de ser comerciales si complementan una actividad principal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ONES DE BAN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Ley General de Ban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onjunto de actos juríd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arácter mercantil per 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5T03:15:02Z</dcterms:modified>
  <cp:revision>72</cp:revision>
  <dc:subject/>
  <dc:title>Diapositiva 1</dc:title>
</cp:coreProperties>
</file>