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F1F-8CC4-4BA1-84D2-624DFCB7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2E0-C909-4C70-B34A-78177E10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6B7-7242-453F-B76D-2CDD0A20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751C-39E8-481B-B5F2-54C4C944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83A-D5F0-422B-8748-228AA48D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DE3-BDC8-4A3E-A186-B5787C01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AD18-F782-4023-89F6-09B63636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B3D-F113-4F63-92D7-15AECA73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22C-AE3D-4117-8AFA-868AC761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32C-E745-434E-B6E0-0A557695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05A-9516-4B5B-A9D2-B046923E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97C-E779-428D-8A79-409D42D8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2E8E-D1E0-4F93-A61B-109331808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3422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br>
              <a:rPr sz="1800"/>
            </a:br>
            <a:r>
              <a:rPr b="1" lang="es-CL" sz="18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27092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ORÍA DE LO ACCES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TOS MIX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68360" y="549360"/>
          <a:ext cx="584280" cy="11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549360"/>
                    <a:ext cx="584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EORÍA DE LO ACCESORIO Y ACTOS MIX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Accesorium sequitur principale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o accesorio sigue la suerte de lo princip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Orígenes de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n el Derecho Romano recibía aplicación a propósito de la Accesión. Así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el dueño de la cosa principal  pasa a serlo también de la cosa accesoria unida a la principal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Del Derecho romano pasa a al Código Civil Francés y desde éste al Código Civil Chileno. El Código de Comercio viene a adaptar este principio a las particularidades del Derecho Mercanti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68280"/>
            <a:ext cx="81723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CONSAGRACIÓN EN LA LEGISLACIÓN CIVIL CHIL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Derecho de las Obligaciones y Contr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. 1442 C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El contrato  es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 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cuando subsiste por sí mismo sin necesidad de otra convención, y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accesorio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cuando tiene   por objeto asegurar el cumplimiento de una obligación </a:t>
            </a:r>
            <a:r>
              <a:rPr b="1" i="1" lang="es-ES" sz="1800" spc="-1" strike="noStrike">
                <a:solidFill>
                  <a:srgbClr val="3333cc"/>
                </a:solidFill>
                <a:latin typeface="Comic Sans MS"/>
              </a:rPr>
              <a:t>principal</a:t>
            </a:r>
            <a:r>
              <a:rPr b="0" i="1" lang="es-ES" sz="1800" spc="-1" strike="noStrike">
                <a:solidFill>
                  <a:srgbClr val="3333cc"/>
                </a:solidFill>
                <a:latin typeface="Comic Sans MS"/>
              </a:rPr>
              <a:t>, de manera que no pueda subsistir sin ell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Otros artículos del C.C. : 1906, 1830,  2381 Nº 3, 2420, 2434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Bie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sa principal:  aquella que tiene una existencia y naturaleza propia 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independi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7812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846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sa accesoria: aquella cuya existencia y naturaleza está determinad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or otra cosa de la que dep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testa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120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 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i se deja parte de un predio, se entenderán legadas las servidumbres que para su goce o cultivo le sean necesarias”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En materia de Accesión como modo de adquirir el domi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643 C.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 accesión  es un modo de adquirir el dominio por el cual el dueño de una cosa principal pasa a serlo de lo que ella produce, o de lo que se junta a ell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EORIA DE LO ACCESORIO EN NUESTRO DERECHO COMER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7738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La accesoriedad representa un efecto jurídico por el cual un acto que naturalmente no es comercial, pasa a quedar regido por la legislación comercial en razón de acceder a una obligación comercial o ser realizado por un comerciante en función de su giro”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(Gonzalo Baeza Oval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El Código de Comercio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rige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obligaciones de los comerciantes que se refieran a operaciones mercanti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i="1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las que contraigan personas no comerciantes para asegurar el cumplimiento de obligaciones comerciales,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y las que resulten de contratos exclusivamente mercantiles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341360"/>
            <a:ext cx="82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0920" y="692280"/>
            <a:ext cx="78469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rt. 3 nº 1 Código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 1º … Sin embargo, no son actos de comercio la compra o permuta de objetos destinados a complementar accesoriamente las operaciones principales de una industria no comerc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Comic Sans MS"/>
              </a:rPr>
              <a:t>Interpretación a contrario sensu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: la compra o permuta que tenga como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destino complementar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cesoriamente las operaciones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principales de una industria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omercial, son actos de comer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ACTOS MIXTOS O DE DOBLE CARÁ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Concepto:  son aquellos que son mercantiles para una de las partes,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mientras que para la otra revestirán el carácter de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civiles atendiendo a la calidad de una y otra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respectiv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rt 3º inc. 1º Código de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Son actos de comercio, ya de parte de ambos contratantes, ya de parte de uno de ellos: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Problemá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¿Cómo se determina la naturaleza mercantil o civil del ac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Aplicando la Teoría de lo Acces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Legislación de fondo, existen dos criterio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Se aplica la ley del obligado, 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- La legislación que regula a la parte contra             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             quien se pretende pro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41360"/>
            <a:ext cx="687708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2:56:32Z</dcterms:created>
  <dc:creator>Angelica</dc:creator>
  <dc:description/>
  <dc:language>en-US</dc:language>
  <cp:lastModifiedBy>Elizabeth</cp:lastModifiedBy>
  <dcterms:modified xsi:type="dcterms:W3CDTF">2008-09-04T03:52:37Z</dcterms:modified>
  <cp:revision>5</cp:revision>
  <dc:subject/>
  <dc:title>TEORÍA DE LO ACCESORIO Y ACTOS MIXTOS</dc:title>
</cp:coreProperties>
</file>