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2FD-E23C-4896-A30B-362BE966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5EA-21E8-4270-B7C6-343A8DFA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87C-9972-4B66-A7F4-83E98A78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0EB-6952-41BA-BCB2-FC2F5CDA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F4F-D295-4376-AC38-7016A885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29D-F42D-48B5-B48E-4C9258E1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F86-5329-48BF-9CA1-AF6C5FEB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D49-924C-4D6C-81F9-F2EF6DD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6C0-357D-40C4-A257-C45A4687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95F-510F-483E-919F-31D1393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68E-A66B-4970-8D8C-1148A699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BE9-ED17-42FC-87F1-8821B34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E2DA-27C1-4EA2-A275-58F5EFC6E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3422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270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ORÍA DE LO ACCES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TOS MIX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68360" y="549360"/>
          <a:ext cx="5842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49360"/>
                    <a:ext cx="584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EORÍA DE LO ACCESORIO Y ACTOS MIX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0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Accesorium sequitur principal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 accesorio sigue la suerte de lo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Orígenes de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n el Derecho Romano recibía aplicación a propósito de la Accesión. Así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el dueño de la cosa principal  pasa a serlo también de la cosa accesoria unida a la principa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l Derecho romano pasa a al Código Civil Francés y desde éste al Código Civil Chileno. El Código de Comercio viene a adaptar este principio a las particularidades del Derecho Mercant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68280"/>
            <a:ext cx="817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ONSAGRACIÓN EN LA LEGISLACIÓN CIVIL CHI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Derecho de las Obligaciones y Contr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. 1442 C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El contrato  es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cuando subsiste por sí mismo sin necesidad de otra convención, y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accesorio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cuando tiene   por objeto asegurar el cumplimiento de una obligación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de manera que no pueda subsistir sin ell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Otros artículos del C.C. : 1906, 1830,  2381 Nº 3, 2420, 2434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Bi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sa principal:  aquella que tiene una existencia y naturaleza propia 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indepe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7812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846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sa accesoria: aquella cuya existencia y naturaleza está determinad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or otra cosa de la que dep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test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120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i se deja parte de un predio, se entenderán legadas las servidumbres que para su goce o cultivo le sean necesarias”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Accesión como modo de adquirir el domin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643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 accesión  es un modo de adquirir el dominio por el cual el dueño de una cosa principal pasa a serlo de lo que ella produce, o de lo que se junta a ell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EORIA DE LO ACCESORIO EN NUESTRO DERECHO COMER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38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accesoriedad representa un efecto jurídico por el cual un acto que naturalmente no es comercial, pasa a quedar regido por la legislación comercial en razón de acceder a una obligación comercial o ser realizado por un comerciante en función de su giro”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Gonzalo Baeza Ova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El Código de Comercio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rige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obligaciones de los comerciantes que se refieran a operaciones mercanti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que contraigan personas no comerciantes para asegurar el cumplimiento de obligaciones comercia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y las que resulten de contratos exclusivamente mercantiles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41360"/>
            <a:ext cx="82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7846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3 nº 1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 1º … Sin embargo, no son actos de comercio la compra o permuta de objetos destinados a complementar accesoriamente las operaciones principales de una industria no comerc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Interpretación a contrario sensu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: la compra o permuta que tenga com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stino complementa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cesoriamente las operaciones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rincipales de una industri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ercial, son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TOS MIXTOS O DE DOBLE CARÁ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ncepto:  son aquellos que son mercantiles para una de las partes,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mientras que para la otra revestirán el carácter d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civiles atendiendo a la calidad de una y otra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 3º inc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roblemá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¿Cómo se determina la naturaleza mercantil o civil del ac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plicando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egislación de fondo, existen dos criteri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Se aplica la ley del obligado, 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La legislación que regula a la parte contra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quien se pretende pro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41360"/>
            <a:ext cx="6877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2:56:32Z</dcterms:created>
  <dc:creator>Angelica</dc:creator>
  <dc:description/>
  <dc:language>en-US</dc:language>
  <cp:lastModifiedBy>Elizabeth</cp:lastModifiedBy>
  <dcterms:modified xsi:type="dcterms:W3CDTF">2008-09-04T03:52:37Z</dcterms:modified>
  <cp:revision>5</cp:revision>
  <dc:subject/>
  <dc:title>TEORÍA DE LO ACCESORIO Y ACTOS MIXTOS</dc:title>
</cp:coreProperties>
</file>