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C464-0D5D-4E85-9FB9-AC90490D4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41EF-21BC-45CE-AEE1-347C61F2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6859-8B69-4268-A116-7924D70A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C79E-63DD-4BAC-A5C9-C2CE0DBD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03DF-6C45-4145-90DE-04DF3755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D5BC-6C5B-4F8D-81BA-58376B00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58D1-2F4B-4E58-82AC-88175916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9353-0FB0-475B-9D0C-C035C62D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153F-2716-4321-A1AA-19FC4D1E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14EC-3653-4C1E-B762-F6BA4EB4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4233-23ED-418F-A8F5-FA4C05C0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F92C-4FBF-4772-9039-25787132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2C4D-8C6D-4AF5-9AEB-F91087126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5640" y="691920"/>
            <a:ext cx="73422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br>
              <a:rPr sz="1800"/>
            </a:br>
            <a:r>
              <a:rPr b="1" lang="es-CL" sz="18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br>
              <a:rPr sz="1800"/>
            </a:br>
            <a:r>
              <a:rPr b="1" lang="es-CL" sz="1800" spc="-1" strike="noStrike">
                <a:solidFill>
                  <a:srgbClr val="3333cc"/>
                </a:solidFill>
                <a:latin typeface="Times New Roman"/>
              </a:rPr>
              <a:t>Derecho Comercial </a:t>
            </a:r>
            <a:br>
              <a:rPr sz="1800"/>
            </a:br>
            <a:r>
              <a:rPr b="1" lang="es-CL" sz="18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2709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ORÍA DE LO ACCESOR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CTOS MIX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3640" y="220500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468360" y="549360"/>
          <a:ext cx="584280" cy="11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549360"/>
                    <a:ext cx="5842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EORÍA DE LO ACCESORIO Y ACTOS MIX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360" y="1773000"/>
            <a:ext cx="7704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Accesorium sequitur principale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Lo accesorio sigue la suerte de lo princip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</a:rPr>
              <a:t>Orígenes de la teoría de lo acces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En el Derecho Romano recibía aplicación a propósito de la Accesión. Así </a:t>
            </a: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“el dueño de la cosa principal  pasa a serlo también de la cosa accesoria unida a la principal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Del Derecho romano pasa a al Código Civil Francés y desde éste al Código Civil Chileno. El Código de Comercio viene a adaptar este principio a las particularidades del Derecho Mercanti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68280"/>
            <a:ext cx="81723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CONSAGRACIÓN EN LA LEGISLACIÓN CIVIL CHIL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Derecho de las Obligaciones y Contra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Art. 1442 C.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El contrato  es </a:t>
            </a:r>
            <a:r>
              <a:rPr b="1" i="1" lang="es-ES" sz="1800" spc="-1" strike="noStrike">
                <a:solidFill>
                  <a:srgbClr val="3333cc"/>
                </a:solidFill>
                <a:latin typeface="Comic Sans MS"/>
              </a:rPr>
              <a:t>principal </a:t>
            </a: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cuando subsiste por sí mismo sin necesidad de otra convención, y </a:t>
            </a:r>
            <a:r>
              <a:rPr b="1" i="1" lang="es-ES" sz="1800" spc="-1" strike="noStrike">
                <a:solidFill>
                  <a:srgbClr val="3333cc"/>
                </a:solidFill>
                <a:latin typeface="Comic Sans MS"/>
              </a:rPr>
              <a:t>accesorio</a:t>
            </a: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, cuando tiene   por objeto asegurar el cumplimiento de una obligación </a:t>
            </a:r>
            <a:r>
              <a:rPr b="1" i="1" lang="es-ES" sz="1800" spc="-1" strike="noStrike">
                <a:solidFill>
                  <a:srgbClr val="3333cc"/>
                </a:solidFill>
                <a:latin typeface="Comic Sans MS"/>
              </a:rPr>
              <a:t>principal</a:t>
            </a: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, de manera que no pueda subsistir sin ella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Otros artículos del C.C. : 1906, 1830,  2381 Nº 3, 2420, 2434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materia de Bie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Cosa principal:  aquella que tiene una existencia y naturaleza propia e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independi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341360"/>
            <a:ext cx="78120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10920" y="620280"/>
            <a:ext cx="78469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sa accesoria: aquella cuya existencia y naturaleza está determinada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por otra cosa de la que depen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materia de testa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rt. 1120 C.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“ 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Si se deja parte de un predio, se entenderán legadas las servidumbres que para su goce o cultivo le sean necesarias”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materia de Accesión como modo de adquirir el domin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rt. 643 C.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La  accesión  es un modo de adquirir el dominio por el cual el dueño de una cosa principal pasa a serlo de lo que ella produce, o de lo que se junta a ell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EORIA DE LO ACCESORIO EN NUESTRO DERECHO COMERC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777384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La accesoriedad representa un efecto jurídico por el cual un acto que naturalmente no es comercial, pasa a quedar regido por la legislación comercial en razón de acceder a una obligación comercial o ser realizado por un comerciante en función de su giro”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Gonzalo Baeza Oval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rt. 1º Código de Come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El Código de Comercio 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rige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las obligaciones de los comerciantes que se refieran a operaciones mercantiles,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las que contraigan personas no comerciantes para asegurar el cumplimiento de obligaciones comerciales,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 y las que resulten de contratos exclusivamente mercantiles”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341360"/>
            <a:ext cx="82440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10920" y="692280"/>
            <a:ext cx="784692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rt. 3 nº 1 Código de Comer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Son actos de comercio, ya de parte de ambos contratantes, ya de parte de uno de ellos: 1º … Sin embargo, no son actos de comercio la compra o permuta de objetos destinados a complementar accesoriamente las operaciones principales de una industria no comercia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Interpretación a contrario sensu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: la compra o permuta que tenga como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estino complementar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ccesoriamente las operaciones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principales de una industria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mercial, son actos de comer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CTOS MIXTOS O DE DOBLE CARÁ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Concepto:  son aquellos que son mercantiles para una de las partes,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    mientras que para la otra revestirán el carácter de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    civiles atendiendo a la calidad de una y otra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    respectiva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Art 3º inc. 1º Código de Come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Son actos de comercio, ya de parte de ambos contratantes, ya de parte de uno de ellos: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Problemát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¿Cómo se determina la naturaleza mercantil o civil del ac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Aplicando la Teoría de lo Acces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Legislación de fondo, existen dos criteri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-Se aplica la ley del obligado, 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 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- La legislación que regula a la parte contra         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        quien se pretende prob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341360"/>
            <a:ext cx="68770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02:56:32Z</dcterms:created>
  <dc:creator>Angelica</dc:creator>
  <dc:description/>
  <dc:language>en-US</dc:language>
  <cp:lastModifiedBy>Elizabeth</cp:lastModifiedBy>
  <dcterms:modified xsi:type="dcterms:W3CDTF">2008-09-04T03:52:37Z</dcterms:modified>
  <cp:revision>5</cp:revision>
  <dc:subject/>
  <dc:title>TEORÍA DE LO ACCESORIO Y ACTOS MIXTOS</dc:title>
</cp:coreProperties>
</file>