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9BA-4026-48C9-895D-E0A5B1AD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96A-A07A-4F02-A27B-3BCBBEFE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036-A6FC-42BC-A7DE-37D8E98E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B00-84EB-43FB-8555-8BCEA1C8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864-82B4-4B62-8E0A-62EFC5AC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F43-F35B-47E2-8E92-CA0DD870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58B-DF50-432C-A5F7-05AC2DF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4BA-D041-4EFC-84BD-B156DE7C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8F3-5433-46AA-863B-3664854E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AB9-5125-44CB-8A43-D11AB083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F51-9CF3-4FD6-9941-A58AC122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8FB-7BBB-4987-B169-8983DED1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F357-8366-432F-B5E0-405809EAE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3422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270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ORÍA DE LO ACCES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CTOS MIX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68360" y="549360"/>
          <a:ext cx="5842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49360"/>
                    <a:ext cx="584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EORÍA DE LO ACCESORIO Y ACTOS MIX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70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Accesorium sequitur principal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 accesorio sigue la suerte de lo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Orígenes de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n el Derecho Romano recibía aplicación a propósito de la Accesión. Así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el dueño de la cosa principal  pasa a serlo también de la cosa accesoria unida a la principa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l Derecho romano pasa a al Código Civil Francés y desde éste al Código Civil Chileno. El Código de Comercio viene a adaptar este principio a las particularidades del Derecho Mercant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68280"/>
            <a:ext cx="8172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ONSAGRACIÓN EN LA LEGISLACIÓN CIVIL CHIL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Derecho de las Obligaciones y Contr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. 1442 C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El contrato  es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cuando subsiste por sí mismo sin necesidad de otra convención, y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accesorio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cuando tiene   por objeto asegurar el cumplimiento de una obligación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de manera que no pueda subsistir sin ell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Otros artículos del C.C. : 1906, 1830,  2381 Nº 3, 2420, 2434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Bi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sa principal:  aquella que tiene una existencia y naturaleza propia 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indepe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7812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846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sa accesoria: aquella cuya existencia y naturaleza está determinad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or otra cosa de la que depe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test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120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i se deja parte de un predio, se entenderán legadas las servidumbres que para su goce o cultivo le sean necesarias”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Accesión como modo de adquirir el domin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643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 accesión  es un modo de adquirir el dominio por el cual el dueño de una cosa principal pasa a serlo de lo que ella produce, o de lo que se junta a ell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EORIA DE LO ACCESORIO EN NUESTRO DERECHO COMER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38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accesoriedad representa un efecto jurídico por el cual un acto que naturalmente no es comercial, pasa a quedar regido por la legislación comercial en razón de acceder a una obligación comercial o ser realizado por un comerciante en función de su giro”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Gonzalo Baeza Oval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El Código de Comercio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rige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obligaciones de los comerciantes que se refieran a operaciones mercanti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que contraigan personas no comerciantes para asegurar el cumplimiento de obligaciones comercia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y las que resulten de contratos exclusivamente mercantiles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41360"/>
            <a:ext cx="82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7846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3 nº 1 Código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 1º … Sin embargo, no son actos de comercio la compra o permuta de objetos destinados a complementar accesoriamente las operaciones principales de una industria no comerc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Interpretación a contrario sensu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: la compra o permuta que tenga com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stino complementa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cesoriamente las operaciones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rincipales de una industri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ercial, son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TOS MIXTOS O DE DOBLE CARÁ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ncepto:  son aquellos que son mercantiles para una de las partes,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mientras que para la otra revestirán el carácter d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civiles atendiendo a la calidad de una y otra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 3º inc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Problemá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¿Cómo se determina la naturaleza mercantil o civil del ac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plicando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egislación de fondo, existen dos criteri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Se aplica la ley del obligado, 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La legislación que regula a la parte contra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quien se pretende pro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41360"/>
            <a:ext cx="6877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2:56:32Z</dcterms:created>
  <dc:creator>Angelica</dc:creator>
  <dc:description/>
  <dc:language>en-US</dc:language>
  <cp:lastModifiedBy>Elizabeth</cp:lastModifiedBy>
  <dcterms:modified xsi:type="dcterms:W3CDTF">2008-09-04T03:52:37Z</dcterms:modified>
  <cp:revision>5</cp:revision>
  <dc:subject/>
  <dc:title>TEORÍA DE LO ACCESORIO Y ACTOS MIXTOS</dc:title>
</cp:coreProperties>
</file>