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FD7-F13F-46FD-9D1D-EADAFDE8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480-C466-41DB-A19A-1A3F867F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D29-A848-45C7-8FE8-D1080F12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461-10D8-47EF-B972-ED98FFFF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DD8-87EE-48E7-8568-9A9E2D0F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4D6-8EAC-45A6-BA72-D9A7F642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D57-5AA2-4482-993B-BF76623E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A4E-F1CD-4BFE-8575-52C08C82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E62-30F2-4E57-9FBB-0E986E3A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ED1-80AD-4A52-83A8-06E79A00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8ED-41C7-4212-8A1F-F448C4BC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FE0-4BFC-42C6-B0BC-AF7DAA7F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8B67-F9AB-4D23-94DA-174EE2C73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8960" y="200160"/>
            <a:ext cx="499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: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LOS ACTOS DE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8900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IMPORTANCIA DE DETERMINAR EL CARÁCTER MERCANTIL O CIVIL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981000"/>
            <a:ext cx="7777080" cy="68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3. Para los fines profesi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finición de comerciante del artículo 7,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on comerciantes los que, teniendo capacidad para contratar, hacen del comercio su profesión habitual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fectos de la calificación de comerci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4. Respecto de la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xistencia de reglas especiales en el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4724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890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IMPORTANCIA DE DETERMINAR EL CARÁCTER MERCANTIL O CIVIL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981000"/>
            <a:ext cx="785016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5. Para los efectos de la Ley de Quiebras 18.17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mportancia de la determinación de la calidad de comerc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ara la aplicación de las disposiciones normativas especiales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contempla la ley 18.17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6. Para fines tribu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mportancia en relación a la aplicación del 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7. Para los efectos de protección del consum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mbito de aplicación de la ley 19.496 y los actos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ANTECEDENTES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89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volución histó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xistencia de dos etapas primordi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Derecho Comercial vinculado al comerci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Derecho Comercial aplicable a todas las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b) Importancia de los actos de comer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Forma de determinar el ámbito de aplicación del Derecho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Reconocimiento de las tesis subjetiva, intermedia u objetiva de mercanti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EFINICIÓN DE ACTO DE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7777080" cy="51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finic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os actos de comercio son aquellos que de conformidad a la ley son actos de comercio, nosotros diremos, siguiendo nuestra tesis. Que las actividades de comercio son las que la ley dice 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que s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ificultades al definir una noción de acto de comercio. Consideración del acto de comercio como “categoría legislativ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Tratamiento de los actos de comercio en el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ELEMENTOS DE LA MERCAN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844640"/>
            <a:ext cx="7777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uc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ntermediación entre productores y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celeración del proces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Críticas de George Rip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900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MECANISMOS COMPLEMENTARIOS AL SISTEMA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97000"/>
            <a:ext cx="7777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1. Calificación legal y el rol de la autonomía de la volun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1.1. Posición de Ricardo Sandoval Lópe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) Autonomía de la voluntad limitada por la mercant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i) El carácter excepcional del Derech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1.2. Posición de Gonzalo Baeza Ova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) La autonomía de la voluntad en el Derech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i) El carácter especial del Derech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89000"/>
            <a:ext cx="73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MECANISMOS COMPLEMENTARIOS AL SISTEMA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981000"/>
            <a:ext cx="7777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2. La Teoría de lo Acces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rincipio en virtud del cual se le atribuye carácter mercantil a los actos que por su naturaleza no lo son, y que están destinados a “complementar accesoriamente” una actividad mercan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3. Actos mixtos o de doble carác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ctos realizados entre parte comerciante, para quien el acto será comercial, y otra parte no comerciante, para quien el acto será de carácter civ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4. El problema de la mercantilidad de los inmue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xclusión de los actos sobre inmuebles por oponerse a la celeridad del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CLASIFICACIÓN DE LOS ACTOS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052640"/>
            <a:ext cx="777708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Comic Sans MS"/>
              </a:rPr>
              <a:t>Según el lugar en el que se ejecu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1.1 Actos relativos al comercio terrestre. Art.3 nºs 1 al 12 inclus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1.2 Actos relativos al comercio marítimo. Art.3 nºs 13 al 19 inclus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Comic Sans MS"/>
              </a:rPr>
              <a:t>Según el criterio de mercantilidad emple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1 Actos para cuya clasificación se atiende a la intención de la persona que lo ejecuta. Art.3 nºs 1 al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2 Actos que se clasifican de mercantiles por ser ejecutados por una empresa. Art.3 nºs 5 a 9 inclusive, y 2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3 Actos formales de comercio. Art.3 nº 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4 Actos según el criterio de intermediación. Art.3 nºs 11 y 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ANÁLISIS DE DERECHO COMPA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907920"/>
            <a:ext cx="77770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Doctrina francesa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Jean Guye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1.1 Actos de comercio 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) Actos de comercio por su naturaleza o fin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i) Actos objetivos en razón de su for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1.2 Actos de comercio su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2. Lyon-Caen et Ren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2.1 Actos de comercio absolu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2.2 Actos de comercio rel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IMPORTANCIA DE DETERMINAR EL CARÁCTER MERCANTIL O CIVIL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907920"/>
            <a:ext cx="777708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ara la legislación de fondo aplic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égimen normativo determinado por la naturaleza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ara los efectos probato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Reglas especiales para acreditar la existencia del acto de comer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La prueba testimonial del artículo 129,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Valor de los libros de contabilidad como medio prob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4T02:55:20Z</dcterms:modified>
  <cp:revision>70</cp:revision>
  <dc:subject/>
  <dc:title>Diapositiva 1</dc:title>
</cp:coreProperties>
</file>