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C3C8-E77E-4F28-902E-146C28F4D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DD21-8F8B-45B1-A5FC-A30AA4CC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9714-989F-430A-8DAE-8B9AABE2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04A1-66CD-468D-95FB-1E2CB9E8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BCBB-6E02-4440-9C91-40A59293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228F-4328-4737-B84D-8BDCBC51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45DA-077A-42A5-8DA2-B55B3476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DD1D-C8E7-4437-B9A9-3B5FE5B1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616C-1B22-455A-92A0-460C0D8B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4D57-D607-4B4B-B34D-C092132E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3EFF-4949-4807-8BFE-5F5B4488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C7B1-C748-4490-81A8-97EE8CDE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E5B3-38F7-4CF8-830B-B3BD3AB29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8960" y="200160"/>
            <a:ext cx="499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: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LOS ACTOS DE 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89000"/>
            <a:ext cx="73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IMPORTANCIA DE DETERMINAR EL CARÁCTER MERCANTIL O CIVIL DEL A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981000"/>
            <a:ext cx="7777080" cy="68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3. Para los fines profesion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Definición de comerciante del artículo 7, Código de Comer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Son comerciantes los que, teniendo capacidad para contratar, hacen del comercio su profesión habitual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Efectos de la calificación de comerci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4. Respecto de la capac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Existencia de reglas especiales en el Código de Comer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472428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189000"/>
            <a:ext cx="73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IMPORTANCIA DE DETERMINAR EL CARÁCTER MERCANTIL O CIVIL DEL A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981000"/>
            <a:ext cx="785016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5. Para los efectos de la Ley de Quiebras 18.175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Importancia de la determinación de la calidad de comerci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para la aplicación de las disposiciones normativas especiales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contempla la ley 18.17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6. Para fines tributar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Importancia en relación a la aplicación del I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7. Para los efectos de protección del consumid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Ambito de aplicación de la ley 19.496 y los actos de comer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ANTECEDENTES GENE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981000"/>
            <a:ext cx="7777080" cy="89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Evolución histó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Existencia de dos etapas primordi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49536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El Derecho Comercial vinculado al comerci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49536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El Derecho Comercial aplicable a todas las perso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b) Importancia de los actos de comer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- Forma de determinar el ámbito de aplicación del Derecho Comer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- Reconocimiento de las tesis subjetiva, intermedia u objetiva de mercantiliz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30492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DEFINICIÓN DE ACTO DE COMER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413000"/>
            <a:ext cx="7777080" cy="51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Definició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Los actos de comercio son aquellos que de conformidad a la ley son actos de comercio, nosotros diremos, siguiendo nuestra tesis. Que las actividades de comercio son las que la ley dice 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que s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Dificultades al definir una noción de acto de comercio. Consideración del acto de comercio como “categoría legislativa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Tratamiento de los actos de comercio en el Código de Comer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920" y="30492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ELEMENTOS DE LA MERCANT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844640"/>
            <a:ext cx="77774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buClr>
                <a:srgbClr val="3333cc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Luc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buClr>
                <a:srgbClr val="3333cc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buClr>
                <a:srgbClr val="3333cc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Intermediación entre productores y consumi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buClr>
                <a:srgbClr val="3333cc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buClr>
                <a:srgbClr val="3333cc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Aceleración del proceso produc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buClr>
                <a:srgbClr val="3333cc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buClr>
                <a:srgbClr val="3333cc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La empre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buClr>
                <a:srgbClr val="3333cc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- Críticas de George Ripe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189000"/>
            <a:ext cx="73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MECANISMOS COMPLEMENTARIOS AL SISTEMA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1197000"/>
            <a:ext cx="77770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1. Calificación legal y el rol de la autonomía de la volun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1.1. Posición de Ricardo Sandoval Lópe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i) Autonomía de la voluntad limitada por la mercanti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ii) El carácter excepcional del Derecho Comerc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1.2. Posición de Gonzalo Baeza Oval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i) La autonomía de la voluntad en el Derecho Comerc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ii) El carácter especial del Derecho Comerc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89000"/>
            <a:ext cx="738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MECANISMOS COMPLEMENTARIOS AL SISTEMA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981000"/>
            <a:ext cx="7777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2. La Teoría de lo Acceso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Principio en virtud del cual se le atribuye carácter mercantil a los actos que por su naturaleza no lo son, y que están destinados a “complementar accesoriamente” una actividad mercant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3. Actos mixtos o de doble carác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Actos realizados entre parte comerciante, para quien el acto será comercial, y otra parte no comerciante, para quien el acto será de carácter civ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4. El problema de la mercantilidad de los inmue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Exclusión de los actos sobre inmuebles por oponerse a la celeridad del comer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CLASIFICACIÓN DE LOS ACTOS DE COMER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052640"/>
            <a:ext cx="7777080" cy="50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Comic Sans MS"/>
              </a:rPr>
              <a:t>Según el lugar en el que se ejecu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1.1 Actos relativos al comercio terrestre. Art.3 nºs 1 al 12 inclus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1.2 Actos relativos al comercio marítimo. Art.3 nºs 13 al 19 inclus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Comic Sans MS"/>
              </a:rPr>
              <a:t>Según el criterio de mercantilidad emple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2.1 Actos para cuya clasificación se atiende a la intención de la persona que lo ejecuta. Art.3 nºs 1 al 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2.2 Actos que se clasifican de mercantiles por ser ejecutados por una empresa. Art.3 nºs 5 a 9 inclusive, y 2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2.3 Actos formales de comercio. Art.3 nº 1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2.4 Actos según el criterio de intermediación. Art.3 nºs 11 y 1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ANÁLISIS DE DERECHO COMPA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907920"/>
            <a:ext cx="7777080" cy="57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Doctrina francesa: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Jean Guye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1.1 Actos de comercio obje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i) Actos de comercio por su naturaleza o fina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ii) Actos objetivos en razón de su for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1.2 Actos de comercio subje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2. Lyon-Caen et Ren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2.1 Actos de comercio absolu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2.2 Actos de comercio rela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60280"/>
            <a:ext cx="73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IMPORTANCIA DE DETERMINAR EL CARÁCTER MERCANTIL O CIVIL DEL A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907920"/>
            <a:ext cx="7777080" cy="51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Para la legislación de fondo aplic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égimen normativo determinado por la naturaleza del a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Para los efectos probator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- Reglas especiales para acreditar la existencia del acto de comerc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- La prueba testimonial del artículo 129, Código de Comer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- Valor de los libros de contabilidad como medio probato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09-04T02:55:20Z</dcterms:modified>
  <cp:revision>70</cp:revision>
  <dc:subject/>
  <dc:title>Diapositiva 1</dc:title>
</cp:coreProperties>
</file>