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86C7-18F7-4E07-931B-D58F30E4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433C-FD4B-45D2-834D-76A7B179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C43-419B-458B-917A-545A075A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59FF-3958-4819-9E2A-D417D469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E003-C03E-4E76-BF61-BF6D68B3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A2FB-776A-4556-B1B6-D421FEBD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B8F0-882A-4711-BF73-2E18764F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E00-7CB1-4BFB-8CA2-33AA7375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5131-4271-49BE-A522-35B7F57F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B1F-5A5E-4E90-BBAE-677212E8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31DB-384F-447E-A6D1-4C1F19B9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0DE5-5D34-43CB-9B09-82998C70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1890-E09E-4A95-B64F-D2D6E67A0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8960" y="200160"/>
            <a:ext cx="499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: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LOS ACTOS DE 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89000"/>
            <a:ext cx="73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IMPORTANCIA DE DETERMINAR EL CARÁCTER MERCANTIL O CIVIL DEL A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981000"/>
            <a:ext cx="7777080" cy="68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3. Para los fines profesio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Definición de comerciante del artículo 7, Códig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Son comerciantes los que, teniendo capacidad para contratar, hacen del comercio su profesión habitual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fectos de la calificación de comerci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4. Respecto de la capa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xistencia de reglas especiales en el Códig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472428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8900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IMPORTANCIA DE DETERMINAR EL CARÁCTER MERCANTIL O CIVIL DEL A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981000"/>
            <a:ext cx="785016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5. Para los efectos de la Ley de Quiebras 18.17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mportancia de la determinación de la calidad de comerci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para la aplicación de las disposiciones normativas especiales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contempla la ley 18.17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6. Para fines tribut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mportancia en relación a la aplicación del 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7. Para los efectos de protección del consumi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mbito de aplicación de la ley 19.496 y los actos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ANTECEDENTES GENE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7777080" cy="89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Evolución histó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xistencia de dos etapas primordi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l Derecho Comercial vinculado al comerci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l Derecho Comercial aplicable a todas las perso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b) Importancia de los actos de comer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Forma de determinar el ámbito de aplicación del Derecho Come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Reconocimiento de las tesis subjetiva, intermedia u objetiva de mercantil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EFINICIÓN DE ACTO DE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413000"/>
            <a:ext cx="7777080" cy="51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Definic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os actos de comercio son aquellos que de conformidad a la ley son actos de comercio, nosotros diremos, siguiendo nuestra tesis. Que las actividades de comercio son las que la ley dice 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que s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Dificultades al definir una noción de acto de comercio. Consideración del acto de comercio como “categoría legislativ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Tratamiento de los actos de comercio en el Códig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30492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ELEMENTOS DE LA MERCAN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844640"/>
            <a:ext cx="7777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Luc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ntermediación entre productores y consumi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celeración del proceso produc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La empre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buClr>
                <a:srgbClr val="3333cc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Críticas de George Rip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89000"/>
            <a:ext cx="73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MECANISMOS COMPLEMENTARIOS AL SISTEMA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197000"/>
            <a:ext cx="7777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1. Calificación legal y el rol de la autonomía de la volun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1.1. Posición de Ricardo Sandoval Lópe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) Autonomía de la voluntad limitada por la mercanti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i) El carácter excepcional del Derecho Comer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1.2. Posición de Gonzalo Baeza Ova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) La autonomía de la voluntad en el Derecho Comer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ii) El carácter especial del Derecho Comer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89000"/>
            <a:ext cx="738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MECANISMOS COMPLEMENTARIOS AL SISTEMA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981000"/>
            <a:ext cx="7777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2. La Teoría de lo Acceso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Principio en virtud del cual se le atribuye carácter mercantil a los actos que por su naturaleza no lo son, y que están destinados a “complementar accesoriamente” una actividad mercant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3. Actos mixtos o de doble carác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Actos realizados entre parte comerciante, para quien el acto será comercial, y otra parte no comerciante, para quien el acto será de carácter civ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4. El problema de la mercantilidad de los inmue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Exclusión de los actos sobre inmuebles por oponerse a la celeridad del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CLASIFICACIÓN DE LOS ACTOS DE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052640"/>
            <a:ext cx="777708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Comic Sans MS"/>
              </a:rPr>
              <a:t>Según el lugar en el que se ejecu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1.1 Actos relativos al comercio terrestre. Art.3 nºs 1 al 12 inclus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1.2 Actos relativos al comercio marítimo. Art.3 nºs 13 al 19 inclus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Comic Sans MS"/>
              </a:rPr>
              <a:t>Según el criterio de mercantilidad emple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2.1 Actos para cuya clasificación se atiende a la intención de la persona que lo ejecuta. Art.3 nºs 1 al 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2.2 Actos que se clasifican de mercantiles por ser ejecutados por una empresa. Art.3 nºs 5 a 9 inclusive, y 2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2.3 Actos formales de comercio. Art.3 nº 1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2.4 Actos según el criterio de intermediación. Art.3 nºs 11 y 1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ANÁLISIS DE DERECHO COMPA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907920"/>
            <a:ext cx="777708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Doctrina francesa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Jean Guyen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1.1 Actos de comercio obje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i) Actos de comercio por su naturaleza o fin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ii) Actos objetivos en razón de su for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1.2 Actos de comercio subje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2. Lyon-Caen et Ren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2.1 Actos de comercio absolu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2.2 Actos de comercio rela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60280"/>
            <a:ext cx="73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IMPORTANCIA DE DETERMINAR EL CARÁCTER MERCANTIL O CIVIL DEL A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907920"/>
            <a:ext cx="777708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Para la legislación de fondo aplic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égimen normativo determinado por la naturaleza del a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ara los efectos probato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Reglas especiales para acreditar la existencia del acto de comer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La prueba testimonial del artículo 129, Códig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- Valor de los libros de contabilidad como medio probato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09-04T02:55:20Z</dcterms:modified>
  <cp:revision>70</cp:revision>
  <dc:subject/>
  <dc:title>Diapositiva 1</dc:title>
</cp:coreProperties>
</file>