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F25-6FC6-4B7C-881D-8C6EDF0B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547-1367-44AF-8E6F-B0779DE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98-AF1D-4144-ACEB-13EE13EA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82D-7F2D-4371-92FD-42ADA1A0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0FA-CE17-4725-B7ED-9294DA8E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804-FB4F-490F-9271-CD32249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B90-A2C9-42D5-B5CD-B531DDC6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537-59FE-46B4-9AD7-F329944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421-326B-474F-A731-FA7FFDE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B2-C289-4AC2-BD02-4D8646D5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1EE0-D4CF-4096-AE95-76427422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C7E-8360-4DDF-A715-AED0B17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22E3-24F5-48B4-B7C6-5CE2F991B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960" y="200160"/>
            <a:ext cx="49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: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LOS ACTOS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981000"/>
            <a:ext cx="7777080" cy="68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Para los fines profes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 de comerciante del artículo 7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on comerciantes los que, teniendo capacidad para contratar, hacen del comercio su profesión habitua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fectos de la calificación de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Respecto de la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reglas especiales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724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890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8501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5. Para los efectos de la Ley de Quiebras 18.17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de la determinación de la calidad de comerc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aplicación de las disposiciones normativas especiales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empla la ley 18.17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6. Para fines tribu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en relación a la aplicación del 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7. Para los efectos de protección del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mbito de aplicación de la ley 19.496 y los actos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ANTECEDENTE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89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volución histó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dos etapas primord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vinculado al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aplicable a todas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b) Importancia de los actos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Forma de determinar el ámbito de aplicación del Derech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conocimiento de las tesis subjetiva, intermedia u objetiva de mercan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FINICIÓN DE ACT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777708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os actos de comercio son aquellos que de conformidad a la ley son actos de comercio, nosotros diremos, siguiendo nuestra tesis. Que las actividades de comercio son las que la ley dice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que s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ificultades al definir una noción de acto de comercio. Consideración del acto de comercio como “categoría legislati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atamiento de los actos de comercio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ELEMENTOS DE LA MERCAN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7777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uc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termediación entre productores y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eleración del proces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Críticas de George Rip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97000"/>
            <a:ext cx="7777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 Calificación legal y el rol de la autonomía de la volun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1. Posición de Ricardo Sandoval Lóp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Autonomía de la voluntad limitada por la mercant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xcepcion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2. Posición de Gonzalo Baeza O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La autonomía de la voluntad en 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speci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89000"/>
            <a:ext cx="73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100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2. La Teoría de lo Acces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incipio en virtud del cual se le atribuye carácter mercantil a los actos que por su naturaleza no lo son, y que están destinados a “complementar accesoriamente” una actividad mercan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Actos mixtos o de doble cará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tos realizados entre parte comerciante, para quien el acto será comercial, y otra parte no comerciante, para quien el acto será de carácter civ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El problema de la mercantilidad de los inmue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clusión de los actos sobre inmuebles por oponerse a la celeridad del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LASIFICACIÓN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77770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lugar en el que se ejec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1 Actos relativos al comercio terrestre. Art.3 nºs 1 al 12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2 Actos relativos al comercio marítimo. Art.3 nºs 13 al 19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criterio de mercantilidad emple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1 Actos para cuya clasificación se atiende a la intención de la persona que lo ejecuta. Art.3 nºs 1 al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2 Actos que se clasifican de mercantiles por ser ejecutados por una empresa. Art.3 nºs 5 a 9 inclusive, y 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3 Actos formales de comercio. Art.3 nº 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4 Actos según el criterio de intermediación. Art.3 nºs 11 y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ÁLISIS DE DERECHO COMPA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07920"/>
            <a:ext cx="77770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ctrina francesa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ean Guye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1 Actos de comercio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) Actos de comercio por su naturaleza o fi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i) Actos objetivos en razón de su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2 Actos de comercio su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 Lyon-Caen et Ren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1 Actos de comercio absol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2 Actos de comercio rel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7777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legislación de fondo apl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égimen normativo determinado por la naturaleza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ara los efectos probato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glas especiales para acreditar la existencia del acto de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La prueba testimonial del artículo 129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Valor de los libros de contabilidad como medio prob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5:20Z</dcterms:modified>
  <cp:revision>70</cp:revision>
  <dc:subject/>
  <dc:title>Diapositiva 1</dc:title>
</cp:coreProperties>
</file>