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826-0C00-4D42-992A-A0BB09C0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7ED-CC80-48B3-B8FB-3A92CDE8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C3F3-2D30-4DB7-8B77-F9430918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F98-1E71-4AE9-9C09-F8856028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47E7-573B-4D02-8C5E-A4A64379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D95-9E13-4597-A175-F175957D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CA5-EA61-42F7-A6FF-6E8E63C7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18F-B19D-4122-827F-BEAEDA5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DCE-6C00-4BD5-A53D-81F9FFA8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DA1-149D-4CE4-9D7F-8E7ABDB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BE4-1D64-4ECD-9471-CB734E0B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736-3463-4B54-82F9-8017DA6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33CD-BC20-4B12-9BB6-59A76E50B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FUENTES DEL DERECHO COMERCIAL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53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ódigo de Comercio (Art. 1) y las   Leyes Comerciales que lo complemen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letras de cambio y paga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18175 de quie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de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sobre sociedades de Responsabilidad  Lt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ey General de Bancos, entre ot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entró a regir el 11 de Enero de 1867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Las leyes mercantiles complementarias poseen un rol importantísimo en el proceso de actualización y modernización del Código de Comerc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aso de pugna entre una ley mercantil especial y el Código de Comercio, esto debe ser resuelto a favor de la ley mercantil, esto en virtud del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PRINCIPIO DE ESPECIA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81000"/>
            <a:ext cx="777708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2) Tratados y Convenciones Internacionales   ratificados por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Constituyen una importantísima fuente del Derecho, ya que responden a la evolución constante y movilidad que presentan las relaciones comerci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ebemos recordar que los Tratados y convenciones ratificados por Chile tienen fuerza obligatoria de le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95640" y="4361040"/>
            <a:ext cx="453708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   Código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2 del Código de Comercio establece que en aquellos casos que no se encuentren especialmente por sus normas, se aplicarán las disposiciones del Código Civ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4)    La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costumbre es la repetición constante y uniforme de ciertas conductas realizadas con la convicción de que con ella se satisface una necesidad juríd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3333cc"/>
                </a:solidFill>
                <a:latin typeface="Verdana"/>
              </a:rPr>
              <a:t>(Ricardo Sandoval López, Actos de Comercio. Tomo I, volumen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374508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484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87640" y="134100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989000"/>
            <a:ext cx="576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112536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2421000"/>
            <a:ext cx="43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ahoma"/>
              </a:rPr>
              <a:t>CARÁCTER SU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407664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Repetición constant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uniforme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de ciertas conductas o ac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ELEMENTOS DE LA COST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981000"/>
            <a:ext cx="77770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ARÁCTER SU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MX" sz="2000" spc="-1" strike="noStrike">
                <a:solidFill>
                  <a:srgbClr val="3333cc"/>
                </a:solidFill>
                <a:latin typeface="Verdana"/>
              </a:rPr>
              <a:t>Conciencia o convicción que va a tener la sociedad que esta reiteración de actos se ajusta o se va a ajustar a las necesidades existentes, pasando a ser verdadera ley.</a:t>
            </a:r>
            <a:r>
              <a:rPr b="0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CIENCIA DE QUE SE TRATA DE UNA NORMA JURÍDICA VINCULANTE             OPINIO IU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Constituye una regla formulada tácitamente   por la voluntad colectiv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443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981000"/>
            <a:ext cx="77770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Código de Comercio confiere a la costumbre el rol de fuente formal del Derecho (Art. 4) y el carácter de elemento interpretativo (Art. 6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3333cc"/>
                </a:solidFill>
                <a:latin typeface="Verdana"/>
              </a:rPr>
              <a:t>¿Tiene la costumbre mercantil el mismo tratamiento que la costumbre en materia comercial?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COSTUMBRE MERC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981000"/>
            <a:ext cx="7777080" cy="40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Recibe un tratamiento totalmente distinto al dado en materia civil, ya que en materia comercial no rige únicamente cuando la ley se remita a ella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ecundum legem),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sino que además rige también en  aquellos casos en que la ley nada disponga sobre ciertos casos particulares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(costumbre sine legem).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Ejemplos de esto podemos ver en los Art. 225, 262, 914, entre otr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907920"/>
            <a:ext cx="8137440" cy="83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aquella conformada por los hábitos generales que surgen como resultado de la observancia de una regla formulada tácitamente por la voluntad colectiva.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                                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Existen prácticas que son reconocidas mundialmente, la costumbre no se limita al ámbito local o regional, pueden incluso darse prácticas a nivel inter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Conforme a lo establecido en el Art. 4 la costumbre mercantil debe cumplir con una serie de requisi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6480">
              <a:lnSpc>
                <a:spcPct val="10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835280" y="3500280"/>
            <a:ext cx="2232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NEGOCIOS Y 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7777080" cy="59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comercio ha sido uno de los motores del desarrollo de la huma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búsqueda de las Ind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xpansión terri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quista de América La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Guerras y tratad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Fomento a la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os productos y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Nuevas relaciones jurí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actividad creativa del hombre crece en forma inces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s relaciones comerciales también crecen sin límit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LASES DE 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981000"/>
            <a:ext cx="777708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odemos distinguir los siguientes tip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interpret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ostumbr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64000" y="3963960"/>
            <a:ext cx="355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907920"/>
            <a:ext cx="8137440" cy="48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ara que la costumbre adquiera eficacia como norma de derecho es preciso la concurrencia de los siguientes </a:t>
            </a: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quisitos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(Art. 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buClr>
                <a:srgbClr val="3333cc"/>
              </a:buClr>
              <a:buFont typeface="Comic Sans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907920"/>
            <a:ext cx="8137440" cy="29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Uniform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Que una conducta sea uniforme involucra que siempre encontraremos ese comportamiento determinado ante semejantes circunsta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907920"/>
            <a:ext cx="81374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que la conducta que dará forma a la costumbre debe ser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ampliamente conocid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Si es que es una costumbre local, deberá conocerse en la zona y si es internacional deberá ser conocida univers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907920"/>
            <a:ext cx="8137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3)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generalidad de la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No debe confundirse con el primer requis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La generalidad consiste en qu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frente a una misma situación o iguales circunstancias comúnmente sean realizados hechos o adoptadas conductas similar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que le darán el sustrato fáctico a la costu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907920"/>
            <a:ext cx="813744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4) La reiteración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mplica saber por cuánto tiempo ha sido mantenida una determinada conducta, aun cuando no exista ninguna exigencia específica, puesto que la ley sólo se refiere a un largo espacio de tiem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l Código no se refiere a una expresión concreta de años o meses, sino a un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Verdana"/>
              </a:rPr>
              <a:t>repetición constante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907920"/>
            <a:ext cx="813744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5) Pru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ostumbre debe PROBARSE, su existencia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Verdana"/>
              </a:rPr>
              <a:t>NO SE PRESUME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s preciso acreditar al Tribunal la existencia de los hechos que se alegan y para que la costumbre tenga valor jurídico deben acreditarse todos los requisitos que hemos señalado.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PRUEBA DE LA COST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907920"/>
            <a:ext cx="8137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forme a lo establecido en el Art. 5, la costumbre puede probarse por los siguientes medios: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estimonio fehaciente de dos sentencias que la reconozcan o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es escrituras públicas anteriores a los hechos que motivaron el Jui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INTERPRE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907920"/>
            <a:ext cx="813744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El Art. 6 otorga eficacia a la costumbre interpretativa y corresponde a aquella que sirve para interpretar los actos o convenciones mercant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S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907920"/>
            <a:ext cx="8137440" cy="56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ambién se refiere a este tipo de costumbres el Art. 6, en su primera parte, cuando señala que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“las costumbres mercantiles servirán de regla para determinar el sentido de las palabras o frases técnicas del comer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33cc"/>
                </a:solidFill>
                <a:latin typeface="Verdana"/>
              </a:rPr>
              <a:t>¿Conoces algún caso donde se aplique la costumbre en materia comer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3680" indent="-4572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60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no regula todo el comercio ni todos los nego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l derecho comercial es una rama del derecho privado que reglamenta ciertos aspectos específicos del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Es la parte del derecho privado que regula las operaciones jurídicas hechas por los comerciantes, ya sea entre ellos, ya sea con sus clientes” (Ripe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mercantil es el derecho ordenador de la actividad económica constitutiva de empresa o de la organización y de la actividad profesional de los empresarios del mercado. (Rodrigo Urí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Derecho privado especial  de los comerciantes” (Karstnen Schmid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que rigen los actos de comercio y la capacidad, derechos y deberes de las personas que hacen de su ejercicio su profesión habitual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Conjunto de principios y normas relativos a los actos, contratos y operaciones mercantiles y aquellas a que se refieren a la naturaleza y ejercicio de la actividad de los comerciantes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907920"/>
            <a:ext cx="813744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Un ejemplo claro se da en el caso de los llamados términos comerciales uniformes, entre los que se encuentran lo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COTERM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, adoptados por la Cámara de Comercio Internacional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3573360"/>
            <a:ext cx="5183280" cy="3044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STUMBRE 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907920"/>
            <a:ext cx="8137440" cy="52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vención de Viena de 198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mpraventa Internacional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rtículo 9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1) Las partes quedarán obligadas por cualquier uso en que hayan convenido y por cualquier práctica que hayan establecido entre el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2) Salvo pacto en contrario se considerará que las partes han hecho tácitamente aplicables al contrato o a su formación un uso del que tenían o debían haber tenido conocimiento y que, en el comercio internacional sean ampliamente conocido y regularmente observado por las partes en contratos del mismo tipo en el tráfico mercantil de que se trat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42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907920"/>
            <a:ext cx="8137440" cy="35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Existen además otras fuentes, que si bien no son formales, también juegan un rol importantísimo en el Derecho Comerc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Jurispru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octr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1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atos tip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29052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BAEZA OVALLE, Gonzal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Tratado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p. 175-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, Editorial jurídica Lexis Nexis, 2005, p. 39-6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Times New Roman"/>
              </a:rPr>
              <a:t>Derecho Comercial. Actos de Comerc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. Tomo 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LA MERCANT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836640"/>
            <a:ext cx="777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La mercantilidad consiste en definir lo que se considera mercantil y lo que en consecuencia es objeto, por una parte de la normativa jurídica del ramo y por otra del estudio doctrinario de la disciplina”. (Osvaldo Contre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objetiva: actos de comercio.  Art. 3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Teoría subjetiva: la persona del comercia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ONCEPTO DE FUENTE DEL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981000"/>
            <a:ext cx="77770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Verdana"/>
              </a:rPr>
              <a:t>Modos o formas a través de las cuales el Derecho se exteriori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rresponde a las formas en que la colectividad estatuye su sistema jurídico, es decir, las formas en que se exterioriza el derecho positivo.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ueden ser textos de derecho positivo, nacional o extranjero, jurisprudencia, prácticas, usos y costumb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777080" cy="76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guiremos la clasificación del autor Gonzalo Baeza Oval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Las divide en dos tipos: Fuentes materiales y Fuentes Formale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1_FUENT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“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Aquella que contribuye a la creación del derecho: convicción jurídica de los comerciantes, tradición, naturaleza de las cosas y otro factores morales, económicos, políticos, etcétera.”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Verdana"/>
                <a:hlinkClick r:id="rId2" action="ppaction://hlinksldjump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Verdana"/>
                <a:hlinkClick r:id="rId3" action="ppaction://hlinksldjump"/>
              </a:rPr>
              <a:t>[1]</a:t>
            </a:r>
            <a:r>
              <a:rPr b="0" lang="es-ES_tradnl" sz="1400" spc="-1" strike="noStrike">
                <a:solidFill>
                  <a:srgbClr val="3333cc"/>
                </a:solidFill>
                <a:latin typeface="Verdana"/>
              </a:rPr>
              <a:t> BAEZA OVALLE, Gonzalo, p. 17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LASIFICACION DE LAS FU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052640"/>
            <a:ext cx="7777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1413000"/>
            <a:ext cx="7632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2_FUENTE 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stituida por la forma externa en que es manifestado el derecho positivo. El derecho debe manifestarse por vías que le permitan a las personas conocer las pautas de conducta que entrega con claridad y oportunidad.</a:t>
            </a:r>
            <a:r>
              <a:rPr b="0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304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FUENTES FORMALES DEL DERECH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125360"/>
            <a:ext cx="7777080" cy="52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s principales fuentes formales del Derecho Comercial en Chile son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Constitución Política d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Código de Comercio y las Leyes Comerciales que lo complemen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Tratados Internacionales ratificados por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Código Ci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s costumbres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FUENTES FO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07920"/>
            <a:ext cx="777744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Constitución Política del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dad ante la ley  (art. 19, Nº 2 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sociación (art. 19, Nº 1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Igual repartición de tributos  (art. 19, Nº 20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Realizar cualquier actividad económica dentro del sistema legal. 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stado subsidiario (art. 19, Nº 21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No discriminación arbitraria  (art. 19, Nº 22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Adquisición del dominio (art. 19, Nº 23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propiedad (art. 19, Nº 24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recho de autor (art. 19, Nº 25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Protección esencia derechos (art. 19, Nº 26 C.P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09-04T02:57:59Z</dcterms:modified>
  <cp:revision>74</cp:revision>
  <dc:subject/>
  <dc:title>Diapositiva 1</dc:title>
</cp:coreProperties>
</file>