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F621-C3B0-46E1-A1E7-6FACF0628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089A-9F6E-4844-B51C-ADBEA23A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BD2A-C25D-4FE1-90A9-8F7BA7BB6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68D7-0E9A-4543-9864-02970E983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7F11-BB0F-4A8A-9FFA-1788D334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A0D6-7804-40CB-94B7-55E2EF07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8CD6-B0AE-4BD7-BFC8-DDC16A87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D4AD-BDEC-4E59-83A0-6E0A4053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A6A4-9C2E-4B47-A570-49BC4E6D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5D55-44A4-4D6A-8C5D-11938820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54B4-D28A-4673-B5C1-B62E682A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7EBF-5528-4EA8-988B-5993A584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0774-7E77-49A9-9006-88798B02A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00160"/>
            <a:ext cx="48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Comic Sans MS"/>
              </a:rPr>
              <a:t>FUENTES DEL DERECHO COMERCIAL</a:t>
            </a:r>
            <a:r>
              <a:rPr b="1" lang="es-MX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FUENTES FOR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981000"/>
            <a:ext cx="7777080" cy="53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ódigo de Comercio (Art. 1) y las   Leyes Comerciales que lo complemen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Ley sobre sociedades anón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Ley sobre letras de cambio y pagar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Ley 18175 de quieb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Ley de Mercado de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Ley sobre sociedades de Responsabilidad  Ltd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Ley General de Bancos, entre ot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El Código de Comercio entró a regir el 11 de Enero de 1867.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FUENTES FOR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981000"/>
            <a:ext cx="7777080" cy="38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Las leyes mercantiles complementarias poseen un rol importantísimo en el proceso de actualización y modernización del Código de Comerc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n caso de pugna entre una ley mercantil especial y el Código de Comercio, esto debe ser resuelto a favor de la ley mercantil, esto en virtud del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Verdana"/>
              </a:rPr>
              <a:t>PRINCIPIO DE ESPECIALIDAD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.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FUENTES FOR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981000"/>
            <a:ext cx="7777080" cy="39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2) Tratados y Convenciones Internacionales   ratificados por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Constituyen una importantísima fuente del Derecho, ya que responden a la evolución constante y movilidad que presentan las relaciones comercial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Debemos recordar que los Tratados y convenciones ratificados por Chile tienen fuerza obligatoria de le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995640" y="4361040"/>
            <a:ext cx="4537080" cy="23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FUENTES FOR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981000"/>
            <a:ext cx="77770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3)    Código Ci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El Art. 2 del Código de Comercio establece que en aquellos casos que no se encuentren especialmente por sus normas, se aplicarán las disposiciones del Código Civi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FUENTES FOR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981000"/>
            <a:ext cx="7777080" cy="35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4)    La Costumbre Mercan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La costumbre es la repetición constante y uniforme de ciertas conductas realizadas con la convicción de que con ella se satisface una necesidad jurídic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3333cc"/>
                </a:solidFill>
                <a:latin typeface="Verdana"/>
              </a:rPr>
              <a:t>(Ricardo Sandoval López, Actos de Comercio. Tomo I, volumen 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484360" y="4292640"/>
            <a:ext cx="3745080" cy="2246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00000" y="14842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Verdana"/>
              </a:rPr>
              <a:t>Elementos de la Costu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987640" y="1341000"/>
            <a:ext cx="6494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87640" y="1989000"/>
            <a:ext cx="57636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08360" y="1125360"/>
            <a:ext cx="43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Verdana"/>
              </a:rPr>
              <a:t>CARÁCTER 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80000" y="2421000"/>
            <a:ext cx="43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ahoma"/>
              </a:rPr>
              <a:t>CARÁCTER SU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4076640"/>
            <a:ext cx="91440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ARÁCTER 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Verdana"/>
              </a:rPr>
              <a:t>Repetición constante</a:t>
            </a:r>
            <a:r>
              <a:rPr b="0" lang="es-MX" sz="2000" spc="-1" strike="noStrike">
                <a:solidFill>
                  <a:srgbClr val="3333cc"/>
                </a:solidFill>
                <a:latin typeface="Verdana"/>
              </a:rPr>
              <a:t> y </a:t>
            </a:r>
            <a:r>
              <a:rPr b="0" lang="es-MX" sz="2000" spc="-1" strike="noStrike">
                <a:solidFill>
                  <a:srgbClr val="3333cc"/>
                </a:solidFill>
                <a:latin typeface="Verdana"/>
              </a:rPr>
              <a:t>uniforme</a:t>
            </a:r>
            <a:r>
              <a:rPr b="0" lang="es-MX" sz="2000" spc="-1" strike="noStrike">
                <a:solidFill>
                  <a:srgbClr val="3333cc"/>
                </a:solidFill>
                <a:latin typeface="Verdana"/>
              </a:rPr>
              <a:t> de ciertas conductas o act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ELEMENTOS DE LA COSTUM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981000"/>
            <a:ext cx="7777080" cy="52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ARÁCTER SU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MX" sz="2000" spc="-1" strike="noStrike">
                <a:solidFill>
                  <a:srgbClr val="3333cc"/>
                </a:solidFill>
                <a:latin typeface="Verdana"/>
              </a:rPr>
              <a:t>Conciencia o convicción que va a tener la sociedad que esta reiteración de actos se ajusta o se va a ajustar a las necesidades existentes, pasando a ser verdadera ley.</a:t>
            </a:r>
            <a:r>
              <a:rPr b="0" lang="es-MX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Verdana"/>
              </a:rPr>
              <a:t>CONCIENCIA DE QUE SE TRATA DE UNA NORMA JURÍDICA VINCULANTE             OPINIO IU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MX" sz="2000" spc="-1" strike="noStrike">
                <a:solidFill>
                  <a:srgbClr val="3333cc"/>
                </a:solidFill>
                <a:latin typeface="Verdana"/>
              </a:rPr>
              <a:t>Constituye una regla formulada tácitamente   por la voluntad colectiva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32360" y="4437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7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1" dur="2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LA COSTUMBRE MERCAN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981000"/>
            <a:ext cx="7777080" cy="36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El Código de Comercio confiere a la costumbre el rol de fuente formal del Derecho (Art. 4) y el carácter de elemento interpretativo (Art. 6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3333cc"/>
                </a:solidFill>
                <a:latin typeface="Verdana"/>
              </a:rPr>
              <a:t>¿Tiene la costumbre mercantil el mismo tratamiento que la costumbre en materia comercial?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LA COSTUMBRE MERCAN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981000"/>
            <a:ext cx="7777080" cy="40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Recibe un tratamiento totalmente distinto al dado en materia civil, ya que en materia comercial no rige únicamente cuando la ley se remita a ella </a:t>
            </a:r>
            <a:r>
              <a:rPr b="0" i="1" lang="es-ES_tradnl" sz="2000" spc="-1" strike="noStrike">
                <a:solidFill>
                  <a:srgbClr val="3333cc"/>
                </a:solidFill>
                <a:latin typeface="Verdana"/>
              </a:rPr>
              <a:t>(costumbre secundum legem),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sino que además rige también en  aquellos casos en que la ley nada disponga sobre ciertos casos particulares </a:t>
            </a:r>
            <a:r>
              <a:rPr b="0" i="1" lang="es-ES_tradnl" sz="2000" spc="-1" strike="noStrike">
                <a:solidFill>
                  <a:srgbClr val="3333cc"/>
                </a:solidFill>
                <a:latin typeface="Verdana"/>
              </a:rPr>
              <a:t>(costumbre sine legem).</a:t>
            </a:r>
            <a:r>
              <a:rPr b="0" i="1" lang="es-ES_tradnl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Ejemplos de esto podemos ver en los Art. 225, 262, 914, entre otr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COSTUMBRE JURÍ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907920"/>
            <a:ext cx="8137440" cy="83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s aquella conformada por los hábitos generales que surgen como resultado de la observancia de una regla formulada tácitamente por la voluntad colectiva.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                                          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Existen prácticas que son reconocidas mundialmente, la costumbre no se limita al ámbito local o regional, pueden incluso darse prácticas a nivel intern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Conforme a lo establecido en el Art. 4 la costumbre mercantil debe cumplir con una serie de requisit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835280" y="3500280"/>
            <a:ext cx="223200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0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200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NEGOCIOS Y DERECHO CO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981000"/>
            <a:ext cx="7777080" cy="59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El comercio ha sido uno de los motores del desarrollo de la human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Viaj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La búsqueda de las Ind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Expansión terri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Conquista de América La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Guerras y tratados comer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Fomento a la investi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Nuevos productos y serv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Nuevas relaciones juríd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La actividad creativa del hombre crece en forma incesa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Las relaciones comerciales también crecen sin límite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CLASES DE COSTUMBRE MERCAN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981000"/>
            <a:ext cx="7777080" cy="44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odemos distinguir los siguientes tip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La costumbre jurí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s costumbres interpret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s costumbres 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364000" y="3963960"/>
            <a:ext cx="35560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" dur="2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20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REQUISI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907920"/>
            <a:ext cx="8137440" cy="48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Para que la costumbre adquiera eficacia como norma de derecho es preciso la concurrencia de los siguientes </a:t>
            </a: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Verdana"/>
              </a:rPr>
              <a:t>requisitos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(Art. 4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3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uniform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3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3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generalidad de la ejec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3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reiteración en 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3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Prueba de la costum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3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REQUISI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907920"/>
            <a:ext cx="8137440" cy="29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Uniform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Que una conducta sea uniforme involucra que siempre encontraremos ese comportamiento determinado ante semejantes circunstanci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REQUISI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907920"/>
            <a:ext cx="813744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2)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Implica que la conducta que dará forma a la costumbre debe ser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Verdana"/>
              </a:rPr>
              <a:t>ampliamente conocida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. Si es que es una costumbre local, deberá conocerse en la zona y si es internacional deberá ser conocida universal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REQUISI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907920"/>
            <a:ext cx="813744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3)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generalidad de la ejec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No debe confundirse con el primer requisi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La generalidad consiste en qu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Verdana"/>
              </a:rPr>
              <a:t>frente a una misma situación o iguales circunstancias comúnmente sean realizados hechos o adoptadas conductas similares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, que le darán el sustrato fáctico a la costumb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3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6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REQUISI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907920"/>
            <a:ext cx="8137440" cy="49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4) La reiteración en 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Implica saber por cuánto tiempo ha sido mantenida una determinada conducta, aun cuando no exista ninguna exigencia específica, puesto que la ley sólo se refiere a un largo espacio de ti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El Código no se refiere a una expresión concreta de años o meses, sino a una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Verdana"/>
              </a:rPr>
              <a:t>repetición constante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REQUISI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907920"/>
            <a:ext cx="813744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5) Prueb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La costumbre debe PROBARSE, su existencia 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Verdana"/>
              </a:rPr>
              <a:t>NO SE PRESUME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Es preciso acreditar al Tribunal la existencia de los hechos que se alegan y para que la costumbre tenga valor jurídico deben acreditarse todos los requisitos que hemos señalado.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5" dur="2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PRUEBA DE LA COSTUM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907920"/>
            <a:ext cx="8137440" cy="42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onforme a lo establecido en el Art. 5, la costumbre puede probarse por los siguientes medios: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Testimonio fehaciente de dos sentencias que la reconozcan o 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Tres escrituras públicas anteriores a los hechos que motivaron el Juic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COSTUMBRE INTERPRET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4000" y="907920"/>
            <a:ext cx="8137440" cy="40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El Art. 6 otorga eficacia a la costumbre interpretativa y corresponde a aquella que sirve para interpretar los actos o convenciones mercanti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COSTUMBRES TÉC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907920"/>
            <a:ext cx="8137440" cy="56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También se refiere a este tipo de costumbres el Art. 6, en su primera parte, cuando señala que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“las costumbres mercantiles servirán de regla para determinar el sentido de las palabras o frases técnicas del comerci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cc"/>
                </a:solidFill>
                <a:latin typeface="Verdana"/>
              </a:rPr>
              <a:t>¿Conoces algún caso donde se aplique la costumbre en materia comerci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DERECHO CO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836640"/>
            <a:ext cx="7777080" cy="60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El derecho comercial no regula todo el comercio ni todos los negoc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El derecho comercial es una rama del derecho privado que reglamenta ciertos aspectos específicos del comerc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Es la parte del derecho privado que regula las operaciones jurídicas hechas por los comerciantes, ya sea entre ellos, ya sea con sus clientes” (Ripe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Derecho mercantil es el derecho ordenador de la actividad económica constitutiva de empresa o de la organización y de la actividad profesional de los empresarios del mercado. (Rodrigo Urí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Derecho privado especial  de los comerciantes” (Karstnen Schmid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Conjunto de principios que rigen los actos de comercio y la capacidad, derechos y deberes de las personas que hacen de su ejercicio su profesión habitual.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Conjunto de principios y normas relativos a los actos, contratos y operaciones mercantiles y aquellas a que se refieren a la naturaleza y ejercicio de la actividad de los comerciantes”. (Osvaldo Contrer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COSTUMBRE MERCAN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4000" y="907920"/>
            <a:ext cx="813744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Un ejemplo claro se da en el caso de los llamados términos comerciales uniformes, entre los que se encuentran los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INCOTERMS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, adoptados por la Cámara de Comercio Internacional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979640" y="3573360"/>
            <a:ext cx="5183280" cy="3044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COSTUMBRE MERCAN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4000" y="907920"/>
            <a:ext cx="8137440" cy="52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Convención de Viena de 198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Compraventa Internacional de Mercaderí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Artículo 9º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“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1) Las partes quedarán obligadas por cualquier uso en que hayan convenido y por cualquier práctica que hayan establecido entre el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2) Salvo pacto en contrario se considerará que las partes han hecho tácitamente aplicables al contrato o a su formación un uso del que tenían o debían haber tenido conocimiento y que, en el comercio internacional sean ampliamente conocido y regularmente observado por las partes en contratos del mismo tipo en el tráfico mercantil de que se trate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FUENTES DEL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4000" y="907920"/>
            <a:ext cx="8137440" cy="35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Existen además otras fuentes, que si bien no son formales, también juegan un rol importantísimo en el Derecho Comercia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1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Jurisprud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1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Doctr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1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ontratos tipo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427640" y="3068640"/>
            <a:ext cx="29052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Bibliografía</a:t>
            </a:r>
            <a:r>
              <a:rPr b="0" lang="es-ES_tradn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BAEZA OVALLE, Gonzalo.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3333cc"/>
                </a:solidFill>
                <a:latin typeface="Times New Roman"/>
              </a:rPr>
              <a:t>Tratado de Derecho Comercial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, Editorial Jurídica Lexis Nexis, p. 175-2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CONTRERAS STRAUCH, Osvaldo.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3333cc"/>
                </a:solidFill>
                <a:latin typeface="Times New Roman"/>
              </a:rPr>
              <a:t>Instituciones de Derecho Comercial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, Editorial jurídica Lexis Nexis, 2005, p. 39-6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SANDOVAL LOPEZ, Ricardo.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3333cc"/>
                </a:solidFill>
                <a:latin typeface="Times New Roman"/>
              </a:rPr>
              <a:t>Derecho Comercial. Actos de Comercio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. Tomo I, volumen 1. Editorial Jurídica de Chi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LA MERCANTILID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836640"/>
            <a:ext cx="777708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La mercantilidad consiste en definir lo que se considera mercantil y lo que en consecuencia es objeto, por una parte de la normativa jurídica del ramo y por otra del estudio doctrinario de la disciplina”. (Osvaldo Contrer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Teoría objetiva: actos de comercio.  Art. 3 Código de Comerc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Teoría subjetiva: la persona del comercia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CONCEPTO DE FUENTE DEL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981000"/>
            <a:ext cx="7777080" cy="49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Modos o formas a través de las cuales el Derecho se exterioriz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Corresponde a las formas en que la colectividad estatuye su sistema jurídico, es decir, las formas en que se exterioriza el derecho positivo.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Pueden ser textos de derecho positivo, nacional o extranjero, jurisprudencia, prácticas, usos y costumb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CLASIFICACION DE LAS FU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981000"/>
            <a:ext cx="7777080" cy="76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eguiremos la clasificación del autor Gonzalo Baeza Ovall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Las divide en dos tipos: Fuentes materiales y Fuentes Formales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      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1_FUENTE 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“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Aquella que contribuye a la creación del derecho: convicción jurídica de los comerciantes, tradición, naturaleza de las cosas y otro factores morales, económicos, políticos, etcétera.”</a:t>
            </a:r>
            <a:r>
              <a:rPr b="0" lang="es-ES_tradnl" sz="1800" spc="-1" strike="noStrike" u="sng">
                <a:solidFill>
                  <a:srgbClr val="ccccff"/>
                </a:solidFill>
                <a:uFillTx/>
                <a:latin typeface="Verdana"/>
                <a:hlinkClick r:id="rId2" action="ppaction://hlinksldjump"/>
              </a:rPr>
              <a:t>[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Verdana"/>
                <a:hlinkClick r:id="rId3" action="ppaction://hlinksldjump"/>
              </a:rPr>
              <a:t>[1]</a:t>
            </a:r>
            <a:r>
              <a:rPr b="0" lang="es-ES_tradnl" sz="1400" spc="-1" strike="noStrike">
                <a:solidFill>
                  <a:srgbClr val="3333cc"/>
                </a:solidFill>
                <a:latin typeface="Verdana"/>
              </a:rPr>
              <a:t> BAEZA OVALLE, Gonzalo, p. 17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CLASIFICACION DE LAS FU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1052640"/>
            <a:ext cx="7777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1413000"/>
            <a:ext cx="763272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2_FUENTE F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Constituida por la forma externa en que es manifestado el derecho positivo. El derecho debe manifestarse por vías que le permitan a las personas conocer las pautas de conducta que entrega con claridad y oportunidad.</a:t>
            </a:r>
            <a:r>
              <a:rPr b="0" lang="es-ES_tradnl" sz="18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920" y="304920"/>
            <a:ext cx="83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FUENTES FORMALES DEL DERECHO COME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1125360"/>
            <a:ext cx="7777080" cy="52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Las principales fuentes formales del Derecho Comercial en Chile son: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La Constitución Política del Es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Código de Comercio y las Leyes Comerciales que lo complement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Tratados Internacionales ratificados por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l Código Ci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Las costumbres mercan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FUENTES FOR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907920"/>
            <a:ext cx="7777440" cy="59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Constitución Política del 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Igualdad ante la ley  (art. 19, Nº 2  C.P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Derecho de asociación (art. 19, Nº 15 C.P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Igual repartición de tributos  (art. 19, Nº 20 C.P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Realizar cualquier actividad económica dentro del sistema legal.  (art. 19, Nº 21 C.P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Estado subsidiario (art. 19, Nº 21 C.P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No discriminación arbitraria  (art. 19, Nº 22 C.P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Adquisición del dominio (art. 19, Nº 23 C.P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Derecho de propiedad (art. 19, Nº 24 C.P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Derecho de autor (art. 19, Nº 25 C.P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Protección esencia derechos (art. 19, Nº 26 C.P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09-04T02:57:59Z</dcterms:modified>
  <cp:revision>74</cp:revision>
  <dc:subject/>
  <dc:title>Diapositiva 1</dc:title>
</cp:coreProperties>
</file>