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2AC-A762-4A2F-8A75-C02A9A3C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1A9-2007-48B9-AB94-67D2C907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E48-702F-4A53-9E2C-D74CF497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394-E2A5-415A-83A5-4FFD22ED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E7D-1023-4A39-B54C-E9B4430F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FA5-4287-4FB3-BC65-0071CBC0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C6D-075B-4160-A908-B8120303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C1A-AB61-46E9-9980-8B13A750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00B-D2BC-42B7-A641-162609F1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8A4-2CC7-4046-9434-E3916818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932-10D7-4F69-A223-4C3280B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081-5972-40F4-B3BE-BFF26465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9C7A-E963-49F6-8522-17BE4D9E2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FUENTES DEL DERECHO COMERCIAL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981000"/>
            <a:ext cx="7777080" cy="53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ódigo de Comercio (Art. 1) y las   Leyes Comerciales que lo complemen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sobr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sobre letras de cambio y paga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18175 de quie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de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sobre sociedades de Responsabilidad  Lt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General de Bancos, entre o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Código de Comercio entró a regir el 11 de Enero de 1867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981000"/>
            <a:ext cx="77770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s leyes mercantiles complementarias poseen un rol importantísimo en el proceso de actualización y modernización del Código de Comer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n caso de pugna entre una ley mercantil especial y el Código de Comercio, esto debe ser resuelto a favor de la ley mercantil, esto en virtud del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PRINCIPIO DE ESPECIALIDAD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.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81000"/>
            <a:ext cx="777708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2) Tratados y Convenciones Internacionales   ratificados por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Constituyen una importantísima fuente del Derecho, ya que responden a la evolución constante y movilidad que presentan las relaciones comerci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ebemos recordar que los Tratados y convenciones ratificados por Chile tienen fuerza obligatoria de le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95640" y="4361040"/>
            <a:ext cx="453708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981000"/>
            <a:ext cx="7777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3)   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Art. 2 del Código de Comercio establece que en aquellos casos que no se encuentren especialmente por sus normas, se aplicarán las disposiciones del Código Civ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981000"/>
            <a:ext cx="7777080" cy="35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4)    La Costumb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La costumbre es la repetición constante y uniforme de ciertas conductas realizadas con la convicción de que con ella se satisface una necesidad juríd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3333cc"/>
                </a:solidFill>
                <a:latin typeface="Verdana"/>
              </a:rPr>
              <a:t>(Ricardo Sandoval López, Actos de Comercio. Tomo I, volumen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84360" y="4292640"/>
            <a:ext cx="3745080" cy="22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00000" y="148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</a:rPr>
              <a:t>Elementos de la Costu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987640" y="134100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198900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1125360"/>
            <a:ext cx="43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CARÁCTER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2421000"/>
            <a:ext cx="43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ahoma"/>
              </a:rPr>
              <a:t>CARÁCTER SU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4076640"/>
            <a:ext cx="914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ARÁCTER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Repetición constante</a:t>
            </a: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uniforme</a:t>
            </a: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 de ciertas conductas o ac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LEMENTOS DE LA COSTU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81000"/>
            <a:ext cx="777708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ARÁCTER SU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Conciencia o convicción que va a tener la sociedad que esta reiteración de actos se ajusta o se va a ajustar a las necesidades existentes, pasando a ser verdadera ley.</a:t>
            </a:r>
            <a:r>
              <a:rPr b="0" lang="es-MX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CONCIENCIA DE QUE SE TRATA DE UNA NORMA JURÍDICA VINCULANTE             OPINIO IU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Constituye una regla formulada tácitamente   por la voluntad colectiv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4437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LA COSTUMBRE MERC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981000"/>
            <a:ext cx="777708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Código de Comercio confiere a la costumbre el rol de fuente formal del Derecho (Art. 4) y el carácter de elemento interpretativo (Art. 6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cc"/>
                </a:solidFill>
                <a:latin typeface="Verdana"/>
              </a:rPr>
              <a:t>¿Tiene la costumbre mercantil el mismo tratamiento que la costumbre en materia comercial?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LA COSTUMBRE MERC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981000"/>
            <a:ext cx="777708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Recibe un tratamiento totalmente distinto al dado en materia civil, ya que en materia comercial no rige únicamente cuando la ley se remita a ella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(costumbre secundum legem),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sino que además rige también en  aquellos casos en que la ley nada disponga sobre ciertos casos particulares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(costumbre sine legem).</a:t>
            </a:r>
            <a:r>
              <a:rPr b="0" i="1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Ejemplos de esto podemos ver en los Art. 225, 262, 914, entre otr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907920"/>
            <a:ext cx="8137440" cy="83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 aquella conformada por los hábitos generales que surgen como resultado de la observancia de una regla formulada tácitamente por la voluntad colectiva.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                                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Existen prácticas que son reconocidas mundialmente, la costumbre no se limita al ámbito local o regional, pueden incluso darse prácticas a nivel inter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Conforme a lo establecido en el Art. 4 la costumbre mercantil debe cumplir con una serie de requisi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35280" y="3500280"/>
            <a:ext cx="2232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NEGOCIOS Y DERECHO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59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comercio ha sido uno de los motores del desarrollo de la human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Vi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búsqueda de las Ind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xpansión terr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quista de América La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Guerras y tratado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Fomento a la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Nuevos productos y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Nuevas relaciones jurí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actividad creativa del hombre crece en forma inces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s relaciones comerciales también crecen sin lími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LASES DE COSTUMB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981000"/>
            <a:ext cx="777708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odemos distinguir los siguientes tip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costumbre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costumbres interpre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costumbre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64000" y="3963960"/>
            <a:ext cx="3556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907920"/>
            <a:ext cx="8137440" cy="48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ara que la costumbre adquiera eficacia como norma de derecho es preciso la concurrencia de los siguientes </a:t>
            </a: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Verdana"/>
              </a:rPr>
              <a:t>requisitos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(Art. 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uniform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generalidad de la 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reiteración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rueba de la cost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907920"/>
            <a:ext cx="8137440" cy="2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Uniform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Que una conducta sea uniforme involucra que siempre encontraremos ese comportamiento determinado ante semejantes circunstanci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907920"/>
            <a:ext cx="81374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mplica que la conducta que dará forma a la costumbre debe ser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Verdana"/>
              </a:rPr>
              <a:t>ampliamente conocida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. Si es que es una costumbre local, deberá conocerse en la zona y si es internacional deberá ser conocida universa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907920"/>
            <a:ext cx="81374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3)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generalidad de la 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No debe confundirse con el primer requisi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La generalidad consiste en qu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Verdana"/>
              </a:rPr>
              <a:t>frente a una misma situación o iguales circunstancias comúnmente sean realizados hechos o adoptadas conductas similare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, que le darán el sustrato fáctico a la costu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907920"/>
            <a:ext cx="813744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4) La reiteración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mplica saber por cuánto tiempo ha sido mantenida una determinada conducta, aun cuando no exista ninguna exigencia específica, puesto que la ley sólo se refiere a un largo espacio de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l Código no se refiere a una expresión concreta de años o meses, sino a un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Verdana"/>
              </a:rPr>
              <a:t>repetición constante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907920"/>
            <a:ext cx="813744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5) Prue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costumbre debe PROBARSE, su existencia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Verdana"/>
              </a:rPr>
              <a:t>NO SE PRESUME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s preciso acreditar al Tribunal la existencia de los hechos que se alegan y para que la costumbre tenga valor jurídico deben acreditarse todos los requisitos que hemos señalado.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PRUEBA DE LA COST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907920"/>
            <a:ext cx="8137440" cy="42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forme a lo establecido en el Art. 5, la costumbre puede probarse por los siguientes medios: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Testimonio fehaciente de dos sentencias que la reconozcan o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Tres escrituras públicas anteriores a los hechos que motivaron el Jui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 INTERPRE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907920"/>
            <a:ext cx="813744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Art. 6 otorga eficacia a la costumbre interpretativa y corresponde a aquella que sirve para interpretar los actos o convenciones mercant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S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907920"/>
            <a:ext cx="8137440" cy="56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ambién se refiere a este tipo de costumbres el Art. 6, en su primera parte, cuando señala que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“las costumbres mercantiles servirán de regla para determinar el sentido de las palabras o frases técnicas del comer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¿Conoces algún caso donde se aplique la costumbre en materia comer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836640"/>
            <a:ext cx="7777080" cy="60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derecho comercial no regula todo el comercio ni todos los nego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derecho comercial es una rama del derecho privado que reglamenta ciertos aspectos específicos del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s la parte del derecho privado que regula las operaciones jurídicas hechas por los comerciantes, ya sea entre ellos, ya sea con sus clientes” (Ripe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Derecho mercantil es el derecho ordenador de la actividad económica constitutiva de empresa o de la organización y de la actividad profesional de los empresarios del mercado. (Rodrigo Urí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Derecho privado especial  de los comerciantes” (Karstnen Schmid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junto de principios que rigen los actos de comercio y la capacidad, derechos y deberes de las personas que hacen de su ejercicio su profesión habitual.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junto de principios y normas relativos a los actos, contratos y operaciones mercantiles y aquellas a que se refieren a la naturaleza y ejercicio de la actividad de los comerciantes”. (Osvaldo Contre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907920"/>
            <a:ext cx="813744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Un ejemplo claro se da en el caso de los llamados términos comerciales uniformes, entre los que se encuentran los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COTERM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, adoptados por la Cámara de Comercio Internacional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979640" y="3573360"/>
            <a:ext cx="5183280" cy="3044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907920"/>
            <a:ext cx="8137440" cy="52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vención de Viena de 198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mpraventa Internacional de Mercader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Artículo 9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1) Las partes quedarán obligadas por cualquier uso en que hayan convenido y por cualquier práctica que hayan establecido entre e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2) Salvo pacto en contrario se considerará que las partes han hecho tácitamente aplicables al contrato o a su formación un uso del que tenían o debían haber tenido conocimiento y que, en el comercio internacional sean ampliamente conocido y regularmente observado por las partes en contratos del mismo tipo en el tráfico mercantil de que se trate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FUENTES DEL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907920"/>
            <a:ext cx="813744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xisten además otras fuentes, que si bien no son formales, también juegan un rol importantísimo en el Derecho Comerci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Jurispru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octr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atos tip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29052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BAEZA OVALLE, Gonzalo.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Times New Roman"/>
              </a:rPr>
              <a:t>Tratado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, Editorial Jurídica Lexis Nexis, p. 175-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Times New Roman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, Editorial jurídica Lexis Nexis, 2005, p. 39-6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Times New Roman"/>
              </a:rPr>
              <a:t>Derecho Comercial. Actos de Comerci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. Tomo 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LA MERCANT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836640"/>
            <a:ext cx="77770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mercantilidad consiste en definir lo que se considera mercantil y lo que en consecuencia es objeto, por una parte de la normativa jurídica del ramo y por otra del estudio doctrinario de la disciplina”. (Osvaldo Contre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eoría objetiva: actos de comercio.  Art. 3 Código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eoría subjetiva: la persona del comerci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NCEPTO DE FUENTE DEL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981000"/>
            <a:ext cx="77770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Modos o formas a través de las cuales el Derecho se exteriori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rresponde a las formas en que la colectividad estatuye su sistema jurídico, es decir, las formas en que se exterioriza el derecho positivo.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ueden ser textos de derecho positivo, nacional o extranjero, jurisprudencia, prácticas, usos y costumb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LASIFICACION DE LAS FU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981000"/>
            <a:ext cx="7777080" cy="76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guiremos la clasificación del autor Gonzalo Baeza Oval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as divide en dos tipos: Fuentes materiales y Fuentes Formale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_FUENT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Aquella que contribuye a la creación del derecho: convicción jurídica de los comerciantes, tradición, naturaleza de las cosas y otro factores morales, económicos, políticos, etcétera.”</a:t>
            </a:r>
            <a:r>
              <a:rPr b="0" lang="es-ES_tradnl" sz="18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 BAEZA OVALLE, Gonzalo, p. 17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LASIFICACION DE LAS FU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052640"/>
            <a:ext cx="7777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413000"/>
            <a:ext cx="7632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2_FUENTE 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stituida por la forma externa en que es manifestado el derecho positivo. El derecho debe manifestarse por vías que le permitan a las personas conocer las pautas de conducta que entrega con claridad y oportunidad.</a:t>
            </a:r>
            <a:r>
              <a:rPr b="0" lang="es-ES_tradnl" sz="1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3049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FUENTES FORMALES DEL DERECH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125360"/>
            <a:ext cx="777708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s principales fuentes formales del Derecho Comercial en Chile son: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Constitución Política del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ódigo de Comercio y las Leyes Comerciales que lo complemen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Tratados Internacionales ratificados por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Código Ci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s costumbres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907920"/>
            <a:ext cx="777744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Constitución Política del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Igualdad ante la ley  (art. 19, Nº 2 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recho de asociación (art. 19, Nº 15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Igual repartición de tributos  (art. 19, Nº 20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Realizar cualquier actividad económica dentro del sistema legal.  (art. 19, Nº 21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stado subsidiario (art. 19, Nº 21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No discriminación arbitraria  (art. 19, Nº 22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Adquisición del dominio (art. 19, Nº 23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recho de propiedad (art. 19, Nº 24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recho de autor (art. 19, Nº 25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rotección esencia derechos (art. 19, Nº 26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04T02:57:59Z</dcterms:modified>
  <cp:revision>74</cp:revision>
  <dc:subject/>
  <dc:title>Diapositiva 1</dc:title>
</cp:coreProperties>
</file>