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3C96B-BEED-4708-A365-270F8AB4D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DDE32-9060-484E-8064-DB70496A6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BF978-8700-476D-85B9-95208C623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68392-7CC5-48AD-85F8-1E2862BD4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A0CF7-1A83-446B-95BF-D4B616DAF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48E91-3E4A-4F34-B1F8-7F3163857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D30F4-C570-4640-8453-6D42252D2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840BB-132E-4423-9D27-13F1927A1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7BA77-B478-4F56-926A-752647B52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FE321-54F2-45A7-99FD-26CC05F33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21E30-16DD-4162-AA63-2040B8B77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613D2-2476-4DDF-BB49-680B0A289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6F83-FD82-42E9-9FFA-D17B27BE4A6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Arial"/>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COMERCIAL  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mic Sans MS"/>
              </a:rPr>
              <a:t>NOCIONES DEL DESARROLLO HISTORICO DEL DERECHO COMERCIAL</a:t>
            </a:r>
            <a:r>
              <a:rPr b="1" lang="es-ES_tradnl" sz="2400" spc="-1" strike="noStrike">
                <a:solidFill>
                  <a:srgbClr val="3333cc"/>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cc"/>
                </a:solidFill>
                <a:latin typeface="Comic Sans MS"/>
              </a:rPr>
              <a:t>SISTEMAS DE DERECHO COMERCIAL.</a:t>
            </a:r>
            <a:endParaRPr b="0" lang="en-US" sz="4400" spc="-1" strike="noStrike">
              <a:solidFill>
                <a:srgbClr val="000000"/>
              </a:solidFill>
              <a:latin typeface="Times New Roman"/>
            </a:endParaRPr>
          </a:p>
        </p:txBody>
      </p:sp>
      <p:sp>
        <p:nvSpPr>
          <p:cNvPr id="79" name="PlaceHolder 2"/>
          <p:cNvSpPr>
            <a:spLocks noGrp="1"/>
          </p:cNvSpPr>
          <p:nvPr>
            <p:ph/>
          </p:nvPr>
        </p:nvSpPr>
        <p:spPr>
          <a:xfrm>
            <a:off x="457200" y="1844640"/>
            <a:ext cx="8229600" cy="46800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Sistema subjetivo        Derecho de lo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                                        </a:t>
            </a:r>
            <a:r>
              <a:rPr b="0" lang="es-MX" sz="2800" spc="-1" strike="noStrike">
                <a:solidFill>
                  <a:srgbClr val="3333cc"/>
                </a:solidFill>
                <a:latin typeface="Comic Sans MS"/>
              </a:rPr>
              <a:t>comerciant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Sistema objetivo         Derecho de los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ctos de comercio.</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Sistema empresarial       Derecho de la</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ctividad de la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empres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
          <p:cNvSpPr/>
          <p:nvPr/>
        </p:nvSpPr>
        <p:spPr>
          <a:xfrm>
            <a:off x="3924360" y="213372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708360" y="3789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211640" y="5229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cc"/>
                </a:solidFill>
                <a:latin typeface="Comic Sans MS"/>
              </a:rPr>
              <a:t>Sistema Subjetivo</a:t>
            </a:r>
            <a:endParaRPr b="0" lang="en-US" sz="4400" spc="-1" strike="noStrike">
              <a:solidFill>
                <a:srgbClr val="000000"/>
              </a:solidFill>
              <a:latin typeface="Times New Roman"/>
            </a:endParaRPr>
          </a:p>
        </p:txBody>
      </p:sp>
      <p:sp>
        <p:nvSpPr>
          <p:cNvPr id="84" name="PlaceHolder 2"/>
          <p:cNvSpPr>
            <a:spLocks noGrp="1"/>
          </p:cNvSpPr>
          <p:nvPr>
            <p:ph/>
          </p:nvPr>
        </p:nvSpPr>
        <p:spPr>
          <a:xfrm>
            <a:off x="468360" y="1052280"/>
            <a:ext cx="8229600" cy="4530600"/>
          </a:xfrm>
          <a:prstGeom prst="rect">
            <a:avLst/>
          </a:prstGeom>
          <a:noFill/>
          <a:ln w="0">
            <a:noFill/>
          </a:ln>
        </p:spPr>
        <p:txBody>
          <a:bodyPr lIns="90000" rIns="90000" tIns="46800" bIns="46800" anchor="t">
            <a:normAutofit fontScale="89000"/>
          </a:bodyPr>
          <a:p>
            <a:pPr marL="305280" indent="-3052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Comic Sans MS"/>
              </a:rPr>
              <a:t>Durante la Edad Media el Derecho Comercial se independiza del Derecho Civil para responder a las nuevas necesidades del comercio. Es así que surge como una rama del Derecho que regía solo los actos celebrados por aquellos que eran comerciantes además de resolver las controversias entre ellos</a:t>
            </a:r>
            <a:endParaRPr b="0" lang="en-US" sz="3200" spc="-1" strike="noStrike">
              <a:solidFill>
                <a:srgbClr val="000000"/>
              </a:solidFill>
              <a:latin typeface="Times New Roman"/>
            </a:endParaRPr>
          </a:p>
          <a:p>
            <a:pPr marL="305280" indent="-3052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Comic Sans MS"/>
              </a:rPr>
              <a:t>Derecho propio de una categoría de personas: los comerciantes. </a:t>
            </a:r>
            <a:endParaRPr b="0" lang="en-US" sz="3200" spc="-1" strike="noStrike">
              <a:solidFill>
                <a:srgbClr val="000000"/>
              </a:solidFill>
              <a:latin typeface="Times New Roman"/>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9640" y="404640"/>
            <a:ext cx="8229600" cy="4530960"/>
          </a:xfrm>
          <a:prstGeom prst="rect">
            <a:avLst/>
          </a:prstGeom>
          <a:noFill/>
          <a:ln w="0">
            <a:noFill/>
          </a:ln>
        </p:spPr>
        <p:txBody>
          <a:bodyPr lIns="90000" rIns="90000" tIns="46800" bIns="46800" anchor="t">
            <a:normAutofit fontScale="89000"/>
          </a:bodyPr>
          <a:p>
            <a:pPr marL="305280" indent="-305280" algn="just">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Según Ripert la mayoría de los actos que realizan los comerciantes son exactamente los mismos que se ejecutan el vida civil; si ellos tienen el carácter de actos de comercio, no puede ser sino por la calidad de sus autores. Por lo tanto si el acto lo celebran comerciantes, entonces estamos frente a un acto de comercio regulado por el Derecho Comercial</a:t>
            </a:r>
            <a:endParaRPr b="0" lang="en-US" sz="2800" spc="-1" strike="noStrike">
              <a:solidFill>
                <a:srgbClr val="000000"/>
              </a:solidFill>
              <a:latin typeface="Times New Roman"/>
            </a:endParaRPr>
          </a:p>
          <a:p>
            <a:pPr marL="305280" indent="-3052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Como Derecho propio de los comerciantes estos intervienen directamente en su creación a través de la costumbre mercantil. Esto le da dinamismo a la regulación de las</a:t>
            </a:r>
            <a:r>
              <a:rPr b="0" lang="es-MX" sz="3200" spc="-1" strike="noStrike">
                <a:solidFill>
                  <a:srgbClr val="3333cc"/>
                </a:solidFill>
                <a:latin typeface="Comic Sans MS"/>
              </a:rPr>
              <a:t> relaciones comerciales.</a:t>
            </a:r>
            <a:endParaRPr b="0" lang="en-US" sz="3200" spc="-1" strike="noStrike">
              <a:solidFill>
                <a:srgbClr val="000000"/>
              </a:solidFill>
              <a:latin typeface="Times New Roman"/>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Comic Sans MS"/>
              </a:rPr>
              <a:t>Criticas al Sistema Subjetivo</a:t>
            </a:r>
            <a:endParaRPr b="0" lang="en-US" sz="3600" spc="-1" strike="noStrike">
              <a:solidFill>
                <a:srgbClr val="000000"/>
              </a:solidFill>
              <a:latin typeface="Times New Roman"/>
            </a:endParaRPr>
          </a:p>
        </p:txBody>
      </p:sp>
      <p:sp>
        <p:nvSpPr>
          <p:cNvPr id="87"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contrario al principio de igualdad de la Revolución Francesa.</a:t>
            </a:r>
            <a:endParaRPr b="0" lang="en-US" sz="2800" spc="-1" strike="noStrike">
              <a:solidFill>
                <a:srgbClr val="000000"/>
              </a:solidFill>
              <a:latin typeface="Times New Roman"/>
            </a:endParaRPr>
          </a:p>
          <a:p>
            <a:pPr marL="343080" indent="-343080" algn="just">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Este sistema podía llevar al absurdo de regular todas las relaciones jurídicas de los comerciantes, incluso aquellas que no fueran mercantiles como las de familia.</a:t>
            </a:r>
            <a:endParaRPr b="0" lang="en-US" sz="2800" spc="-1" strike="noStrike">
              <a:solidFill>
                <a:srgbClr val="000000"/>
              </a:solidFill>
              <a:latin typeface="Times New Roman"/>
            </a:endParaRPr>
          </a:p>
          <a:p>
            <a:pPr marL="343080" indent="-343080" algn="just">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Por último, si un no comerciante realizaba un acto de comercio ocasional no lo regulaba el Derecho Mercantil ya que no tenía la calidad de comercia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Sistema Objetivo</a:t>
            </a:r>
            <a:endParaRPr b="0" lang="en-US" sz="4400" spc="-1" strike="noStrike">
              <a:solidFill>
                <a:srgbClr val="000000"/>
              </a:solidFill>
              <a:latin typeface="Times New Roman"/>
            </a:endParaRPr>
          </a:p>
        </p:txBody>
      </p:sp>
      <p:sp>
        <p:nvSpPr>
          <p:cNvPr id="89"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Se fundamenta en el principio de igualdad inspirador de la revolución francesa. </a:t>
            </a:r>
            <a:endParaRPr b="0" lang="en-US" sz="3200" spc="-1" strike="noStrike">
              <a:solidFill>
                <a:srgbClr val="000000"/>
              </a:solidFill>
              <a:latin typeface="Times New Roman"/>
            </a:endParaRPr>
          </a:p>
          <a:p>
            <a:pPr marL="325800" indent="-325800" algn="just">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olesta la existencia de un Derecho de clase. </a:t>
            </a:r>
            <a:endParaRPr b="0" lang="en-US" sz="3200" spc="-1" strike="noStrike">
              <a:solidFill>
                <a:srgbClr val="000000"/>
              </a:solidFill>
              <a:latin typeface="Times New Roman"/>
            </a:endParaRPr>
          </a:p>
          <a:p>
            <a:pPr marL="325800" indent="-325800" algn="just">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on el Código de Comercio Francés de 1807 se enfoca al Derecho Comercial como un derecho de los actos de comercio objetivos, mercantiles en sí, con independencia de la condición o profesión del sujeto que los realiz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4920" y="404280"/>
            <a:ext cx="8302680" cy="5977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Muchos países, incluido Chile, tomaron al código francés de 1807 como modelo en  sus procesos de codificación del derecho mercantil, extendiéndose la concepción objetiva del derecho mercantil.</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elaborador de esta noción y autor más representativo de ésta es Pardessus, posteriormente seguido por Delamarre y Le Poitvin, Lyon-Caen, Renault, Thaller y Percerou.</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ierde importancia la calidad de las personas que realizan operaciones de comercio. Basta que cualquier individuo efectúe una de ellas para que quede cubierto por el manto regulatorio del Derecho Mercant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Criticas al Sistema Objetivo</a:t>
            </a:r>
            <a:endParaRPr b="0" lang="en-US" sz="4400" spc="-1" strike="noStrike">
              <a:solidFill>
                <a:srgbClr val="000000"/>
              </a:solidFill>
              <a:latin typeface="Times New Roman"/>
            </a:endParaRPr>
          </a:p>
        </p:txBody>
      </p:sp>
      <p:sp>
        <p:nvSpPr>
          <p:cNvPr id="92" name="PlaceHolder 2"/>
          <p:cNvSpPr>
            <a:spLocks noGrp="1"/>
          </p:cNvSpPr>
          <p:nvPr>
            <p:ph/>
          </p:nvPr>
        </p:nvSpPr>
        <p:spPr>
          <a:xfrm>
            <a:off x="395280" y="1196640"/>
            <a:ext cx="8291520" cy="4933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Imposibilidad de encontrar un concepto unitario de “Acto de Comercio”.</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 </a:t>
            </a:r>
            <a:r>
              <a:rPr b="0" lang="es-ES" sz="3200" spc="-1" strike="noStrike">
                <a:solidFill>
                  <a:srgbClr val="3333cc"/>
                </a:solidFill>
                <a:latin typeface="Comic Sans MS"/>
              </a:rPr>
              <a:t>No se puede llegar a una noción del Derecho Comercial como disciplina reguladora de estos actos mercantiles, cuya naturaleza íntima se descono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000" y="333360"/>
            <a:ext cx="8218440" cy="5510160"/>
          </a:xfrm>
          <a:prstGeom prst="rect">
            <a:avLst/>
          </a:prstGeom>
          <a:noFill/>
          <a:ln w="0">
            <a:noFill/>
          </a:ln>
        </p:spPr>
        <p:txBody>
          <a:bodyPr lIns="90000" rIns="90000" tIns="46800" bIns="46800" anchor="t">
            <a:normAutofit fontScale="87000"/>
          </a:bodyPr>
          <a:p>
            <a:pPr marL="298440" indent="-29844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s así que en  muchos países se produce un retorno  a la concepción subjetiva. Por ejemplo, Alemania dictó un código de comercio en 1861 el cual acogió la noción objetiva imperante en la época, abandonando con esto a la subjetiva. Sin embargo, en 1897 dicta un nuevo código el cual nuevamente recoge el sistema subjetivo con el fin de impulsar el comercio, otorgándole así a los propios comerciantes un rol más activo en la creación del Derecho Mercantil, buscando mayor dinamismo económ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Sistema Empresarial</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Hoy en día las operaciones comerciales son realizadas de manera repetitiva en masa por las empresas. Para realizar esto necesitan estar organizadas para poder desarrollar estas operaciones de manera permanente. Así para algunos </a:t>
            </a:r>
            <a:r>
              <a:rPr b="0" i="1" lang="es-ES" sz="2800" spc="-1" strike="noStrike">
                <a:solidFill>
                  <a:srgbClr val="3333cc"/>
                </a:solidFill>
                <a:latin typeface="Comic Sans MS"/>
              </a:rPr>
              <a:t>“el derecho comercial  es aquel  que regula y ordena la actividad económica constitutiva de empres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475920"/>
            <a:ext cx="8291520" cy="56545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l centro de gravedad se traslada del acto a la organización.</a:t>
            </a:r>
            <a:endParaRPr b="0" lang="en-US" sz="3200" spc="-1" strike="noStrike">
              <a:solidFill>
                <a:srgbClr val="000000"/>
              </a:solidFill>
              <a:latin typeface="Times New Roman"/>
            </a:endParaRPr>
          </a:p>
          <a:p>
            <a:pPr marL="343080" indent="-3430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l derecho Mercantil no deja de regular los actos jurídicos comerciales, ahora realizados en masa, sino que además de regular éstos también reglamenta a las empresa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58920" y="304920"/>
            <a:ext cx="84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p:txBody>
      </p:sp>
      <p:sp>
        <p:nvSpPr>
          <p:cNvPr id="49" name=""/>
          <p:cNvSpPr/>
          <p:nvPr/>
        </p:nvSpPr>
        <p:spPr>
          <a:xfrm>
            <a:off x="395280" y="981000"/>
            <a:ext cx="7777080" cy="619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Fenicios, Cataginenses y Griegos:  Gran desarrollo comercial.</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EDAD MEDIA.</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a:t>
            </a:r>
            <a:r>
              <a:rPr b="0" lang="es-ES_tradnl" sz="3200" spc="-1" strike="noStrike">
                <a:solidFill>
                  <a:srgbClr val="3333cc"/>
                </a:solidFill>
                <a:latin typeface="Comic Sans MS"/>
              </a:rPr>
              <a:t>- Nacimiento del Derecho  </a:t>
            </a:r>
            <a:r>
              <a:rPr b="0" lang="es-ES_tradnl" sz="3200" spc="-1" strike="noStrike">
                <a:solidFill>
                  <a:srgbClr val="3333cc"/>
                </a:solidFill>
                <a:latin typeface="Comic Sans MS"/>
              </a:rPr>
              <a:t>	</a:t>
            </a:r>
            <a:r>
              <a:rPr b="0" lang="es-ES_tradnl" sz="3200" spc="-1" strike="noStrike">
                <a:solidFill>
                  <a:srgbClr val="3333cc"/>
                </a:solidFill>
                <a:latin typeface="Comic Sans MS"/>
              </a:rPr>
              <a:t>Comercial.</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a:t>
            </a:r>
            <a:r>
              <a:rPr b="0" lang="es-ES_tradnl" sz="3200" spc="-1" strike="noStrike">
                <a:solidFill>
                  <a:srgbClr val="3333cc"/>
                </a:solidFill>
                <a:latin typeface="Comic Sans MS"/>
              </a:rPr>
              <a:t>- Causas: Gran actividad </a:t>
            </a:r>
            <a:r>
              <a:rPr b="0" lang="es-ES_tradnl" sz="3200" spc="-1" strike="noStrike">
                <a:solidFill>
                  <a:srgbClr val="3333cc"/>
                </a:solidFill>
                <a:latin typeface="Comic Sans MS"/>
              </a:rPr>
              <a:t>	</a:t>
            </a:r>
            <a:r>
              <a:rPr b="0" lang="es-ES_tradnl" sz="3200" spc="-1" strike="noStrike">
                <a:solidFill>
                  <a:srgbClr val="3333cc"/>
                </a:solidFill>
                <a:latin typeface="Comic Sans MS"/>
              </a:rPr>
              <a:t>económica, necesidad de regulación </a:t>
            </a:r>
            <a:r>
              <a:rPr b="0" lang="es-ES_tradnl" sz="3200" spc="-1" strike="noStrike">
                <a:solidFill>
                  <a:srgbClr val="3333cc"/>
                </a:solidFill>
                <a:latin typeface="Comic Sans MS"/>
              </a:rPr>
              <a:t>	</a:t>
            </a:r>
            <a:r>
              <a:rPr b="0" lang="es-ES_tradnl" sz="3200" spc="-1" strike="noStrike">
                <a:solidFill>
                  <a:srgbClr val="3333cc"/>
                </a:solidFill>
                <a:latin typeface="Comic Sans MS"/>
              </a:rPr>
              <a:t>especial.</a:t>
            </a:r>
            <a:endParaRPr b="0" lang="en-US" sz="32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mic Sans MS"/>
              </a:rPr>
              <a:t>Criticas al Sistema Empresarial</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erecho Mercantil no domina a la empresa puesto que esta es objeto de regulación por otras ramas del Derecho, como por ejemplo el derecho tributario, el derecho laboral, el derecho administrativo, etc.</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or lo anterior, Derecho Mercantil no es un equivalente a Derecho de la Empresa, tanto como Derecho Mercantil tampoco equivale a Derecho de los actos de comercio o a Derecho de los comerciantes sol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Conclusione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s imposible encontrar en un país un Derecho Comercial que recoge de manera pura alguna de las nociones sobre su naturaleza. Siempre nos encontramos con un Derecho Mercantil de naturaleza ecléctica.</a:t>
            </a:r>
            <a:endParaRPr b="0" lang="en-US" sz="3200" spc="-1" strike="noStrike">
              <a:solidFill>
                <a:srgbClr val="000000"/>
              </a:solidFill>
              <a:latin typeface="Times New Roman"/>
            </a:endParaRPr>
          </a:p>
          <a:p>
            <a:pPr marL="343080" indent="-3430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l caso chileno no es la excepción en esta mate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549360"/>
            <a:ext cx="8291520" cy="558144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En Chile podemos ver que en el art. 3º del Código de comercio que enumera los actos de comercio, se atiende a diversos criterios para hacer la calificación de mercantiles de estos actos. La intención de las partes, su condición de comerciantes o de empresa o simplemente el hecho de ser una operación característica del Derecho Comercial (actos formales de comercio).</a:t>
            </a:r>
            <a:endParaRPr b="0" lang="en-US" sz="2800" spc="-1" strike="noStrike">
              <a:solidFill>
                <a:srgbClr val="000000"/>
              </a:solidFill>
              <a:latin typeface="Times New Roman"/>
            </a:endParaRPr>
          </a:p>
          <a:p>
            <a:pPr marL="609480" indent="-609480" algn="just">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Además existen leyes comerciales que regulan la organización de la empresa como es el caso de la Ley de S.A. Nº 18.046, la ley de empresas individuales de responsabilidad limitada Nº 19.857, entre otr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84360" y="189000"/>
            <a:ext cx="669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95280" y="26028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189080" y="1052640"/>
            <a:ext cx="3816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11280" y="1125360"/>
            <a:ext cx="8064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11280" y="1052640"/>
            <a:ext cx="806436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consuetudinario; nace por los usos y costumbres de los propios comercian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Características: Conjunto de normas diferentes, autónomas y especiales.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profesional, subjetivo 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uniforme (</a:t>
            </a:r>
            <a:r>
              <a:rPr b="0" i="1" lang="es-ES_tradnl" sz="3200" spc="-1" strike="noStrike">
                <a:solidFill>
                  <a:srgbClr val="3333cc"/>
                </a:solidFill>
                <a:latin typeface="Comic Sans MS"/>
              </a:rPr>
              <a:t>ius gentium</a:t>
            </a:r>
            <a:r>
              <a:rPr b="0" lang="es-ES_tradnl" sz="3200" spc="-1" strike="noStrike">
                <a:solidFill>
                  <a:srgbClr val="3333cc"/>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Consulares: Tribunales de Comercio.</a:t>
            </a:r>
            <a:endParaRPr b="0" lang="en-US" sz="3200" spc="-1" strike="noStrike">
              <a:solidFill>
                <a:srgbClr val="000000"/>
              </a:solidFill>
              <a:latin typeface="Arial"/>
            </a:endParaRPr>
          </a:p>
          <a:p>
            <a:pPr>
              <a:lnSpc>
                <a:spcPct val="100000"/>
              </a:lnSpc>
              <a:spcBef>
                <a:spcPts val="2001"/>
              </a:spcBef>
              <a:buClr>
                <a:srgbClr val="cc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58920" y="304920"/>
            <a:ext cx="8605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95280" y="1052640"/>
            <a:ext cx="7777080" cy="1096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84360" y="1197000"/>
            <a:ext cx="8208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33cc"/>
                </a:solidFill>
                <a:latin typeface="Comic Sans MS"/>
              </a:rPr>
              <a:t>-. Constituta usus medievales.</a:t>
            </a:r>
            <a:r>
              <a:rPr b="0" lang="es-ES_tradnl" sz="3200" spc="-1" strike="noStrike">
                <a:solidFill>
                  <a:srgbClr val="3333cc"/>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Jurisdicción Consular: Solo a comercian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Estatutos de los Municipi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Principales área: Marítima y banc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358920" y="304920"/>
            <a:ext cx="8605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395280" y="1052640"/>
            <a:ext cx="7777080" cy="1059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84360" y="1268280"/>
            <a:ext cx="770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marítimo, ejemplo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de Seguro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Sociedad en comandita.</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Sociedad Anónima.</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El mar mercantiliza los actos” (art. 3 nº16 C.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79280" y="304920"/>
            <a:ext cx="856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395280" y="1125360"/>
            <a:ext cx="8209080" cy="569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EPOCA MONARQUICA, SIGLO XVII.</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Codificaciones de Luis XIV:</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Ordenanzas sobre el Comercio de 1673 (Savary).</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Ordenanzas sobre la Marina de 1681 (Colbert). </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Estatal.</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Comerciantes </a:t>
            </a:r>
            <a:r>
              <a:rPr b="0" i="1" lang="es-ES_tradnl" sz="3200" spc="-1" strike="noStrike">
                <a:solidFill>
                  <a:srgbClr val="3333cc"/>
                </a:solidFill>
                <a:latin typeface="Comic Sans MS"/>
              </a:rPr>
              <a:t>Quoad actum.</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58920" y="304920"/>
            <a:ext cx="846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95280" y="981000"/>
            <a:ext cx="7777080" cy="448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REVOLUCION FRANCESA.</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Abandono del carácter profesional.</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Objetivo (Código Francé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Concepto de “acto de comercio”.</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58920" y="304920"/>
            <a:ext cx="846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95280" y="1268280"/>
            <a:ext cx="7777080" cy="448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SIGLO XIX.</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de los negocio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Inserción de la actividad productora de bienes y servicio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Regulación del crédito.</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Letra de cambio: acto de comercio fundamental.</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22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3333cc"/>
                </a:solidFill>
                <a:latin typeface="Comic Sans MS"/>
              </a:rPr>
              <a:t>CONTENIDO DEL DERECHO COMERCIAL.</a:t>
            </a:r>
            <a:endParaRPr b="0" lang="en-US" sz="4400" spc="-1" strike="noStrike">
              <a:solidFill>
                <a:srgbClr val="000000"/>
              </a:solidFill>
              <a:latin typeface="Times New Roman"/>
            </a:endParaRPr>
          </a:p>
        </p:txBody>
      </p:sp>
      <p:sp>
        <p:nvSpPr>
          <p:cNvPr id="77" name="PlaceHolder 2"/>
          <p:cNvSpPr>
            <a:spLocks noGrp="1"/>
          </p:cNvSpPr>
          <p:nvPr>
            <p:ph/>
          </p:nvPr>
        </p:nvSpPr>
        <p:spPr>
          <a:xfrm>
            <a:off x="395280" y="1557000"/>
            <a:ext cx="8229600" cy="4530600"/>
          </a:xfrm>
          <a:prstGeom prst="rect">
            <a:avLst/>
          </a:prstGeom>
          <a:noFill/>
          <a:ln w="0">
            <a:noFill/>
          </a:ln>
        </p:spPr>
        <p:txBody>
          <a:bodyPr lIns="90000" rIns="90000" tIns="46800" bIns="46800" anchor="t">
            <a:normAutofit fontScale="98000"/>
          </a:bodyPr>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5880" indent="-335880" algn="just">
              <a:lnSpc>
                <a:spcPct val="8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Comic Sans MS"/>
              </a:rPr>
              <a:t>Frente a un acto jurídico que ordenamiento aplicamos ¿el civil o comercial?.</a:t>
            </a:r>
            <a:endParaRPr b="0" lang="en-US" sz="3200" spc="-1" strike="noStrike">
              <a:solidFill>
                <a:srgbClr val="000000"/>
              </a:solidFill>
              <a:latin typeface="Times New Roman"/>
            </a:endParaRPr>
          </a:p>
          <a:p>
            <a:pPr marL="335880" indent="-335880" algn="just">
              <a:lnSpc>
                <a:spcPct val="8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Comic Sans MS"/>
              </a:rPr>
              <a:t>¿Qué es lo que regula el Derecho Comercial?.</a:t>
            </a:r>
            <a:endParaRPr b="0" lang="en-US" sz="3200" spc="-1" strike="noStrike">
              <a:solidFill>
                <a:srgbClr val="000000"/>
              </a:solidFill>
              <a:latin typeface="Times New Roman"/>
            </a:endParaRPr>
          </a:p>
          <a:p>
            <a:pPr marL="335880" indent="-335880" algn="just">
              <a:lnSpc>
                <a:spcPct val="8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Comic Sans MS"/>
              </a:rPr>
              <a:t>Hay que buscar la esencia o naturaleza del Derecho Comercial para responder estas preguntas</a:t>
            </a:r>
            <a:endParaRPr b="0" lang="en-US" sz="3200" spc="-1" strike="noStrike">
              <a:solidFill>
                <a:srgbClr val="000000"/>
              </a:solidFill>
              <a:latin typeface="Times New Roman"/>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17:21:34Z</dcterms:created>
  <dc:creator>WinuE</dc:creator>
  <dc:description/>
  <dc:language>en-US</dc:language>
  <cp:lastModifiedBy>Elizabeth</cp:lastModifiedBy>
  <dcterms:modified xsi:type="dcterms:W3CDTF">2008-09-04T03:51:31Z</dcterms:modified>
  <cp:revision>16</cp:revision>
  <dc:subject/>
  <dc:title>NOCIONES DEL DESARROLLO HISTORICO DEL DERECHO COMERCIAL</dc:title>
</cp:coreProperties>
</file>