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776-D0A8-403C-8D98-3000FC4F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12E3-1B7A-47B9-AAE3-E55B9898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B5C-88D1-4E0C-82D7-2A5F63DF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A2F6-E343-4884-96BA-4BD3D6BF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11A-01EE-488C-BEF5-ACA05004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9BC6-93A8-4487-A02D-7673B171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25C-82D3-476E-B888-272994AF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BF7-FEC3-4E89-B933-34A23F77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B6DA-BB92-4E91-B9C5-725A7D8E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7C18-CAB3-441C-893F-97407A80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2704-8AC5-4D3A-B653-67A29634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E738-0303-446A-B780-882C6029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AB60-4EA9-4410-9C24-1F6C13B43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FUENTES DEL 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ONCEPTOS ECONOMICOS Y JURIDICOS DEL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90792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Perspectiva de Equivalencia Econó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80647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ONCEPTOS ECONOMICOS Y JURIDICOS DEL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981000"/>
            <a:ext cx="777708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ANTECEDENTES HISTÓRICOS DEL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3 Imagen" descr="AmagiLogo.gif"/>
          <p:cNvPicPr/>
          <p:nvPr/>
        </p:nvPicPr>
        <p:blipFill>
          <a:blip r:embed="rId2"/>
          <a:stretch/>
        </p:blipFill>
        <p:spPr>
          <a:xfrm>
            <a:off x="3132000" y="1341360"/>
            <a:ext cx="2905200" cy="3225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4724280"/>
            <a:ext cx="835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Comic Sans MS"/>
              </a:rPr>
              <a:t>Amagi : Means Libert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he cuneiform inscription for which this new imprint is named also serves as a design element in all Liberty Fund books. It is the earliest-known written appearance of the word "freedom" (amagi), or "liberty." It is taken from a clay document written about 2300 B.C. in the Sumerian city-state of Lagash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( www.libertyfund.o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32544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ROPOSITOS DE LAS PARTES EN LOS CONTR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907920"/>
            <a:ext cx="7777080" cy="59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BUSQUEDA DE BENEF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Satisfacción de una necesid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Vivi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du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Recibir dinero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Determinación de la mon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Tipo de cam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Valor efectivo del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Fecha y lugar del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Costos = Benef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quivalencia de las pres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RECONOCIMIENTO JURIDICO DEL PRINCIP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90792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Comic Sans MS"/>
              </a:rPr>
              <a:t>CONVENCION DE VIENA</a:t>
            </a:r>
            <a:r>
              <a:rPr b="1" lang="es-CL" sz="1600" spc="-1" strike="noStrike">
                <a:solidFill>
                  <a:srgbClr val="3333cc"/>
                </a:solidFill>
                <a:latin typeface="Comic Sans MS"/>
              </a:rPr>
              <a:t>. </a:t>
            </a:r>
            <a:r>
              <a:rPr b="1" lang="es-CL" sz="1400" spc="-1" strike="noStrike">
                <a:solidFill>
                  <a:srgbClr val="3333cc"/>
                </a:solidFill>
                <a:latin typeface="Comic Sans MS"/>
              </a:rPr>
              <a:t>COMPRAVENTA INTERNACIONAL MERCADERIAS (198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916280"/>
            <a:ext cx="777708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ncumplimiento esencial    (art. 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l incumplimiento del contrato por una de las partes será esencial cuando cause a la otra parte un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</a:rPr>
              <a:t>perjuicio tal que la prive sustancialmente de lo que tenía derecho a espera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 en virtud del contrato, salvo que la parte que haya incumplido no hubiera previsto tal resultado y que una persona razonable de la misma condición no lo hubiera previsto en igual situació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A LIBERTAD INSTITUCIONAL Y CONSTR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484280"/>
            <a:ext cx="777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LIBERTAD INSTITU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gualdad ante la ley  (art. 19, Nº 2  C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Derecho de asociación (art. 19, Nº 15 C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gual repartición de tributos  (art. 19, Nº 20 C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alizar cualquier actividad económica dentro del sistema legal.  (art. 19, Nº 21 C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stado subsidiario (art. 19, Nº 21 C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No discriminación arbitraria  (art. 19, Nº 22 C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dquisición del dominio (art. 19, Nº 23 C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Derecho de propiedad (art. 19, Nº 24 C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Derecho de autor (art. 19, Nº 25 C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Protección esencia derechos (art. 19, Nº 26 C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A LIBERTAD INSTITUCIONAL Y CONSTR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907920"/>
            <a:ext cx="8137440" cy="60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LIBERTAD CONTR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Concurso real de voluntades  (art. 1437, C.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Consentimientos sin vicios  (art. 1445, C.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Vicios: error, fuerza, dolo  (art. 1451, C.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La ley del contrato  (art. 1545, C.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La buena fe contractual  (art. 1546. C.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quivalencia de las prestaciones  (art. 1441, C.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La  intención de las partes  (art. 1560, C.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plicación actos de comercio  (art. 2 y 96, C. Com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PROTECCION JURISDIC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907920"/>
            <a:ext cx="8137440" cy="48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CURSOS ESPE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curso de protección  (art. 20, C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curso de amparo económico  (ley 18.97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curso de libre competencia  (D.L. 2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curso del consumidor (ley 19.4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cursos leyes especiales (vari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PROTECCION JURISDIC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907920"/>
            <a:ext cx="8137440" cy="60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FUNCION JURISDICCIONAL DE LA AUTORIDAD ADMINIST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Contraloría General de la República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Superintendencia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Superintendencia de B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Superintendencia de A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Superintendencia de Servicios Eléc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Superintendencia de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Superintendencia de Edu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PROTECCION JURISDIC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907920"/>
            <a:ext cx="8137440" cy="60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CURSOS ORDI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Juicio ordinario  (C.P.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Juicio sumario  (C.P.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Juicio ejecutivo (C.P.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rbitrajes  (C.P.C. y C.O.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Juicios de hacienda (C.P.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Juicios criminales (C.P.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PROTECCION JURISDIC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907920"/>
            <a:ext cx="813744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CURSOS DISCIPLI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curso de queja  (C.O.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Queja disciplinaria  (C.O.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ONCEPTO DE FU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777708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ANALISIS DE CASOS R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907920"/>
            <a:ext cx="813744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CURSO DE PROTE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Carter Holt Harvey/C.I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ECURSO DE AMPARO ECONO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soc. Impresores/Ejerc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viación forestal/CON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TRIBUNAL LIBRE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viación forestal/CON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ANALISIS DE CASOS R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907920"/>
            <a:ext cx="813744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JUICIO EJ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Ocultamiento de bienes en una S.R.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JUICIO ADMINISTRATIVO Y PE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l caso Antu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JUICIO ARBI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l caso Carter Holt Harv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3052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68120" y="460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68120" y="460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68120" y="460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050920" y="692280"/>
            <a:ext cx="4707000" cy="4752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5445000"/>
            <a:ext cx="770436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Es una radio de marca americana, fabricada en China, con componentes japoneses, que un amigo alemán, a su llegada de Australia, me regaló en Méx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© </a:t>
            </a: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( El Mercurio 23.09.06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20500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ADU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93080" y="1989000"/>
            <a:ext cx="187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66"/>
                </a:solidFill>
                <a:latin typeface="Comic Sans MS"/>
              </a:rPr>
              <a:t>Calma ! !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66"/>
                </a:solidFill>
                <a:latin typeface="Comic Sans MS"/>
              </a:rPr>
              <a:t>A ver..., todo de nuev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18900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76360" y="26028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HOY DÍA EL COMERCIO ESTA GLOBALI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ONCEPTOS ECONOMICOS Y JURIDICOS DEL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052640"/>
            <a:ext cx="7777080" cy="56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¿Qué es un acto de comercio?           (     Negocio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Intercambio de bienes, dinero y servic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Satisfacción de una neces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Obtención de un beneficio económico    (     Monetario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Generalmente hay procesos de logíst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Preparación de la mercad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Transpor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Nacional e 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Almacen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Otros servicios relacion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ONCEPTOS ECONOMICOS Y JURIDICOS DEL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052640"/>
            <a:ext cx="7777080" cy="69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jemplos de actos de comercio o de negoc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Compraventa de mercader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Supermercados, tiendas de departamentos, locales come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Operaciones de Ban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Seg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Bolsa de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Agentes y comis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Importaciones y expor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Inversión 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Fusiones y adquis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ONCEPTOS ECONOMICOS Y JURIDICOS DEL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125360"/>
            <a:ext cx="7777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Algunos elementos básicos de los actos de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ibertad de las personas para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Contratar o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scoger mercadería, nacional o extranj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Fijar pre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fectuar transpo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Contratar servicios adi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Tener derecho al beneficio econó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Protección jurisdiccional para sus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ONCEPTOS ECONOMICOS Y JURIDICOS DEL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981000"/>
            <a:ext cx="7777080" cy="52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l sistema institucional deb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Reconocer y garantizar la libertad de todas las perso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l derecho a celebrar contratos independientemente de la autor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l derecho a efectuar contratos de compra o de venta con cualquier contraparte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l derecho a efectuar contratos de compra o de venta con cualquier contraparte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l derecho a viajar libremente dentro o fuera del paí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protección jurisdiccional a la libre compe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proteccion jurisdiccional a la libertad contr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ONCEPTOS ECONOMICOS Y JURIDICOS DEL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268280"/>
            <a:ext cx="7777080" cy="42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REQUISITOS DE LOS NEGOCIOS: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Perspectiva jur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Equivalencia de las pres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Do Ut 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Perspectiva econó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Mercado de competencia perfec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BMa=C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ONCEPTOS ECONOMICOS Y JURIDICOS DEL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907920"/>
            <a:ext cx="777708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PERSPECTIVA JURIDICA: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Cada contrato legalmente celebrado es una ley para los contrata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os contratos deben ejecutarse de buena fe y obligan también a todas las cosas propias de su naturale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Conocida claramente la intención de los contratantes, debe estarse a ella más que a lo literal de las palab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Cuando el sentido de la ley es claro, no se desatenderá su tenor literal a pretexto de consultar su espírit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En los contratos bilaterales la obligación de una parte se mira como equivalente a la obligación de la otr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08-27T19:58:54Z</dcterms:modified>
  <cp:revision>63</cp:revision>
  <dc:subject/>
  <dc:title>Diapositiva 1</dc:title>
</cp:coreProperties>
</file>