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A1A-A6C0-4945-8F92-8C850C01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6E1-CD04-4363-A600-95A135A1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565-376C-4AC9-8403-EF1E69D0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E34-0982-455E-8AE6-0854A914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5EE-B007-433E-A392-231F7C7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3C1-A201-4586-B0F2-3B5955BE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9EB-7457-462D-AA33-D2313E2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A14-4CE6-4944-A63E-9A82AC8A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8EF-C46B-454D-AAB3-A2751C4B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594-75F3-49A0-A6ED-8964EE6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401-C672-443F-A742-E8DF859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4A1-FCD3-4416-B0D3-F03A189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6A6-AE0E-4DEC-8FBF-396CBC611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UENTES DEL 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07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Perspectiva de Equivalencia 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064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81000"/>
            <a:ext cx="7777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ANTECEDENTES HISTÓRICO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3 Imagen" descr="AmagiLogo.gif"/>
          <p:cNvPicPr/>
          <p:nvPr/>
        </p:nvPicPr>
        <p:blipFill>
          <a:blip r:embed="rId2"/>
          <a:stretch/>
        </p:blipFill>
        <p:spPr>
          <a:xfrm>
            <a:off x="3132000" y="1341360"/>
            <a:ext cx="2905200" cy="3225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4724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Amagi : Means Liber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he cuneiform inscription for which this new imprint is named also serves as a design element in all Liberty Fund books. It is the earliest-known written appearance of the word "freedom" (amagi), or "liberty." It is taken from a clay document written about 2300 B.C. in the Sumerian city-state of Laga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( www.libertyfund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2544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ROPOSITOS DE LAS PARTES EN LOS 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07920"/>
            <a:ext cx="7777080" cy="59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BUSQUEDA DE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atisfacción de una neces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Recibir dinero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terminación de la mon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ipo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alor efectivo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echa y lugar d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stos =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quivalencia de las pr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RECONOCIMIENTO JURIDICO DEL PRINCI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9079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CONVENCION DE VIENA</a:t>
            </a:r>
            <a:r>
              <a:rPr b="1" lang="es-CL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1" lang="es-CL" sz="1400" spc="-1" strike="noStrike">
                <a:solidFill>
                  <a:srgbClr val="3333cc"/>
                </a:solidFill>
                <a:latin typeface="Comic Sans MS"/>
              </a:rPr>
              <a:t>COMPRAVENTA INTERNACIONAL MERCADERIAS (19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916280"/>
            <a:ext cx="777708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ncumplimiento esencial    (art.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incumplimiento del contrato por una de las partes será esencial cuando cause a la otra parte un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</a:rPr>
              <a:t>perjuicio tal que la prive sustancialmente de lo que tenía derecho a esper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 en virtud del contrato, salvo que la parte que haya incumplido no hubiera previsto tal resultado y que una persona razonable de la misma condición no lo hubiera previsto en igual situació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A LIBERTAD INSTITUCIONAL Y CONSTR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484280"/>
            <a:ext cx="777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IBERTAD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gualdad ante la ley  (art. 19, Nº 2 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recho de asociación (art. 19, Nº 15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gual repartición de tributos  (art. 19, Nº 20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alizar cualquier actividad económica dentro del sistema legal.  (art. 19, Nº 21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stado subsidiario (art. 19, Nº 21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No discriminación arbitraria  (art. 19, Nº 22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dquisición del dominio (art. 19, Nº 23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recho de propiedad (art. 19, Nº 24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recho de autor (art. 19, Nº 25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rotección esencia derechos (art. 19, Nº 26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A LIBERTAD INSTITUCIONAL Y CONSTR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07920"/>
            <a:ext cx="8137440" cy="60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IBERTA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curso real de voluntades  (art. 1437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sentimientos sin vicios  (art. 1445, C.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Vicios: error, fuerza, dolo  (art. 1451, C.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ley del contrato  (art. 1545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buena fe contractual  (art. 1546. C.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quivalencia de las prestaciones  (art. 1441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 intención de las partes  (art. 1560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plicación actos de comercio  (art. 2 y 96, C. Co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907920"/>
            <a:ext cx="813744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protección  (art. 20,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amparo económico  (ley 18.9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libre competencia  (D.L. 2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l consumidor (ley 19.4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leyes especiales (va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907920"/>
            <a:ext cx="813744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FUNCION JURISDICCIONAL DE LA AUTORIDAD ADMINIST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traloría General de la Repúblic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A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Servicios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907920"/>
            <a:ext cx="813744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ordinario 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sumario 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ejecutivo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rbitrajes  (C.P.C. y C.O.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s de hacienda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s criminales (C.P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907920"/>
            <a:ext cx="813744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DISCIPL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queja  (C.O.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Queja disciplinaria  (C.O.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 DE F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ALISIS DE CAS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907920"/>
            <a:ext cx="813744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PROTE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arter Holt Harvey/C.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AMPARO ECON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soc. Impresores/Ejer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viación forestal/CO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TRIBUNAL LIBRE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viación forestal/CO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ALISIS DE CAS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907920"/>
            <a:ext cx="8137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Ocultamiento de bienes en una S.R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ADMINISTRATIVO Y P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caso Antu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ARBI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caso Carter Holt Ha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050920" y="692280"/>
            <a:ext cx="4707000" cy="475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445000"/>
            <a:ext cx="77043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s una radio de marca americana, fabricada en China, con componentes japoneses, que un amigo alemán, a su llegada de Australia, me regaló en 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© 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( El Mercurio 23.09.06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2050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ADU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989000"/>
            <a:ext cx="187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Calma ! !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A ver..., todo de nuev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26028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OY DÍA EL COMERCIO ESTA GLOB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¿Qué es un acto de comercio?           (     Negocio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Intercambio de bienes, dinero y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atisfacción de una neces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btención de un beneficio económico    (     Monetario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Generalmente hay procesos de logís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Preparación de la mercad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acional e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lmacen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tros servicios relac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052640"/>
            <a:ext cx="7777080" cy="69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jemplos de actos de comercio o de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mpraventa de 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upermercados, tiendas de departamentos, locale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peraciones de Ban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Bolsa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gentes y comis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Importaciones y expor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Inversión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usiones y adqui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7777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lgunos elementos básicos de los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ibertad de las personas par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tratar o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scoger mercadería, nacional o extran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ijar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fectuar trans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tratar servicios adi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ner derecho al benefici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Protección jurisdiccional para sus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81000"/>
            <a:ext cx="777708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sistema institucional deb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Reconocer y garantizar la libertad de todas las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celebrar contratos independientemente de la auto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efectuar contratos de compra o de venta con cualquier contraparte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efectuar contratos de compra o de venta con cualquier contraparte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viajar libremente dentro o fuera d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otección jurisdiccional a la libre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oteccion jurisdiccional a la libertad contr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268280"/>
            <a:ext cx="777708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REQUISITOS DE LOS NEGOCIOS: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erspectiva jur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Equivalencia de las pr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Do Ut 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erspectiva 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Mercado de competencia perf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BMa=C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907920"/>
            <a:ext cx="7777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ERSPECTIVA JURIDICA: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ada contrato legalmente celebrado es una ley para los contra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contratos deben ejecutarse de buena fe y obligan también a todas las cosas propias de su natural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ocida claramente la intención de los contratantes, debe estarse a ella más que a lo literal de las pala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uando el sentido de la ley es claro, no se desatenderá su tenor literal a pretexto de consultar su espíri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los contratos bilaterales la obligación de una parte se mira como equivalente a la obligación de la otr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8-27T19:58:54Z</dcterms:modified>
  <cp:revision>63</cp:revision>
  <dc:subject/>
  <dc:title>Diapositiva 1</dc:title>
</cp:coreProperties>
</file>