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17FFD-6D7B-4EC9-961E-050CDAAAA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112B1-A43B-4620-874D-160CF82F2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66537-FEC0-4CB4-8D28-C3FE16289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7422E-A889-4625-BE4E-CA702DA11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73B85B-7FF3-4D56-AC9F-D8DE0B6626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E225AF-51DD-42FF-B4B6-B264B6749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3A757-D5A8-4538-9C22-814AEFFFDC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5EACF-4856-42CF-85FB-CF529906C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D6B21-0F2D-4CDB-9FBD-F38FBC8C21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23C16-5B56-4287-A83A-378EC27BA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F52BF-D8DD-4B87-B5A2-59153C7A1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784BA-BC0D-4EA8-BE0E-7D18BA4FD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8132A-0ED4-4F70-A838-D1EE702C8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8AE35-3E84-41E7-ADA7-0BEE6B691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9E5BF-0FCF-4C74-AB1A-F42F7A2B2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F68068-23E2-4950-B181-EF332911D8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B66989-2C58-462F-98AA-B6FBA129C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8BCFA-9B30-4513-8C72-03A9DB5DD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3BCC6-A499-4E7E-ABA6-22AB38C82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F88B7-07FD-47C0-A5B6-FF3D7129F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2FD02-5F72-48E1-AE54-CEBC8E663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CB0CA-E24C-45DB-8190-84A2C75F5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38A34-B5FC-4457-9AC0-5A4952D2B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958C2-BC3F-44E2-9150-AB586ACFF1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6275-F93B-43A2-9954-35E50463695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8B836-3ABF-443B-AF34-EABCB9726035}"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uncionamiento de los Bancos</a:t>
            </a:r>
            <a:endParaRPr b="0" lang="en-US" sz="4000" spc="-1" strike="noStrike">
              <a:solidFill>
                <a:srgbClr val="ccecff"/>
              </a:solidFill>
              <a:latin typeface="Arial"/>
            </a:endParaRPr>
          </a:p>
        </p:txBody>
      </p:sp>
      <p:sp>
        <p:nvSpPr>
          <p:cNvPr id="212" name="PlaceHolder 2"/>
          <p:cNvSpPr>
            <a:spLocks noGrp="1"/>
          </p:cNvSpPr>
          <p:nvPr>
            <p:ph type="subTitle"/>
          </p:nvPr>
        </p:nvSpPr>
        <p:spPr>
          <a:xfrm>
            <a:off x="1371600" y="1599840"/>
            <a:ext cx="6400800" cy="4876920"/>
          </a:xfrm>
          <a:prstGeom prst="rect">
            <a:avLst/>
          </a:prstGeom>
          <a:noFill/>
          <a:ln w="0">
            <a:noFill/>
          </a:ln>
        </p:spPr>
        <p:txBody>
          <a:bodyPr lIns="90000" rIns="90000" tIns="46800" bIns="46800" anchor="t">
            <a:noAutofit/>
          </a:bodyPr>
          <a:p>
            <a:pPr algn="just">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s artículos 37 y 38 de la LGB establecen un principio que inspira todo el sistema bancario y que es el funcionamiento obligatorio de los bancos en días y horas determinadas que fija la Superintendencia por publicación que en la práctica se efectúa en el Diario  Oficial, aún cuando ésto no es una exigencia legal</a:t>
            </a:r>
            <a:endParaRPr b="0" lang="en-US" sz="2400" spc="-1" strike="noStrike">
              <a:solidFill>
                <a:srgbClr val="ffffff"/>
              </a:solidFill>
              <a:latin typeface="Arial"/>
            </a:endParaRPr>
          </a:p>
          <a:p>
            <a:pPr algn="just">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ste horario, que hoy día es de 9 a 14 o 16 horas de lunes a viernes salvo los festivos, es el horario mínimo en que el banco atiende prácticamente para todas sus operaciones</a:t>
            </a:r>
            <a:endParaRPr b="0" lang="en-US" sz="2400" spc="-1" strike="noStrike">
              <a:solidFill>
                <a:srgbClr val="ffffff"/>
              </a:solidFill>
              <a:latin typeface="Arial"/>
            </a:endParaRPr>
          </a:p>
          <a:p>
            <a:pPr algn="just">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o los bancos pueden funcionar en un horario mayor para operaciones determinadas</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Superintendente está, por tanto, habilitado para autorizar que uno o más bancos atiendan público en días que no sean de lunes a viernes y en horas que no correspondan a las de jornada continuada de esos días, sin la formalidad de una resolución publicada en el Diario Ofici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está, además, reglamentado en el Capitulo 1-8 de la Recopilación de Normas de la Superintendencia, en que existen autorizaciones generales para atender detetminadas operaciones en horario especial, como por ejemplo actividades de beneficiencia que reciban aportes del público (Teletó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ras situaciones, aunque no referido como situaciones frecuentes en el mencionado Capítulo, es la visita de barcos de pasajeros o de guerra, recalados en puertos chilenos, en que los barcos habilitan oficinas para el servicio de tripulantes y pasajeros, o el caso del Aeropuerto de Santiago, donde desde mucho existen una o mas oficinas bancarias que atienden a los pasajeros, prácticamente las 24 horas del dí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612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2" name="PlaceHolder 2"/>
          <p:cNvSpPr>
            <a:spLocks noGrp="1"/>
          </p:cNvSpPr>
          <p:nvPr>
            <p:ph/>
          </p:nvPr>
        </p:nvSpPr>
        <p:spPr>
          <a:xfrm>
            <a:off x="304560" y="152280"/>
            <a:ext cx="8381880" cy="64771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o se ha dicho antes, las personas que atiendan en estos horarios especiales, sean trabajadores permanentes u ocasionales, deben estar sujetos a las normas laborales y en especial a las del Código del Trabaj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Inciso final del articulo 38</a:t>
            </a:r>
            <a:endParaRPr b="0"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Salvo autorización del Superintendente en la forma indicada en el inciso anterior, los bancos y sociedades financieras no atenderán al público los días sábado de cada semana y el día 31 de diciembre de cada año. En ningún caso deberán considerarse esos días como festivos o feriados para los efectos legales, excepto en lo que se refiere al pago y protesto de letras de cambi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disposición tuvo su origen en el articulo 38 del D.F.L. No 252, de 1960, que establecía que los bancos no atenderían al público los días 30 de junio y 31 de diciembre, sin que por esa circunstancia deban considerarse como festivos o feriados para los efectos legales, excepto en lo que se refiere al pago o protesto de letras de cambio. Esta disposición hizo necesario agregar en el artículo 110 del Código de Comercio esos dos días como aquéllos que postergan el vencimiento de las obligac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4" name="PlaceHolder 2"/>
          <p:cNvSpPr>
            <a:spLocks noGrp="1"/>
          </p:cNvSpPr>
          <p:nvPr>
            <p:ph/>
          </p:nvPr>
        </p:nvSpPr>
        <p:spPr>
          <a:xfrm>
            <a:off x="304560" y="228600"/>
            <a:ext cx="838188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a época del artículo 38 del D.F.L. No 252, los bancos hacían dos balances en el año, en esos dos mismos día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aquélla época era necesario dedicar personal y tiempo para realizar el balance, que se realizaba manualmente y sin calculadoras, por lo que ésta disposición tenía como justificación para cerrar la atención de público (front office) en estos dos días del año la necesidad de dedicar toda la capacidad de gerencia y personal a preparar y terminar el balance con su back offic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modificación al artículo 110 del Código de Comercio prorrogó los vencimentos de obligaciones que se hacen exigibles en día festivo o feriado para el siguiente hábil incluyendo estos dos días que para efectos bancarios, parecerían feriados sin ser propiamente ta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razón es que si no hay bancos, los clientes pierden liquidez</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otra parte, como los bancos atienden público de lunes a viernes, resultó necesario hacer aplicable a los sábados tanto la disposición que contempla la excepción de días de balance como la prórroga de vencimiento del artículo 110 del Código de Comerc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6" name="PlaceHolder 2"/>
          <p:cNvSpPr>
            <a:spLocks noGrp="1"/>
          </p:cNvSpPr>
          <p:nvPr>
            <p:ph/>
          </p:nvPr>
        </p:nvSpPr>
        <p:spPr>
          <a:xfrm>
            <a:off x="457200" y="304920"/>
            <a:ext cx="8153280" cy="6278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demuestra que nunca se quiso establecer un feriado para los empleados bancarios en ninguno de esos días, sino limitar la actividad del banco al back office, con exclusión del front office o atención de públic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ante los años ’70 se suprimió el balance del 30 de junio (avances computacionales lo hacían innecesario)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go semejante se quiso hacer con el 31 de diciembre, pero la propuesta de eliminación de esta fecha fue impugnada por los sindicados bancarios que naturalmente consideraban el 31 de diciembre un feriado laboral y una conquista soci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upresión del falso feriado sólo rigió el 31 de diciembre de 1997</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Gobierno acogió la aspiración de los sindicatos y envió un proyecto de ley para reponer, tanto en la ley como en el Código, esta fecha memorable (Ley N° 19.559 de abril de 1998)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onclusión:</a:t>
            </a:r>
            <a:endParaRPr b="0" lang="en-US" sz="32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tual inciso tercero del articulo 38 de la LGB siempre ha permitido a la Superintendencia y a su jefe de servicio el Superintendente autorizar a los bancos, sin limitaciones ni formalidades, para prestar determinados servicios fuera de los días y horas de atención obligatoria al públic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tanto, objetar por ilegal o incluso inconstitucional que se permita a los bancos que así lo soliciten, promover productos y entregar información en día sábado o domingo, o ambos, no tiene asidero legal ni constitucion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so si se hubiere autorizado a efectuar operaciones bancarias en esos días, ello también sería inobjetable atendido el claro texto leg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lo demás, como lo explicó la Superintendencia en su Circular de 1965, cuando se implantó la jornada única de lunes a viernes en los bancos: “el horario de trabajo de los empleados de bancos se regulará por cada empresa, según sus necesidades, con sujeción a lo dispuesto en el Código del Trabajo y respetando la regla de la jornada única.”</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 esta forma, los bancos que obtengan autorización para atender determinados servicios en días u horas diferentes de su horario normal, deben procurar que los trabajadores que realicen esas labores, sea como personal permanente u ocasional, tengan el trato que les garantiza el Código del Trabajo y sus leyes complementari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31356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457200" y="228600"/>
            <a:ext cx="8305920" cy="647712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ulo 37: “Las empresas bancarias son instituciones de funcionamiento obligatorio con sujeción al horario vigent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ulo 38: “Corresponderá al Superintendente fijar, por resolución que publicará en el Diario Oficial, el horario para la atención del público en el Banco del Estado de Chile y en el resto de los bancos, debiendo ser uniformes para todas las oficinas de una misma localidad.”</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Las instituciones bancarias a que se refiere el inciso anterior, trabajarán de lunes a viernes de cada semana, ambos días inclusive, en jornada única bancaria en todas las provincias del país, sin perjuicio de las facultades conferidas al Superintendente para determinar el horario de dichas instituciones.”</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04560" y="228600"/>
            <a:ext cx="8305560" cy="6400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Podrá, además, sin las limitaciones y las formalidades indicadas, pero en las condiciones que señale, autorizar a las empresas bancarias para que presten determinados servicios fuera de los días y horas de atención obligatoria al público.”</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Salvo la autorización del Superintendente en la forma indicada en el inciso anterior, los bancos no atenderán público los días sábado de cada semana y el dia 31 de diciembre de cada año. En ningun caso deberán considerarse esos días como festivos o feriados para los efectos legales, excepto en lo que se refiere al pago o protesto de letras de cambio.”</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600" spc="-1" strike="noStrike">
                <a:solidFill>
                  <a:srgbClr val="ffffff"/>
                </a:solidFill>
                <a:latin typeface="Arial"/>
              </a:rPr>
              <a:t>Nota: el analisis que a continuacion sigue fue tomado del informe en derecho elaborado por el Profesor Luis Morand, en junio de 2006</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28600"/>
            <a:ext cx="8305920" cy="137160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 Los bancos son instituciones de funcionamiento obligatorio:</a:t>
            </a:r>
            <a:endParaRPr b="0" lang="en-US" sz="32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explicación de esta obligatoriedad, que difiere de las demás actividades comerciales, se explica porque no sólo a los clientes de los bancos sino al público en general, le interesa conocer el horario en que los bancos mantienen abiertas sus puertas al públic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primera ley de bancos dictada en Chile, la ley sobre bancos de emision de 1860, decía en su articulo 28 lo siguiente: “ los bancos y  sus sucursales mantendrán abiertas sus oficinas a disposición del público todos los días no feriados, desde las diez de la mañana hasta las cuatro de la tarde, bajo una multa que no exceda de mil pesos por cada vez que sin justa causa contravengan esta disposició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0" name="PlaceHolder 2"/>
          <p:cNvSpPr>
            <a:spLocks noGrp="1"/>
          </p:cNvSpPr>
          <p:nvPr>
            <p:ph/>
          </p:nvPr>
        </p:nvSpPr>
        <p:spPr>
          <a:xfrm>
            <a:off x="380880" y="228600"/>
            <a:ext cx="8305920" cy="6400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incipio plasmado en la referida norma, y repetido en la legislación actual, es evidente que los bancos no pueden cerrar sus puertas al público en los días en que deben atenderlo y en las horas en que ello es obligatorio, salvo fuerza mayo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tual artículo 37 viene del artículo 31 del D.F.L. No 252 de 1960 y conserva exactamente su redacció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Fijación del horario obligatorio:</a:t>
            </a:r>
            <a:endParaRPr b="0" lang="en-US" sz="32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D.F.L. N° 252, en su artículo 32, establecía que, “corresponderá al Superintendente fijar, por resolución que publicará en el Diario Oficial, el horario para la atención del público en el Banco Central de Chile, Banco del Estado de Chile y bancos comerciales e hipotecarios, debiendo ser uniformes para todas las oficinas de una misma localidad.”</a:t>
            </a: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inciso es idéntico al actual inciso primero del artículo 38, con la sóla diferencia que se suprimió la referencia al Banco Central, que por su actual autonomía dejó de estar fiscalizado por la Superintenden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8040" y="342720"/>
            <a:ext cx="7958160" cy="98244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3. Inciso agregado por la Ley N° 16.324, de 28 de septiembre de 1965</a:t>
            </a:r>
            <a:endParaRPr b="0" lang="en-US" sz="32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ño 1942, en  plena guerra mundial y dentro de la escasez de petróleo que afectaba al país, el gobierno de Juan Antonio Ríos dictó la Ley N° 7. 173, que autorizó a implantar la jornada única (o continua) de trabajo, facultando al Presidente para establecerla mediante decretos reglamentarios. La Ley N° 13.305 amplió esta facultad para aplicarla a la administración públic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ño 1965 (gobierno de Frei Monntalva), se quizo generalizar la jornada única mediante el Decreto Supremo N° 1.897, de Interior y, para aplicarla a los bancos, se estimó necesario modificar la Ley General de Bancos en su artículo 32, hoy 38. Se agregó al efecto un inciso segundo intercalado (lunes a viernes en jornada únic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4" name="PlaceHolder 2"/>
          <p:cNvSpPr>
            <a:spLocks noGrp="1"/>
          </p:cNvSpPr>
          <p:nvPr>
            <p:ph/>
          </p:nvPr>
        </p:nvSpPr>
        <p:spPr>
          <a:xfrm>
            <a:off x="304560" y="304920"/>
            <a:ext cx="8381880" cy="63244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inciso es el que motiva por estos días confusión, entre la ley que rige a los bancos como empresas especiales y las leyes que rigen las relaciones laborales entre esas empresas y sus trabajador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be hacer presente que, curiosamente esta confusión surga más de 40 años después de dictarse esta norma, considerando aún más que en el año 1965, la Superintendencia de Bancos por la Circular N° 748, comentó esta disposición diciendo: “el horario de trabajo de los empleados de los bancos se regulará por cada empresa, según sus necesidades, con sujeción a lo dispuesto en el Codigo del Trabajo y respetando la regla de la jornada únic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a Circular, vigente hasta la fecha y cuyo texto no ha sido objeto de cambios de ningún tipo, se hace una clarísima diferencia entre las normas que regulan el actuar de los bancos como tales y las que regulan las relaciones con sus trabajadores, sean estos permanentes u ocasiona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6" name="PlaceHolder 2"/>
          <p:cNvSpPr>
            <a:spLocks noGrp="1"/>
          </p:cNvSpPr>
          <p:nvPr>
            <p:ph/>
          </p:nvPr>
        </p:nvSpPr>
        <p:spPr>
          <a:xfrm>
            <a:off x="380880" y="304560"/>
            <a:ext cx="8305920" cy="65530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nos referimos al la expresión “las instituciones bancarias </a:t>
            </a:r>
            <a:r>
              <a:rPr b="1" lang="en-US" sz="2000" spc="-1" strike="noStrike">
                <a:solidFill>
                  <a:srgbClr val="ffffff"/>
                </a:solidFill>
                <a:latin typeface="Arial"/>
              </a:rPr>
              <a:t>trabajaran</a:t>
            </a:r>
            <a:r>
              <a:rPr b="0" lang="en-US" sz="2000" spc="-1" strike="noStrike">
                <a:solidFill>
                  <a:srgbClr val="ffffff"/>
                </a:solidFill>
                <a:latin typeface="Arial"/>
              </a:rPr>
              <a:t>…” hay que buscar en las acepciones que el diccionario entrega del verbo trabajar, aquélla que calce con el sentido natural del verbo en esta frase (artículo 20 del Codigo Civi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de estas acepciones se refiere a los establecimientos y organismos y define que, para ellos, trabajar es desarrollar su activida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tanto, lo que hacen los bancos de lunes a viernes, es desarrollar su actividad fundamental y obligatoria, que consiste en tener abiertas sus oficinas para atender su cleintela y público en general y, como lo expresa el articulo 40 de la LGB, para “captar o recibir en forma habitual dinero o fondos del público, con el objeto de darlos en préstamo, descontar documentos, et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no es más que, usando un término estadounidense, el “front office” de los banco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el “back office”, no podría estar sujeto a la limitaciones de días y horarios del front office, pero las personas que lo desempeñan deben hacerlo con sujecion a las normas laborales en general y del Código del Trabajo en especial, lo que en la práctica significa tener trabajadores en turnos para atender las necesidades operacionales del back office de un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0440" y="-41760"/>
            <a:ext cx="795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8" name="PlaceHolder 2"/>
          <p:cNvSpPr>
            <a:spLocks noGrp="1"/>
          </p:cNvSpPr>
          <p:nvPr>
            <p:ph/>
          </p:nvPr>
        </p:nvSpPr>
        <p:spPr>
          <a:xfrm>
            <a:off x="304560" y="304920"/>
            <a:ext cx="8381880" cy="62481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que se ha llamado front office, es la que tiene por objeto atender al público y se encuentra sujeta a los días y horario establecido por la ley y por las resoluciones del Superintendente publicadas en el Diario Ofici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que se ha llamado back office, son las actividades de distinta índole que realiza el banco, este abierto o cerrado al público, para registrar operaciones, contabilizar, efectuar los canjes de cheques u otros documentos y, en fin, todas las anotaciones, inscripciones, endosos, compulsas, verificaciones, etc</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ención al público fuera de los días y horas de funcionamiento obligatorio:</a:t>
            </a:r>
            <a:endParaRPr b="0"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 el D.F.L. N° 252, de 1960, había permitido a los bancos atender determinados servicios fuera de los días y horas de atención obligatoria al público, pero en las condiciones que señale la Superintendencia (artículo 32 inciso segundo). Esta disposición es el actual inciso tercero del articulo 38 de la LGB y, que no ha tenido variac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3T10:52:13Z</dcterms:created>
  <dc:creator>Hugo Luis Caneo Ormazabal</dc:creator>
  <dc:description/>
  <dc:language>en-US</dc:language>
  <cp:lastModifiedBy>Administrador</cp:lastModifiedBy>
  <dcterms:modified xsi:type="dcterms:W3CDTF">2006-09-04T15:44:08Z</dcterms:modified>
  <cp:revision>8</cp:revision>
  <dc:subject/>
  <dc:title>Funcionamiento de los Bancos</dc:title>
</cp:coreProperties>
</file>