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9FD-6E73-482C-BABC-96D203B5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639-E29D-4B00-8F6D-DC79AB75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FD0-7FE7-4729-88D3-DB0ED82A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496-D696-46BB-8433-23AE640E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9241-1D8D-4B57-A7DF-23D55493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9F33-6C06-4C22-8B11-58D1AC7A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2A72-ADBF-49EA-8C2D-528A0A3F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1163-92D2-4400-9AD1-FE39FCC1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5C60-71E0-4B0C-B488-20CC29C2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3CFB-A29C-4059-B2AC-DC174817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5998-45C5-477E-8BE5-6A137CD4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0C4-C41B-46C4-A205-51BDF0A3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1F9D-C77F-4200-AA2C-2C78EF4A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931E-8ED1-46EE-819E-54FAF2C4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259D-0900-4B3F-86D7-4499756C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C8EE-1B58-4469-AEE8-B4B4D766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F4AC-F59F-4F6E-89BE-1179095C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FD8-FC15-4FAE-9B79-778D4840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D83-4946-47FC-8902-94618330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B4C-6017-4A16-903D-38D8ADA1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363-12EE-4697-8FCB-59533EF2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068F-2B21-4C90-973F-1E49185D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801-4396-41C3-893F-976668C7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688-CD2B-457E-921F-AF3A3EE1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716E-4C24-4CB3-8E92-79B40F176334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5BF8-2417-4448-9147-6DDCAD841774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Participación crimina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omplicidad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Cómplice: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quien coopera dolosamente a la ejecución del hecho de otro mediante actos anteriores o simultáneo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Cooperación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cualquier aportación o contribución a la ejecución del hecho, que sea utilizada por el autor: fórmula legal genér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Puede ser material o intelectua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os actos de cooperación deben ser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anteriores o simultáne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 a la consumación del delito. Si son posteriores: encubrimien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aso de delitos permanentes (</a:t>
            </a:r>
            <a:r>
              <a:rPr b="0" i="1" lang="es-CL" sz="2100" spc="-1" strike="noStrike">
                <a:solidFill>
                  <a:srgbClr val="000099"/>
                </a:solidFill>
                <a:latin typeface="Arial"/>
              </a:rPr>
              <a:t>simultáne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contribución debe ser aprovechada por el aut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ómplice debe obrar con dolo de consumación: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no hay complicidad impruden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No es indispensable que el autor tenga conocimiento de la colaboración del cómplice: no es necesario acuerdo de voluntades (dominio funcional del hecho) de la coautorí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aso aman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Tratamiento normativ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105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I. Asimilación a autores (15 N° 3 CP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)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Los que, </a:t>
            </a:r>
            <a:r>
              <a:rPr b="1" i="1" lang="es-CL" sz="2200" spc="-1" strike="noStrike">
                <a:solidFill>
                  <a:srgbClr val="006666"/>
                </a:solidFill>
                <a:latin typeface="Arial"/>
              </a:rPr>
              <a:t>concertados para su ejecución,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 facilitan los medios con que se lleva a efecto el hecho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-73656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quisito esencial: </a:t>
            </a:r>
            <a:r>
              <a:rPr b="1" lang="es-CL" sz="2200" spc="-1" strike="noStrike" u="sng">
                <a:solidFill>
                  <a:srgbClr val="ff0000"/>
                </a:solidFill>
                <a:uFillTx/>
                <a:latin typeface="Arial"/>
              </a:rPr>
              <a:t>concierto previo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acuerdo expreso de voluntades.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planificación previa a la ejecu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Importante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  el medio facilitado debe ser empleado en la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jecución del delito o, al menos, en el principio de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jecu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992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b) 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(los que, concertados para su ejecución) 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lo presencian sin tomar parte inmediata en él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Concierto previo es, también, indispens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Ratio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la mera presencia, cuando existe concierto previo, importa una facilitación o reforzamiento de la ejecución del del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aso viola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7228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ómplices propiamente tales (no asimilados a autor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Artículo 16 CP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Son cómplices los que, no hallándose comprendidos en el artículo anterior, cooperan a la ejecución del hecho por actos anteriores o simultáneos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Hipótesis de excepcional ocurrencia: sin concierto prev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Encubrimient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7228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rt. 17 CP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Son encubridores los que con conocimiento de la perpetración de un crimen o de simple delito o de los actos ejecutados para llevarlo a cabo, sin haber tenido participación en él como autores ni como cómplices,</a:t>
            </a:r>
            <a:r>
              <a:rPr b="0" i="1" lang="es-C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intervienen, con posterioridad a su ejecución, de alguno de los modos siguient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1° Aprovechándose por sí mismos o facilitando a los delincuentes medios para que se aprovechen de los efectos del crimen o simple del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2° Ocultando o inutilizando el cuerpo, los efectos o instrumentos del crimen o simple delito para impedir su descubrimient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3° Albergando, ocultando o proporcionando la fuga del culpabl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4° Acogiendo, receptando o protegiendo habitualmente a los malhechores, sabiendo que lo son, aun sin conocimiento de los crímenes o simples delitos determinados que hayan cometido, o facilitándoles los medios de reunirse u ocultar sus armas o efectos, o suministrándoles auxilio o noticias para que se guarden, precavan o salve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quisit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439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A. Intervención posterior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 la ejecución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del ilíc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No a la consumación, sino que a la “ejecución” de la conducta típ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rítica político criminal respecto a punibilid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B. Subsidiarieda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láusula expresa: resolución de concurso aparente de normas penales: subsidiaried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. Conocimiento de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la perpetración de un crimen o simple delito </a:t>
            </a:r>
            <a:r>
              <a:rPr b="1" i="1" lang="es-CL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 de los actos ejecutados para llevarlo a cab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ólo se exige respecto de 1, 2 y 3 art. 17 CP (4: exime expresamente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Crimen o simple delit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”: excluye fal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ctos ejecutados para llevarlo a cab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”: se refiere a tentativa y frustració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Concep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Es partícipe el que interviene dolosamente en un hecho ajeno sin concurrir a la ejecución de la conducta típica ni contar con el dominio de ella, realizando ciertos actos descritos en forma expresa por la ley y que de ordinario revisten un carácter preparatorio o de colaboración ulterior a la consumación” (Cur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992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nocimiento debe abarcar crímenes o simples delitos </a:t>
            </a:r>
            <a:r>
              <a:rPr b="1" lang="es-CL" sz="2100" spc="-1" strike="noStrike">
                <a:solidFill>
                  <a:srgbClr val="000099"/>
                </a:solidFill>
                <a:latin typeface="Arial"/>
              </a:rPr>
              <a:t>determinados 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(exigencia a contrario sensu N° 4): basta dolo eventual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99"/>
                </a:solidFill>
                <a:latin typeface="Arial"/>
              </a:rPr>
              <a:t>Quien compra objetos procedentes –en su representación- de un hurto, no es encubridor de robo con homicidio (origen real), salvo representación como posible (dolo eventual)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nocimiento se refiere a ejecución conducta típica, no es menester que abarque producción de resultad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Arial"/>
              </a:rPr>
              <a:t>Formas de encubrimie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provechamien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(1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Real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(2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Favorecimient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Ocasional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(3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                                  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Perso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Habitual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(4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3203640" y="3357720"/>
            <a:ext cx="5763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3276720" y="4149720"/>
            <a:ext cx="574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 flipV="1">
            <a:off x="5364000" y="4508280"/>
            <a:ext cx="648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364000" y="5013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provechamiento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quien se aprovecha por sí mismo o facilita a los delincuentes medios para que se aprovechen de los efectos del crimen o simple delito (17 N° 1 CP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provechar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obtención de una ganancia económ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¿De qué?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efectos del ilícito: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objeto materi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Facilitación de medi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debe ser directa y de importancia (sesión 127 comisión redactora CP): se excluyen consejos vago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re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orta ocultar o inutilizar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l cuerpo, los efectos o instrumentos del crimen o simple delito para impedir su descubrimien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al”: hecho delictivo y no persona del hecho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Cuerpo del deli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alude a objeto material: persona o cosa sobre la que recae la conducta típ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fect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Idem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Instrument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medios para la ejecución del ilícit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personal ocasion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lica albergar, ocultar o proporcionar la fuga al culpable (17 N° 3 C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Albergar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hospedar (no sólo en morada propia, sino también ajena                   alquile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Ocultar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esconder en sentido amplio (todo tipo de conductas destinadas a impedir la identificación del hechor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S, 13/9/2001: “ocultaron” quienes, luego del homicidio, arrastraron el cadáver hasta un camino público para generar impresión de atropello y desviar la atención hacia otras person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Proporcionar la fuga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dar auxilio o facilitar el alejamiento del lugar del delito a fin de eludir la acción de la justici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30592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personal habitu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orta acoger, receptar o proteger habitualmente a malhechores, sabiendo que lo son, aun sin conocimiento de ilícitos determinados cometidos, o facilitarles los medios para reunirse u ocultar sus armas o efectos, o suministrar auxilios o noticias para que se guarden, precavan o salven (17 N° 4 C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rítica político criminal: !!punibilidad a título de partícipes sin siquiera conocimiento del ilícito determinado cometido¡¡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quisito inherente: habitualidad: más de dos ve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Encubrimiento de parien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rt. 17 inciso final: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stán exentos de las penas impuestas a los encubridores los que lo sean de su cónyuge o de sus parientes legítimos por consanguinidad o afinidad en toda la línea recta y en la colateral hasta el segundo grado inclusive, de sus padres o hijos naturales o ilegítimos reconocidos, con sólo la excepción de los que se hallaren comprendidos en el número 1° de este artícul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Problemas de jurisprudencia de Garantía: interpretación analógica vs leg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xcepción:  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provechándose por sí mismos o facilitando a los delincuentes medios para que se aprovechen de los efectos del crimen o simple delit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360" y="985680"/>
            <a:ext cx="7205760" cy="330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Principios regulatorios entre autoría y participación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281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La participación criminal es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subsidiari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a la autoría (sólo es partícipe quien no es autor del ilícito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Art. 16 CP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on cómplices los que,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no hallándose comprendidos en el artículo anterior,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 cooperan a la ejecución del hecho por actos anteriores o simultáneos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Art. 17 CP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on encubridores los que con conocimiento de la perpetración de un crimen o de simple delito o de los actos ejecutados para llevarlo a cabo,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sin haber tenido participación en él como autores ni como cómplices,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intervienen, con posterioridad a su ejecución, de alguno de los modos siguientes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La participación criminal importa la intervención en un hecho ajeno, que se encuentra bajo el dominio de otro: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el partícipe no cuenta con el dominio del hech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Sólo existe participación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dolo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Basta el dolo eventual (tesis mayoritari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Quien interviene imprudentemente en el hecho ilícito de otro: autor del ilícito imprud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Formas de participación crimina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Instigación (ojo: art. 15 N° 2 CP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mplic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Encubrimient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Instigació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439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Inducción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es la causación objetiva y subjetivamente imputable, mediante un influjo síquico en otro, de la resolución y realización por parte de éste de un tipo de autoría doloso” (Mir Puig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Fundamento normativ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Artículo 15 N° 2 CP: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e consideran autor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2° Los que fuerzan o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inducen directamente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 a otro a ejecutarlo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El inductor </a:t>
            </a:r>
            <a:r>
              <a:rPr b="0" lang="es-CL" sz="2300" spc="-1" strike="noStrike">
                <a:solidFill>
                  <a:srgbClr val="ff0000"/>
                </a:solidFill>
                <a:latin typeface="Arial"/>
              </a:rPr>
              <a:t>debe formar en el inducido la voluntad de cometer un delito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: de actuar en el sentido del tipo leg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El inducido mantiene la decisión delictiva, mantiene el dominio de la acció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El inductor debe obrar de una </a:t>
            </a:r>
            <a:r>
              <a:rPr b="1" lang="es-CL" sz="2300" spc="-1" strike="noStrike" u="sng">
                <a:solidFill>
                  <a:srgbClr val="ff0000"/>
                </a:solidFill>
                <a:uFillTx/>
                <a:latin typeface="Arial"/>
              </a:rPr>
              <a:t>manera directa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 en la formación de la voluntad delictiva del inducido (exigencia art. 15 N° 2 CP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Directa: mediante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actos positiv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Por ello: no hay posibilidad normativa de instigación por omisió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instigación debe ser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dolosa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 (se excluye la inducción imprudent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inducción directa puede ser expresa o tácita: lo importante es que sea mediante actos positiv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La inducción se verifica mediante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influjo síqui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s posible (15 N° 2 CP) que se verifique mediante coacción siempre que ésta no anule la voluntad del autor: autoría mediata (Cury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s indispensable que la voluntad de delinquir del inducido se exteriorice, al menos, en un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principio de ejecución (tentativa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ducción no aceptada es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l dolo del inductor debe ser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dolo de consum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ducción a la tentativa es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mportancia práctica en investigación policial: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agentes provocador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Formación de voluntad delictiva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Reafirmar voluntad existente: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Formación de voluntad abandonada: in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99"/>
                </a:solidFill>
                <a:uFillTx/>
                <a:latin typeface="Arial"/>
              </a:rPr>
              <a:t>Marco punitivo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Instigadores son asimilados a los autores para los efectos de la penalidad                  Art. 15 N° 2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rítica político criminal (dominio del hech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on todo: son partícipes              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principios de participación.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21164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700360" y="4076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9:29:19Z</dcterms:created>
  <dc:creator>Martín</dc:creator>
  <dc:description/>
  <dc:language>en-US</dc:language>
  <cp:lastModifiedBy>Rodrigo Zegers</cp:lastModifiedBy>
  <dcterms:modified xsi:type="dcterms:W3CDTF">2008-11-06T23:56:24Z</dcterms:modified>
  <cp:revision>28</cp:revision>
  <dc:subject/>
  <dc:title>Participación criminal</dc:title>
</cp:coreProperties>
</file>