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A5A-12BA-40C0-9C84-CF55CD46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267-C8D0-4EF3-83FE-18F504B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DB-6DE0-48CD-9885-D8C47709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877-FC83-4E30-A07E-34B82D83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5029-6C1B-4C86-AC26-CF943A8A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AA5-68B4-4ACA-B328-7EEB20F9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8AA-27F9-467E-886A-681ADAA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1A80-15B6-481E-A36D-26229CC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6629-307A-4656-A465-DE47BBE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EDE-57E8-49C0-BFD0-9379BE0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5C0-243F-46C4-865F-17F0D25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EF5-F1AC-422F-870A-77F1B4D5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DAA-EFCE-49E0-AA5F-209426D2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D74-7B2B-4456-A7D1-BB8E8D2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08E6-7956-49DD-9ACD-185A6FE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A91D-34F8-499B-B855-2CFD0DA7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1D83-EE21-4D37-BA49-66CD6719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495-B05C-4B9D-B0D6-9CDE764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70C-12C0-41C9-A828-139A413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2BC-0972-4DAA-91F3-54A0528B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384-D5AD-4F75-BE53-59CF0055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34A-3649-4977-8C2B-B1E92AB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CEF-8312-4EE2-87A2-911CA6D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8F1-F3D3-4E02-B35C-13E76B5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6BD-12B9-4910-BFB3-CB097709360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48AE-1956-42A6-B678-0E47E5BDF28F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articipación crimin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omplicidad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Cómplice: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quien coopera dolosamente a la ejecución del hecho de otro mediante actos anteriores o simultáne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Cooperación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cualquier aportación o contribución a la ejecución del hecho, que sea utilizada por el autor: fórmula legal genér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uede ser material o intelectu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os actos de cooperación deben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nteriores o 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a la consumación del delito. Si son posteriores: encubrimien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aso de delitos permanentes (</a:t>
            </a:r>
            <a:r>
              <a:rPr b="0" i="1" lang="es-CL" sz="2100" spc="-1" strike="noStrike">
                <a:solidFill>
                  <a:srgbClr val="000099"/>
                </a:solidFill>
                <a:latin typeface="Arial"/>
              </a:rPr>
              <a:t>simultáne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contribución debe ser aprovechada por el aut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0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 debe obrar con dolo de consumación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no hay complicidad imprude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No es indispensable que el autor tenga conocimiento de la colaboración del cómplice: no es necesario acuerdo de voluntades (dominio funcional del hecho) de la coautorí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aso ama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Tratamiento norma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105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I. Asimilación a autores (15 N° 3 C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)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s que, </a:t>
            </a:r>
            <a:r>
              <a:rPr b="1" i="1" lang="es-CL" sz="2200" spc="-1" strike="noStrike">
                <a:solidFill>
                  <a:srgbClr val="006666"/>
                </a:solidFill>
                <a:latin typeface="Arial"/>
              </a:rPr>
              <a:t>concertados para su ejecución,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 facilitan los medios con que se lleva a efecto el hecho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-73656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esencial: </a:t>
            </a:r>
            <a:r>
              <a:rPr b="1" lang="es-CL" sz="2200" spc="-1" strike="noStrike" u="sng">
                <a:solidFill>
                  <a:srgbClr val="ff0000"/>
                </a:solidFill>
                <a:uFillTx/>
                <a:latin typeface="Arial"/>
              </a:rPr>
              <a:t>concierto previo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acuerdo expreso de voluntades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planificación previa a la 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6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Importante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el medio facilitado debe ser empleado en la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 del delito o, al menos, en el principio de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jecu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b) 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(los que, concertados para su ejecución) 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lo presencian sin tomar parte inmediata en él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Concierto previo es, también, indispens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Rati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la mera presencia, cuando existe concierto previo, importa una facilitación o reforzamiento de la ejecución del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aso viola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7228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ómplices propiamente tales (no asimilados a autor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rtículo 16 CP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6666"/>
                </a:solidFill>
                <a:latin typeface="Arial"/>
              </a:rPr>
              <a:t>Son cómplices los que, no hallándose comprendidos en el artículo anterior, cooperan a la ejecución del hecho por actos anteriores o simultáneos</a:t>
            </a:r>
            <a:r>
              <a:rPr b="0" lang="es-CL" sz="2200" spc="-1" strike="noStrike">
                <a:solidFill>
                  <a:srgbClr val="006666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- Hipótesis de excepcional ocurrencia: sin concierto prev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Encubrimien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72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rt. 17 CP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sin haber tenido participación en él como autores ni como cómplices,</a:t>
            </a:r>
            <a:r>
              <a:rPr b="0" i="1" lang="es-C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1° Aprovechándose por sí mismos o facilitando a los delincuentes medios para que se aprovechen de los efectos del crimen o simple del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2° Ocultando o inutilizando el cuerpo, los efectos o instrumentos del crimen o simple delito para impedir su descubrimien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3° Albergando, ocultando o proporcionando la fuga del culpabl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4° Acogiendo, receptando o protegiendo habitualmente a los malhechores, sabiendo que lo son, aun sin conocimiento de los crímenes o simples delitos determinados que hayan cometido, o facilitándoles los medios de reunirse u ocultar sus armas o efectos, o suministrándoles auxilio o noticias para que se guarden, precavan o salve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quisi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A. Intervención posterior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 la ejecución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del ilíci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No a la consumación, sino que a la “ejecución” de la conducta típ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rítica político criminal respecto a punibili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B. Subsidiarieda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láusula expresa: resolución de concurso aparente de normas penales: subsidiaried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. Conocimiento de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la perpetración de un crimen o simple delito </a:t>
            </a:r>
            <a:r>
              <a:rPr b="1" i="1" lang="es-CL" sz="2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 de los actos ejecutados para llevarlo a cab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ólo se exige respecto de 1, 2 y 3 art. 17 CP (4: exime expresament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Crimen o simple delit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excluye fal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ctos ejecutados para llevarlo a cab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”: se refiere a tentativa y frustració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Es partícipe el que interviene dolosamente en un hecho ajeno sin concurrir a la ejecución de la conducta típica ni contar con el dominio de ella, realizando ciertos actos descritos en forma expresa por la ley y que de ordinario revisten un carácter preparatorio o de colaboración ulterior a la consumación” (Cur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92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debe abarcar crímenes o simples delitos </a:t>
            </a:r>
            <a:r>
              <a:rPr b="1" lang="es-CL" sz="2100" spc="-1" strike="noStrike">
                <a:solidFill>
                  <a:srgbClr val="000099"/>
                </a:solidFill>
                <a:latin typeface="Arial"/>
              </a:rPr>
              <a:t>determinados 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(exigencia a contrario sensu N° 4): basta dolo eventual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99"/>
                </a:solidFill>
                <a:latin typeface="Arial"/>
              </a:rPr>
              <a:t>Quien compra objetos procedentes –en su representación- de un hurto, no es encubridor de robo con homicidio (origen real), salvo representación como posible (dolo eventual)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nocimiento se refiere a ejecución conducta típica, no es menester que abarque producción de resulta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Formas de encubrimi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Aprovecha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1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Real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(2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Favorec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Ocasion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3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                                      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Habitual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(4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3203640" y="3357720"/>
            <a:ext cx="576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276720" y="414972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5364000" y="450828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364000" y="501336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miento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quien se aprovecha por sí mismo o facilita a los delincuentes medios para que se aprovechen de los efectos del crimen o simple delito (17 N° 1 CP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provechar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obtención de una ganancia económ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¿De qué?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efectos del ilícito: </a:t>
            </a: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objeto mate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Facilitación de medi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ebe ser directa y de importancia (sesión 127 comisión redactora CP): se excluyen consejos vag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re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ocultar o inutilizar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l cuerpo, los efectos o instrumentos del crimen o simple delito para impedir su descubrimien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al”: hecho delictivo y no persona del hech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Cuerpo del delit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alude a objeto material: persona o cosa sobre la que recae la conducta típic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fec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Ide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Instrumentos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medios para la ejecución del ilícit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ocasion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lica albergar, ocultar o proporcionar la fuga al culpable (17 N° 3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Alberg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hospedar (no sólo en morada propia, sino también ajena                   alquil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Ocultar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esconder en sentido amplio (todo tipo de conductas destinadas a impedir la identificación del hechor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CS, 13/9/2001: “ocultaron” quienes, luego del homicidio, arrastraron el cadáver hasta un camino público para generar impresión de atropello y desviar la atención hacia otras person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Proporcionar la fuga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: dar auxilio o facilitar el alejamiento del lugar del delito a fin de eludir la acción de la justici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305928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Favorecimiento personal habitual: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importa acoger, receptar o proteger habitualmente a malhechores, sabiendo que lo son, aun sin conocimiento de ilícitos determinados cometidos, o facilitarles los medios para reunirse u ocultar sus armas o efectos, o suministrar auxilios o noticias para que se guarden, precavan o salven (17 N° 4 CP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: !!punibilidad a título de partícipes sin siquiera conocimiento del ilícito determinado cometido¡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Requisito inherente: habitualidad: más de dos ve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Encubrimiento de parie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0000"/>
                </a:solidFill>
                <a:latin typeface="Arial"/>
              </a:rPr>
              <a:t>Art. 17 inciso final: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Están exentos de las penas impuestas a los encubridores los que lo sean de su cónyuge o de sus parientes legítimos por consanguinidad o afinidad en toda la línea recta y en la colateral hasta el segundo grado inclusive, de sus padres o hijos naturales o ilegítimos reconocidos, con sólo la excepción de los que se hallaren comprendidos en el número 1° de este artículo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Problemas de jurisprudencia de Garantía: interpretación analógica vs leg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xcepción:  </a:t>
            </a:r>
            <a:r>
              <a:rPr b="0" i="1" lang="es-CL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provechándose por sí mismos o facilitando a los delincuentes medios para que se aprovechen de los efectos del crimen o simple delit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985680"/>
            <a:ext cx="7205760" cy="330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Principios regulatorios entre autoría y participación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La participación criminal es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subsidiari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a la autoría (sólo es partícipe quien no es autor del ilícit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6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cómplices los que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no hallándose comprendidos en el artículo anterior,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cooperan a la ejecución del hecho por actos anteriores o simultáneo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Art. 17 CP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on encubridores los que con conocimiento de la perpetración de un crimen o de simple delito o de los actos ejecutados para llevarlo a cabo,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sin haber tenido participación en él como autores ni como cómplices,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intervienen, con posterioridad a su ejecución, de alguno de los modos siguientes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722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participación criminal importa la intervención en un hecho ajeno, que se encuentra bajo el dominio de otro: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el partícipe no cuenta con el dominio del hech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Sólo existe participació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Basta el dolo eventual (tesis mayoritari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Quien interviene imprudentemente en el hecho ilícito de otro: autor del ilícito imprud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s de participación crimina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Instigación (ojo: art. 15 N° 2 CP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Complic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ncubrimient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Instigació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43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Inducción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“es la causación objetiva y subjetivamente imputable, mediante un influjo síquico en otro, de la resolución y realización por parte de éste de un tipo de autoría doloso” (Mir Pui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Fundamento normativ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Artículo 15 N° 2 CP: “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Se consideran autor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2° Los que fuerzan o </a:t>
            </a:r>
            <a:r>
              <a:rPr b="1" i="1" lang="es-CL" sz="2400" spc="-1" strike="noStrike">
                <a:solidFill>
                  <a:srgbClr val="ff0000"/>
                </a:solidFill>
                <a:latin typeface="Arial"/>
              </a:rPr>
              <a:t>inducen directamente</a:t>
            </a:r>
            <a:r>
              <a:rPr b="0" i="1" lang="es-CL" sz="2400" spc="-1" strike="noStrike">
                <a:solidFill>
                  <a:srgbClr val="000099"/>
                </a:solidFill>
                <a:latin typeface="Arial"/>
              </a:rPr>
              <a:t> a otro a ejecutarlo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</a:rPr>
              <a:t>debe formar en el inducido la voluntad de cometer un delito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: de actuar en el sentido del tipo leg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El inducido mantiene la decisión delictiva, mantiene el dominio de la acc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El inductor debe obrar de una </a:t>
            </a:r>
            <a:r>
              <a:rPr b="1" lang="es-CL" sz="2300" spc="-1" strike="noStrike" u="sng">
                <a:solidFill>
                  <a:srgbClr val="ff0000"/>
                </a:solidFill>
                <a:uFillTx/>
                <a:latin typeface="Arial"/>
              </a:rPr>
              <a:t>manera directa</a:t>
            </a:r>
            <a:r>
              <a:rPr b="0" lang="es-CL" sz="2300" spc="-1" strike="noStrike">
                <a:solidFill>
                  <a:srgbClr val="000099"/>
                </a:solidFill>
                <a:latin typeface="Arial"/>
              </a:rPr>
              <a:t> en la formación de la voluntad delictiva del inducido (exigencia art. 15 N° 2 CP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Directa: mediante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actos positivos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Por ello: no hay posibilidad normativa de instigación por omisió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stigación debe ser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dolosa</a:t>
            </a: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 (se excluye la inducción imprude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99"/>
                </a:solidFill>
                <a:latin typeface="Arial"/>
              </a:rPr>
              <a:t>La inducción directa puede ser expresa o tácita: lo importante es que sea mediante actos positiv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La inducción se verifica mediante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influjo síqui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 posible (15 N° 2 CP) que se verifique mediante coacción siempre que ésta no anule la voluntad del autor: autoría mediata (Cury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s indispensable que la voluntad de delinquir del inducido se exteriorice, al menos, en un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 de ejecución (tentativa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no aceptad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El dolo del inductor debe ser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dolo de consum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ducción a la tentativa es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cia práctica en investigación policial: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agentes provocado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439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Formación de voluntad delictiva: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Reafirmar voluntad existente: impu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ormación de voluntad abandonada: indu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99"/>
                </a:solidFill>
                <a:uFillTx/>
                <a:latin typeface="Arial"/>
              </a:rPr>
              <a:t>Marco punitivo</a:t>
            </a:r>
            <a:r>
              <a:rPr b="1" lang="es-CL" sz="2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Instigadores son asimilados a los autores para los efectos de la penalidad                  Art. 15 N°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rítica político criminal (dominio del hech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Con todo: son partícipes               </a:t>
            </a:r>
            <a:r>
              <a:rPr b="0" lang="es-CL" sz="2200" spc="-1" strike="noStrike">
                <a:solidFill>
                  <a:srgbClr val="ff0000"/>
                </a:solidFill>
                <a:latin typeface="Arial"/>
              </a:rPr>
              <a:t>principios de participación.</a:t>
            </a:r>
            <a:r>
              <a:rPr b="0" lang="es-CL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21164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700360" y="4076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9:29:19Z</dcterms:created>
  <dc:creator>Martín</dc:creator>
  <dc:description/>
  <dc:language>en-US</dc:language>
  <cp:lastModifiedBy>Rodrigo Zegers</cp:lastModifiedBy>
  <dcterms:modified xsi:type="dcterms:W3CDTF">2008-11-06T23:56:24Z</dcterms:modified>
  <cp:revision>28</cp:revision>
  <dc:subject/>
  <dc:title>Participación criminal</dc:title>
</cp:coreProperties>
</file>