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FD089-DC5F-4431-AC08-4290E073E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7E5F6-7197-47C2-9E8C-0209D43B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DF3E2-D942-478E-80BE-0F3C10595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F9410-8E62-40DE-AE5D-918EAAE70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34436-F93B-44F8-BC76-9DAF37E61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60A3C-8D7D-47C1-9E11-11AC1F8DB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AE481-AD9F-4E5F-9E12-DE3844A61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7996A-25D2-4566-AE78-63D08464D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A9737-3562-4EC2-9CC7-12279DD8B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73B0E-1730-449A-AC39-2B2747A5C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8F419-668E-43C0-B058-7AB8C4EB4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E653B-8863-4CAC-B8D8-15727D8E8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B05C6-4435-4716-A1CC-8B40AAA5D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BD116-1619-4783-9DD5-D48B72ED2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6C964-3A60-405E-A02C-8A9472882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C3A04-D5C4-4CEC-9C27-6B5B316B5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8C22C-4552-456A-B0F8-0C1B0089E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25D1E4-DDE1-4C73-8BDB-021D1EE04C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B90ADF-EC82-412E-9D93-4299D6DBA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F8F0A-7952-4B27-A0CE-0921A07B0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5814B-D2BE-44A6-B855-CB58AD6E8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5C8C8-A525-48D7-9AAC-167992DB48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76B7A-0F73-4AF9-B1AF-55299C8B9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2E1BD-58C4-4119-9C94-1142CCDCD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73DBE-EE9A-4CA4-90B3-DFCA38A2A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04204-5E3C-49AD-B30A-7D0926051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F20EE-6210-43D0-A8B3-741DB783C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DADC5-156F-475F-A223-1AE9D79CD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2BBAFA-4FE0-4637-87EC-5A7E147701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3EF513-1003-4BE9-81D0-18D1D5E26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D6471B-DC49-4CFD-8099-E2CE2F18B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1524FB-778A-41D1-AF84-BFC40F511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66250-F163-40E0-8C6C-FA28755895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B3B6-FE83-4780-A577-F67856C31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C89560-F5FE-4C9C-919B-51F43C75FE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962296-4826-4927-9A77-849F3C04A5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B27A0D-8D88-462A-B4E5-4C54F902E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89D05-3E86-4175-8FFA-C1B8054B8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BAE14-176E-4D39-9CAE-283BF082E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850E5-1960-4339-B3F8-5AB726857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038AA-FEE1-4C19-8C11-53670AE565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01D668-30B0-451C-8682-DD42E4E09F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12D6C3-EC23-408D-92C9-47BC48E621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08FBE1-25FD-49F5-BA5A-5C3FC40FDA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740C8-B250-4845-8221-6C3246DFE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AB5E2B-396C-4FC9-8CE2-769BB5B85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5DB3B5-59C3-4550-B3DC-D051B65B11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65CD08-EEBA-42E3-9AA5-B70959B99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CAAB0D-4620-47FD-A966-A008E582A2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F60DC-A0CB-4FA8-AE29-2619B94285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E67B5-225B-44A8-996A-CD605C5BC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A2823A-D0DD-4CE7-84DA-86B802245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26772-790D-49F3-9023-3F565F26C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81C1EE-C00D-4CF4-8A36-9A44B5761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E91FE5-267A-41DE-B267-792C2228EB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3A69A-72F0-4B45-8947-5FAC8C4D1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1E95F5-66DF-4833-830C-6BEAF0FECA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BADCFD-701E-4AE7-8DED-1838496F59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836D8B-C83C-4315-BDF0-22FDDF273F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920CC-F8E4-4D30-8FE2-4B19E3563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F1EFC0-AF13-46A3-AB9B-06652A89FE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9DE6B6-385D-453B-82FA-B56DA6FCC2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FDD08D-9AA1-4B34-8A72-5231E6C52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51562-E5B6-4F19-844D-A09A3DCDA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C3D84-6F74-42C0-80A1-D0F8304B7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DF30C-2550-4D9D-971A-79B31178E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B6EA6-E4B5-4D30-A011-F53992FC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A6CCC5-18C4-44EF-9829-CAD4913EE8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0A5850-14F6-4F76-ADE0-B14F95A35F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942DC1-42F3-4C6E-A87D-87C1F165EE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AE0073-AEEE-456B-8050-9A503FDB3C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BADBCA-2BFE-45DF-9D3C-30C375672D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AA4D97-77F5-408E-9689-2E6E5B45D3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377B9F-C592-4B80-8F38-923ED6D9CC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69BBBB-897A-4556-94E3-78E942AC9C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0AD6ED-6E39-4E48-A547-CDA67B7FEA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6059D-D533-4C98-9B50-62FD799E3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C86C-AADB-41BA-BDAB-D8AFAA7C1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5738A8-B859-4693-BDED-5D2448DEB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4AB510-A41B-42B6-BA4E-08EFF9A16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E17A4F-587E-4A51-9EA5-1582080EC4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E789F5-4A69-429B-B8AE-7DB2266263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C699F4-1068-4FB5-A5A1-73EC14413C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E26A2-577E-42CC-8B7B-2775CE641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659560" y="64818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539280" y="6481800"/>
            <a:ext cx="50324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5BB5-D409-4589-B34E-3B97C39199D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9094680" y="513684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3FC7-854B-47CB-93F8-8A712490371F}"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539280" y="6481440"/>
            <a:ext cx="50324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C08E-C174-49EE-953E-79F22646199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7920" y="612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9094680" y="19080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3094200" y="6481440"/>
            <a:ext cx="50320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4B84-CCD9-40FE-9100-38B08DBD5F1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8964360" y="648324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BCA8-5883-4A73-A4B0-B41CA82793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7416360" y="6556320"/>
            <a:ext cx="2521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C9D7-4787-4D8F-BE49-A7543254B00D}"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7214760" y="6556320"/>
            <a:ext cx="2484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063F-5137-4B8D-AEAF-6D9378B66984}"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6480" y="2498760"/>
            <a:ext cx="8845560" cy="1865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10"/>
                                        </p:tgtEl>
                                        <p:attrNameLst>
                                          <p:attrName>style.visibility</p:attrName>
                                        </p:attrNameLst>
                                      </p:cBhvr>
                                      <p:to>
                                        <p:strVal val="visible"/>
                                      </p:to>
                                    </p:set>
                                    <p:animEffect filter="diamond(in)" transition="in">
                                      <p:cBhvr additive="repl">
                                        <p:cTn id="6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1"/>
                                        </p:tgtEl>
                                        <p:attrNameLst>
                                          <p:attrName>style.visibility</p:attrName>
                                        </p:attrNameLst>
                                      </p:cBhvr>
                                      <p:to>
                                        <p:strVal val="visible"/>
                                      </p:to>
                                    </p:set>
                                    <p:animEffect filter="box(in)" transition="in">
                                      <p:cBhvr additive="repl">
                                        <p:cTn id="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04720" y="53208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431640" y="254520"/>
            <a:ext cx="10009440" cy="5306040"/>
          </a:xfrm>
          <a:prstGeom prst="rect">
            <a:avLst/>
          </a:prstGeom>
          <a:noFill/>
          <a:ln w="0">
            <a:noFill/>
          </a:ln>
        </p:spPr>
        <p:style>
          <a:lnRef idx="0"/>
          <a:fillRef idx="0"/>
          <a:effectRef idx="0"/>
          <a:fontRef idx="minor"/>
        </p:style>
        <p:txBody>
          <a:bodyPr lIns="90000" rIns="90000" tIns="46800" bIns="46800" anchor="ctr">
            <a:spAutoFit/>
          </a:bodyPr>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muerte es remot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quién realiza actos que jamás podrán llegar a producir el resultado penado por la ley. La idoneidad debe juzgarse según previsibilidad o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copiaron el Art. y no le dieron significado especial. Algunos sostienen que se trata de un dolo directo y otros de actos que directamente estén relacionados con el fin. </a:t>
            </a:r>
            <a:endParaRPr b="0" lang="en-US" sz="1800" spc="-1" strike="noStrike">
              <a:solidFill>
                <a:srgbClr val="ffffff"/>
              </a:solidFill>
              <a:latin typeface="Arial"/>
            </a:endParaRPr>
          </a:p>
          <a:p>
            <a:pPr marL="352440" indent="-352440" algn="ct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3"/>
                                        </p:tgtEl>
                                        <p:attrNameLst>
                                          <p:attrName>style.visibility</p:attrName>
                                        </p:attrNameLst>
                                      </p:cBhvr>
                                      <p:to>
                                        <p:strVal val="visible"/>
                                      </p:to>
                                    </p:set>
                                    <p:anim calcmode="lin" valueType="num">
                                      <p:cBhvr additive="base">
                                        <p:cTn id="88" dur="500" fill="hold"/>
                                        <p:tgtEl>
                                          <p:spTgt spid="313"/>
                                        </p:tgtEl>
                                        <p:attrNameLst>
                                          <p:attrName>ppt_x</p:attrName>
                                        </p:attrNameLst>
                                      </p:cBhvr>
                                      <p:tavLst>
                                        <p:tav tm="0">
                                          <p:val>
                                            <p:strVal val="#ppt_x"/>
                                          </p:val>
                                        </p:tav>
                                        <p:tav tm="100000">
                                          <p:val>
                                            <p:strVal val="#ppt_x"/>
                                          </p:val>
                                        </p:tav>
                                      </p:tavLst>
                                    </p:anim>
                                    <p:anim calcmode="lin" valueType="num">
                                      <p:cBhvr additive="base">
                                        <p:cTn id="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504720" y="920520"/>
            <a:ext cx="9720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problema es determinar si se puede dar tentativa con </a:t>
            </a:r>
            <a:r>
              <a:rPr b="0" lang="es-CL" sz="1800" spc="-1" strike="noStrike" u="sng">
                <a:solidFill>
                  <a:srgbClr val="ffffff"/>
                </a:solidFill>
                <a:uFillTx/>
                <a:latin typeface="Arial"/>
              </a:rPr>
              <a:t>dolo eventual.</a:t>
            </a:r>
            <a:r>
              <a:rPr b="0" lang="es-CL" sz="1800" spc="-1" strike="noStrike">
                <a:solidFill>
                  <a:srgbClr val="ffffff"/>
                </a:solidFill>
                <a:latin typeface="Arial"/>
              </a:rPr>
              <a:t> Para la mayoría autores es necesario dolo dire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y autores extranjeros Zaffaroni, Mezger, etc. aceptan castigo tentativa con dolo even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existe la posibilidad de sancionar el cuasidelito tentado 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En nuestro Código no podría sancionarse a título de tentativa o delito frustrado. Ver posición del profesor Cu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4"/>
                                        </p:tgtEl>
                                        <p:attrNameLst>
                                          <p:attrName>style.visibility</p:attrName>
                                        </p:attrNameLst>
                                      </p:cBhvr>
                                      <p:to>
                                        <p:strVal val="visible"/>
                                      </p:to>
                                    </p:set>
                                    <p:animEffect filter="blinds(horizontal)" transition="in">
                                      <p:cBhvr additive="repl">
                                        <p:cTn id="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31640" y="66672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iste verdadera imposibilidad cuando falta elemento o circunstancia incluida en la descripción típica de la figura. Ej.: persona - muerte; embarazo - aborto.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caso contrario, si los medios son inidóneos, tipo de tentativa o frustración. Ej.: no dar dosis suficiente de veneno; el delito es posible, faltaron ciertos factores.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5"/>
                                        </p:tgtEl>
                                        <p:attrNameLst>
                                          <p:attrName>style.visibility</p:attrName>
                                        </p:attrNameLst>
                                      </p:cBhvr>
                                      <p:to>
                                        <p:strVal val="visible"/>
                                      </p:to>
                                    </p:set>
                                    <p:animEffect filter="checkerboard(across)" transition="in">
                                      <p:cBhvr additive="repl">
                                        <p:cTn id="1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47640" y="1191960"/>
            <a:ext cx="96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6"/>
                                        </p:tgtEl>
                                        <p:attrNameLst>
                                          <p:attrName>style.visibility</p:attrName>
                                        </p:attrNameLst>
                                      </p:cBhvr>
                                      <p:to>
                                        <p:strVal val="visible"/>
                                      </p:to>
                                    </p:set>
                                    <p:animEffect filter="wipe(down)" transition="in">
                                      <p:cBhvr additive="repl">
                                        <p:cTn id="1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504720" y="135576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7"/>
                                        </p:tgtEl>
                                        <p:attrNameLst>
                                          <p:attrName>style.visibility</p:attrName>
                                        </p:attrNameLst>
                                      </p:cBhvr>
                                      <p:to>
                                        <p:strVal val="visible"/>
                                      </p:to>
                                    </p:set>
                                    <p:anim calcmode="lin" valueType="num">
                                      <p:cBhvr additive="base">
                                        <p:cTn id="117" dur="500" fill="hold"/>
                                        <p:tgtEl>
                                          <p:spTgt spid="317"/>
                                        </p:tgtEl>
                                        <p:attrNameLst>
                                          <p:attrName>ppt_x</p:attrName>
                                        </p:attrNameLst>
                                      </p:cBhvr>
                                      <p:tavLst>
                                        <p:tav tm="0">
                                          <p:val>
                                            <p:strVal val="#ppt_x"/>
                                          </p:val>
                                        </p:tav>
                                        <p:tav tm="100000">
                                          <p:val>
                                            <p:strVal val="#ppt_x"/>
                                          </p:val>
                                        </p:tav>
                                      </p:tavLst>
                                    </p:anim>
                                    <p:anim calcmode="lin" valueType="num">
                                      <p:cBhvr additive="base">
                                        <p:cTn id="1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2"/>
                                        </p:tgtEl>
                                        <p:attrNameLst>
                                          <p:attrName>style.visibility</p:attrName>
                                        </p:attrNameLst>
                                      </p:cBhvr>
                                      <p:to>
                                        <p:strVal val="visible"/>
                                      </p:to>
                                    </p:set>
                                    <p:animEffect filter="box(in)" transition="in">
                                      <p:cBhvr additive="repl">
                                        <p:cTn id="1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3"/>
                                        </p:tgtEl>
                                        <p:attrNameLst>
                                          <p:attrName>style.visibility</p:attrName>
                                        </p:attrNameLst>
                                      </p:cBhvr>
                                      <p:to>
                                        <p:strVal val="visible"/>
                                      </p:to>
                                    </p:set>
                                    <p:animEffect filter="box(in)" transition="in">
                                      <p:cBhvr additive="repl">
                                        <p:cTn id="2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5"/>
                                        </p:tgtEl>
                                        <p:attrNameLst>
                                          <p:attrName>style.visibility</p:attrName>
                                        </p:attrNameLst>
                                      </p:cBhvr>
                                      <p:to>
                                        <p:strVal val="visible"/>
                                      </p:to>
                                    </p:set>
                                    <p:animEffect filter="checkerboard(across)" transition="in">
                                      <p:cBhvr additive="repl">
                                        <p:cTn id="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6"/>
                                        </p:tgtEl>
                                        <p:attrNameLst>
                                          <p:attrName>style.visibility</p:attrName>
                                        </p:attrNameLst>
                                      </p:cBhvr>
                                      <p:to>
                                        <p:strVal val="visible"/>
                                      </p:to>
                                    </p:set>
                                    <p:anim calcmode="lin" valueType="num">
                                      <p:cBhvr additive="base">
                                        <p:cTn id="40" dur="500" fill="hold"/>
                                        <p:tgtEl>
                                          <p:spTgt spid="306"/>
                                        </p:tgtEl>
                                        <p:attrNameLst>
                                          <p:attrName>ppt_x</p:attrName>
                                        </p:attrNameLst>
                                      </p:cBhvr>
                                      <p:tavLst>
                                        <p:tav tm="0">
                                          <p:val>
                                            <p:strVal val="#ppt_x"/>
                                          </p:val>
                                        </p:tav>
                                        <p:tav tm="100000">
                                          <p:val>
                                            <p:strVal val="#ppt_x"/>
                                          </p:val>
                                        </p:tav>
                                      </p:tavLst>
                                    </p:anim>
                                    <p:anim calcmode="lin" valueType="num">
                                      <p:cBhvr additive="base">
                                        <p:cTn id="4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7"/>
                                        </p:tgtEl>
                                        <p:attrNameLst>
                                          <p:attrName>style.visibility</p:attrName>
                                        </p:attrNameLst>
                                      </p:cBhvr>
                                      <p:to>
                                        <p:strVal val="visible"/>
                                      </p:to>
                                    </p:set>
                                    <p:animEffect filter="diamond(in)" transition="in">
                                      <p:cBhvr additive="repl">
                                        <p:cTn id="48"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9"/>
                                        </p:tgtEl>
                                        <p:attrNameLst>
                                          <p:attrName>style.visibility</p:attrName>
                                        </p:attrNameLst>
                                      </p:cBhvr>
                                      <p:to>
                                        <p:strVal val="visible"/>
                                      </p:to>
                                    </p:set>
                                    <p:animEffect filter="wipe(down)" transition="in">
                                      <p:cBhvr additive="repl">
                                        <p:cTn id="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05T02:47:10Z</dcterms:modified>
  <cp:revision>47</cp:revision>
  <dc:subject/>
  <dc:title>Diapositiva 1</dc:title>
</cp:coreProperties>
</file>