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A7D-C192-4EDD-9C33-083E883F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3E2-58E8-47C0-B231-A7563F12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3CB-DF77-4B54-9668-8DB3F831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2FE-EAD8-4D07-A9D8-E945B370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AC98-9EBD-406B-A117-4BE0273B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59C0-1ACC-4B5E-9B59-898EB390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92FD-9F6A-4603-AD2E-803EF232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9D28-23DF-48ED-8A79-6E6E0117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3AC-FFB5-4007-8A93-1B9C4D7D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F1E-62ED-4FC9-B703-2DAD21A8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6642-2F42-4F67-AC1C-986ABED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E81-F782-426F-A915-34C036D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6EAD-5990-4102-8A87-04CE1F89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83B6-EA28-4C06-81C2-39F1A576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73FE-07B3-4A64-9864-CE72E4D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A94E-8CFE-4F8C-9C97-CBF80C01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FFDB-9DE3-41B2-A1BA-22B38573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3A1-CE6F-401B-B250-7F846F32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D3E-E0D5-42C1-95D0-4D07B2C6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DE8-CEA3-4AB6-8E3D-CCCE5EA2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12A-1E42-4B58-943D-00F1E8BB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BC1-1277-431B-BB0A-8DC7A6E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FE7-1F84-447C-B948-DA436FF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395-E3B3-4295-ABD2-511DD0B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A23-E025-4A97-B8E9-5CF11769863C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08E-6516-4CCB-9B15-8BA64EC49EA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 1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7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8" name="Picture 11" descr="uchile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7920" y="1951200"/>
            <a:ext cx="6705360" cy="4754520"/>
            <a:chOff x="1447920" y="1951200"/>
            <a:chExt cx="6705360" cy="4754520"/>
          </a:xfrm>
        </p:grpSpPr>
        <p:sp>
          <p:nvSpPr>
            <p:cNvPr id="136" name="AutoShape 3"/>
            <p:cNvSpPr/>
            <p:nvPr/>
          </p:nvSpPr>
          <p:spPr>
            <a:xfrm>
              <a:off x="1447920" y="1951200"/>
              <a:ext cx="6705360" cy="47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019040" y="2826000"/>
              <a:ext cx="170460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1606320" y="3303720"/>
              <a:ext cx="169992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1668240" y="5303880"/>
              <a:ext cx="338760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1488600" y="4708440"/>
              <a:ext cx="58104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835440" y="3630960"/>
              <a:ext cx="231732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554880" y="3655800"/>
              <a:ext cx="1514160" cy="4600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957480" y="1959120"/>
              <a:ext cx="188388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168640" y="4708440"/>
              <a:ext cx="2466720" cy="48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1668240" y="5673600"/>
              <a:ext cx="1652760" cy="293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1668240" y="5994360"/>
              <a:ext cx="2158920" cy="295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1668240" y="6347160"/>
              <a:ext cx="245052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Text Box 29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0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57160" y="1828800"/>
            <a:ext cx="80582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zgados con un juez: un juez, un administrador, dos miembros del consejo técnico, un jefe de unidad, dos administrativos jefes, un administrativo contable, dos administrativos 1º, cuatro administrativos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zgados con dos jueces: dos jueces, un administrador, dos miembros del consejo técnico, un jefe de unidad, dos administrativos jefes, un administrativo contable, tres administrativos 1º, cuatro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 Juzgados con tres jueces: tres jueces, un administrador, tres miembros del consejo técnico, un jefe de unidad, dos administrativos jefes, un administrativo contable, cuatro administrativos 1º, cuatro administrativos 2º, cuatr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57160" y="1242720"/>
            <a:ext cx="8058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uatro jueces: cuatro jueces, un administrador, cuatro miembros del consejo técnico, un jefe de unidad, dos administrativos jefes, un administrativo contable, seis administrativos 1º, cuatro administrativos 2º, cinc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inco jueces: cinco jueces, un administrador, cinco miembros del consejo técnico, un jefe de unidad, dos administrativos jefes, un administrativo contable, siete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eis jueces: seis jueces, un administrador, seis miembros del consejo técnico, dos jefes de unidad, dos administrativos jefes, un administrativo contable, ocho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57160" y="1643040"/>
            <a:ext cx="805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iete jueces: siete jueces, un administrador, siete miembros del consejo técnico, tres jefes de unidad, tres administrativos jefes, un administrativo contable, ocho administrativos 1º, cuatro administrativos 2º, sei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ocho jueces: ocho jueces, un administrador, ocho miembros del consejo técnico, tres jefes de unidad, tres administrativos jefes, un administrativo contable, nuev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nueve jueces: nueve jueces, un administrador, nueve miembros del consejo técnico, tres jefes de unidad, tres administrativos jefes, un administrativo contable, diez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iez jueces: diez jueces, un administrador, diez miembros del consejo técnico, cuatro jefes de unidad, cuatro administrativos jefes, un administrativo contable, onc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oce jueces: doce jueces, un administrador, doce miembros del consejo técnico, cuatro jefes de unidad, cuatro administrativos jefes, un administrativo contable, trece administrativos 1º, seis administrativos 2º, 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9440" y="224280"/>
            <a:ext cx="9073440" cy="2745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2) Juzgados con trece jueces: trece jueces, un administrador, doce miemb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consejo técnico, cuatro jefes de unidad, cuatro administrativos jef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administrativo contable, trece administrativos 1º, seis administrativos 2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todos con trece jueces, con competencia sobre las comunas de la provincia de Santiago..., con excepción de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as comunas de San Joaquín, La Granja, La Pintana, San Ramón, San Miguel, La Cisterna, El Bosque, Pedro Aguirre Cerda, Lo Espejo, Pudahuel, Quinta Normal, Cerro Navia y Lo Pr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28600"/>
            <a:ext cx="7924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CON ASIENTO PROVINCIA DE SANTIA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especiale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ú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 y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mplimien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a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, a requerimiento del juez,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Asesorar al juez, a requerimiento de éste, en la evaluación del riesgo a que se refiere el artículo 7º de la ley 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º 20.066, sobr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uchile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028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00080" y="1047600"/>
            <a:ext cx="7610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s causas relativas al ejercicio, suspensión o pérdida de la patria potestad; a la emancipación y a las autorizaciones a que se refieren los Párrafos 2º y 3º del Título X del Libro I del Código Civ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943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28440" y="1499760"/>
            <a:ext cx="79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 y med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a manejar la correspondencia del tribunal y a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r las gestiones necesarias para la adecuada y cabal ejecución de las acciones de información y derivación a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4840" y="9000"/>
            <a:ext cx="8997120" cy="2228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°. Cumplimiento, que, dada la particular naturaleza de los procedimient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ecidos en esta ley, desarrollará las gestiones necesarias para 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ecuada y cabal ejecución de las resoluciones judiciales en el ámbi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r, particularmente de aquellas que requieren de cumplimiento sosten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5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1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2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3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5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6" descr=""/>
          <p:cNvPicPr/>
          <p:nvPr/>
        </p:nvPicPr>
        <p:blipFill>
          <a:blip r:embed="rId5"/>
          <a:srcRect l="0" t="5237" r="6783" b="0"/>
          <a:stretch/>
        </p:blipFill>
        <p:spPr>
          <a:xfrm>
            <a:off x="5572080" y="307188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7"/>
          <p:cNvSpPr/>
          <p:nvPr/>
        </p:nvSpPr>
        <p:spPr>
          <a:xfrm>
            <a:off x="6019920" y="3429000"/>
            <a:ext cx="25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a0aff"/>
                </a:solidFill>
                <a:latin typeface="Tahoma"/>
                <a:ea typeface="Tahoma"/>
              </a:rPr>
              <a:t>Procedimiento contravencional</a:t>
            </a:r>
            <a:r>
              <a:rPr b="1" i="1" lang="es-CL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8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429160" y="4214880"/>
            <a:ext cx="3353040" cy="995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20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21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22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3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4" descr=""/>
          <p:cNvPicPr/>
          <p:nvPr/>
        </p:nvPicPr>
        <p:blipFill>
          <a:blip r:embed="rId8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9"/>
          <a:srcRect l="0" t="11156" r="6783" b="0"/>
          <a:stretch/>
        </p:blipFill>
        <p:spPr>
          <a:xfrm>
            <a:off x="5572080" y="100008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29 CuadroTexto"/>
          <p:cNvSpPr/>
          <p:nvPr/>
        </p:nvSpPr>
        <p:spPr>
          <a:xfrm>
            <a:off x="6072120" y="12142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Medidas de protec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30 CuadroTexto"/>
          <p:cNvSpPr/>
          <p:nvPr/>
        </p:nvSpPr>
        <p:spPr>
          <a:xfrm>
            <a:off x="6143760" y="2286000"/>
            <a:ext cx="23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Violencia intrafamili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428760" y="214200"/>
            <a:ext cx="8501040" cy="14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guardas, con excepción de aquellas relativas a pupilos mayores de edad, y aquella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digan relación con la curaduría de la herencia yacente, sin perjuicio de lo establecido en el inciso segundo del artículo 494 del Códig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asuntos en que se impute la comisión de cualquier falta a adolescentes mayores de catorce y menores de dieciséis años de edad, y las que se imputen a adolescentes mayores de dieciséis y menores de dieciocho años, que no se encuentren contempladas en el inciso tercero del artículo 1° de la ley N° 20.084. Tratándose de hechos punibles cometidos por un niño o niña, el juez de familia procederá de acuerdo a lo prescrito en el artículo 102 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9720" y="-1105200"/>
            <a:ext cx="7543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00080" y="528480"/>
            <a:ext cx="761040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previos a la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s causas sobre declaración y desafectación de bienes familiares y la constitución de derechos de usufructo, uso o habitación sobre los mis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otra materia que la ley les encomiend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785880" y="285840"/>
            <a:ext cx="8072280" cy="82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los procesos matrimoniales. 1. Compensación económica. 2. Liquidación régimen de bienes (227 inciso final CO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violencia intrafamiliar. 1. 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embolsos y perjuicios patrimoniales que se hubieren ocasionado a la víctima con la ejecución del o los actos de actos de violencia intrafamiliar (art. 11 de la LVI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 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ativo a trabajo infantil: 1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acerca del control de la autorización para trabajar dada por el inspector del trabajo respectivo al adolescente mayor de 15 años y menor de 18 (art. 13.4 del Código del Trabajo). 2. Autorizar para trabajar como actores en ciertos espectáculos a menores de 18 años (art. 15.2 del Código del Trabajo). 3. Dar o denegar la autorización a niños y adolescentes para celebrar contratos de trabajo con personas o entidades dedicadas al teatro, cine, radio, televisión, circo u otras actividades similares en el caso indicado en el art. 16 del Código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Relativo al derecho de alimentos. 1. Pretensión pauliana especial (art. 5. 7 Ley Nº 14.908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 Rectángulo"/>
          <p:cNvSpPr/>
          <p:nvPr/>
        </p:nvSpPr>
        <p:spPr>
          <a:xfrm>
            <a:off x="642960" y="428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- Cuestiones prejudiciales de familia. 1. Los relativos a la validez del matrimonio. 2. Las cuestiones sobre estado civil cuya resolución deba servir de antecedente necesario para el fallo de la acción penal persecutoria de los delitos de usurpación, ocultación o supresión del estado civil (cfr. arts. 171 y 252, letra a) CPP y 173 COT).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mauro</cp:lastModifiedBy>
  <dcterms:modified xsi:type="dcterms:W3CDTF">2008-08-22T05:44:56Z</dcterms:modified>
  <cp:revision>91</cp:revision>
  <dc:subject/>
  <dc:title>Diapositiva 1</dc:title>
</cp:coreProperties>
</file>