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7102475" cy="93884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2630-77CA-4195-8FB2-04ABA9E39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9D9B-48EF-4DA9-AAD7-48925E4D8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6A4F-3DC9-41C2-BE42-B84CAD462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D1BA-1177-4736-AC0D-7FE9BB270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91DB8-5658-40E4-BFD5-3CE05DC64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FD263-B703-48CE-9944-D0D699F1B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1C1CE-A201-4B3A-8EC9-B073203A6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958D5-CF90-4572-87FC-6CE4A9F93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D982D-1F66-4602-8465-D74A5D31E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4E383-FE80-4E95-AD63-2593AE5C2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EDF84-01BD-4ECA-8726-DFAD1BE24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821C-2734-4BD3-B876-C5BB74129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88663-7D50-4F02-A4FE-E52C23E39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43454-0EEB-4FF9-AE39-3EE9EF396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AD2D6-F0BC-47E7-9FE3-C78ECE9B3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E93C9-7B3A-440D-A2D5-BAB5BC5DA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5745E-75D5-4731-8BD4-FB5631EA9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DA6E-5AD5-4A9F-A374-DA6E36198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6519-8009-4560-873B-AAEE11C58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F692-FB69-418C-AC55-5111D0515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7DC9-E51C-4521-B133-C7AB34057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4598-9DAC-4268-974C-F2E25A39A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FE44-8064-4271-B16F-AB0ACBF27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320D-9633-4B4F-AD3B-F7B3C1278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FACB0-4C34-4AD1-99BB-F0695DBECDB6}" type="slidenum">
              <a:rPr b="0" lang="es-E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CC896-691E-45A2-AA34-2107F7E01AE4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762120" y="228600"/>
            <a:ext cx="64008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66ff"/>
                </a:solidFill>
                <a:latin typeface="Times New Roman"/>
              </a:rPr>
              <a:t>Universidad de Chile</a:t>
            </a:r>
            <a:br>
              <a:rPr sz="4000"/>
            </a:br>
            <a:r>
              <a:rPr b="1" lang="es-ES" sz="3600" spc="-1" strike="noStrike">
                <a:solidFill>
                  <a:srgbClr val="0066ff"/>
                </a:solidFill>
                <a:latin typeface="Times New Roman"/>
              </a:rPr>
              <a:t>Facultad de Derecho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6477120" y="4797360"/>
            <a:ext cx="2514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66ff"/>
                </a:solidFill>
                <a:latin typeface="Arial"/>
              </a:rPr>
              <a:t>René Núñez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6248520" y="1981080"/>
            <a:ext cx="2819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ffff00"/>
                </a:solidFill>
                <a:latin typeface="Monotype Corsiva"/>
              </a:rPr>
              <a:t>Módulo  1 Estructura, competencia y procedimiento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12" name="Group 5"/>
          <p:cNvGrpSpPr/>
          <p:nvPr/>
        </p:nvGrpSpPr>
        <p:grpSpPr>
          <a:xfrm>
            <a:off x="1344600" y="1870200"/>
            <a:ext cx="4903920" cy="4911120"/>
            <a:chOff x="1344600" y="1870200"/>
            <a:chExt cx="4903920" cy="4911120"/>
          </a:xfrm>
        </p:grpSpPr>
        <p:pic>
          <p:nvPicPr>
            <p:cNvPr id="113" name="Picture 6" descr=""/>
            <p:cNvPicPr/>
            <p:nvPr/>
          </p:nvPicPr>
          <p:blipFill>
            <a:blip r:embed="rId1"/>
            <a:stretch/>
          </p:blipFill>
          <p:spPr>
            <a:xfrm>
              <a:off x="1352520" y="1873080"/>
              <a:ext cx="4869000" cy="487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Rectangle 7"/>
            <p:cNvSpPr/>
            <p:nvPr/>
          </p:nvSpPr>
          <p:spPr>
            <a:xfrm>
              <a:off x="1344600" y="6684840"/>
              <a:ext cx="4900680" cy="9648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5" name="Rectangle 8"/>
            <p:cNvSpPr/>
            <p:nvPr/>
          </p:nvSpPr>
          <p:spPr>
            <a:xfrm>
              <a:off x="1347840" y="1870200"/>
              <a:ext cx="4900680" cy="9648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6" name="Rectangle 9"/>
            <p:cNvSpPr/>
            <p:nvPr/>
          </p:nvSpPr>
          <p:spPr>
            <a:xfrm>
              <a:off x="1344600" y="1873080"/>
              <a:ext cx="74880" cy="488916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7" name="Rectangle 10"/>
            <p:cNvSpPr/>
            <p:nvPr/>
          </p:nvSpPr>
          <p:spPr>
            <a:xfrm>
              <a:off x="6161040" y="1873080"/>
              <a:ext cx="74880" cy="488916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pic>
        <p:nvPicPr>
          <p:cNvPr id="118" name="Picture 11" descr="uchile"/>
          <p:cNvPicPr/>
          <p:nvPr/>
        </p:nvPicPr>
        <p:blipFill>
          <a:blip r:embed="rId2"/>
          <a:stretch/>
        </p:blipFill>
        <p:spPr>
          <a:xfrm>
            <a:off x="147600" y="260280"/>
            <a:ext cx="60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Group 2"/>
          <p:cNvGrpSpPr/>
          <p:nvPr/>
        </p:nvGrpSpPr>
        <p:grpSpPr>
          <a:xfrm>
            <a:off x="1447920" y="1951200"/>
            <a:ext cx="6705360" cy="4754520"/>
            <a:chOff x="1447920" y="1951200"/>
            <a:chExt cx="6705360" cy="4754520"/>
          </a:xfrm>
        </p:grpSpPr>
        <p:sp>
          <p:nvSpPr>
            <p:cNvPr id="136" name="AutoShape 3"/>
            <p:cNvSpPr/>
            <p:nvPr/>
          </p:nvSpPr>
          <p:spPr>
            <a:xfrm>
              <a:off x="1447920" y="1951200"/>
              <a:ext cx="6705360" cy="4754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7" name="Rectangle 4"/>
            <p:cNvSpPr/>
            <p:nvPr/>
          </p:nvSpPr>
          <p:spPr>
            <a:xfrm>
              <a:off x="4019040" y="2826000"/>
              <a:ext cx="1704600" cy="485640"/>
            </a:xfrm>
            <a:prstGeom prst="rect">
              <a:avLst/>
            </a:prstGeom>
            <a:solidFill>
              <a:srgbClr val="33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500" spc="-1" strike="noStrike">
                  <a:solidFill>
                    <a:srgbClr val="ffffff"/>
                  </a:solidFill>
                  <a:latin typeface="Arial Narrow"/>
                </a:rPr>
                <a:t>Juez Presidente</a:t>
              </a:r>
              <a:endParaRPr b="0" lang="en-US" sz="15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8" name="Rectangle 5"/>
            <p:cNvSpPr/>
            <p:nvPr/>
          </p:nvSpPr>
          <p:spPr>
            <a:xfrm>
              <a:off x="1606320" y="3303720"/>
              <a:ext cx="1699920" cy="468000"/>
            </a:xfrm>
            <a:prstGeom prst="rect">
              <a:avLst/>
            </a:prstGeom>
            <a:solidFill>
              <a:srgbClr val="33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500" spc="-1" strike="noStrike">
                  <a:solidFill>
                    <a:srgbClr val="ffffff"/>
                  </a:solidFill>
                  <a:latin typeface="Arial Narrow"/>
                </a:rPr>
                <a:t>Administrador</a:t>
              </a:r>
              <a:endParaRPr b="0" lang="en-US" sz="15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9" name="Rectangle 6"/>
            <p:cNvSpPr/>
            <p:nvPr/>
          </p:nvSpPr>
          <p:spPr>
            <a:xfrm>
              <a:off x="1668240" y="5303880"/>
              <a:ext cx="3387600" cy="2916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 Narrow"/>
                </a:rPr>
                <a:t>Encargado de administración de causas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0" name="Rectangle 7"/>
            <p:cNvSpPr/>
            <p:nvPr/>
          </p:nvSpPr>
          <p:spPr>
            <a:xfrm>
              <a:off x="1488600" y="4708440"/>
              <a:ext cx="581040" cy="4842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500" spc="-1" strike="noStrike">
                  <a:solidFill>
                    <a:srgbClr val="000000"/>
                  </a:solidFill>
                  <a:latin typeface="Arial Narrow"/>
                </a:rPr>
                <a:t>Sala</a:t>
              </a:r>
              <a:endParaRPr b="0" lang="en-US" sz="15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1" name="Rectangle 8"/>
            <p:cNvSpPr/>
            <p:nvPr/>
          </p:nvSpPr>
          <p:spPr>
            <a:xfrm>
              <a:off x="4707360" y="4765680"/>
              <a:ext cx="1816920" cy="468720"/>
            </a:xfrm>
            <a:prstGeom prst="rect">
              <a:avLst/>
            </a:prstGeom>
            <a:solidFill>
              <a:srgbClr val="3366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500" spc="-1" strike="noStrike">
                  <a:solidFill>
                    <a:srgbClr val="ffffff"/>
                  </a:solidFill>
                  <a:latin typeface="Arial Narrow"/>
                </a:rPr>
                <a:t>Atención Público</a:t>
              </a:r>
              <a:endParaRPr b="0" lang="en-US" sz="15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2" name="Line 9"/>
            <p:cNvSpPr/>
            <p:nvPr/>
          </p:nvSpPr>
          <p:spPr>
            <a:xfrm>
              <a:off x="2410560" y="3074040"/>
              <a:ext cx="1609200" cy="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3" name="Rectangle 10"/>
            <p:cNvSpPr/>
            <p:nvPr/>
          </p:nvSpPr>
          <p:spPr>
            <a:xfrm>
              <a:off x="3835440" y="3630960"/>
              <a:ext cx="2317320" cy="485640"/>
            </a:xfrm>
            <a:prstGeom prst="rect">
              <a:avLst/>
            </a:prstGeom>
            <a:solidFill>
              <a:srgbClr val="33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500" spc="-1" strike="noStrike">
                  <a:solidFill>
                    <a:srgbClr val="ffffff"/>
                  </a:solidFill>
                  <a:latin typeface="Arial Narrow"/>
                </a:rPr>
                <a:t>Jueces de Familia</a:t>
              </a:r>
              <a:endParaRPr b="0" lang="en-US" sz="15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4" name="Line 11"/>
            <p:cNvSpPr/>
            <p:nvPr/>
          </p:nvSpPr>
          <p:spPr>
            <a:xfrm>
              <a:off x="6123960" y="3879000"/>
              <a:ext cx="4330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5" name="Rectangle 12"/>
            <p:cNvSpPr/>
            <p:nvPr/>
          </p:nvSpPr>
          <p:spPr>
            <a:xfrm>
              <a:off x="6554880" y="3655800"/>
              <a:ext cx="1514160" cy="460080"/>
            </a:xfrm>
            <a:prstGeom prst="rect">
              <a:avLst/>
            </a:prstGeom>
            <a:solidFill>
              <a:srgbClr val="33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 Narrow"/>
                </a:rPr>
                <a:t>Consejo Técnico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6" name="Rectangle 13"/>
            <p:cNvSpPr/>
            <p:nvPr/>
          </p:nvSpPr>
          <p:spPr>
            <a:xfrm>
              <a:off x="1455840" y="4665240"/>
              <a:ext cx="6689160" cy="2032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7" name="Line 14"/>
            <p:cNvSpPr/>
            <p:nvPr/>
          </p:nvSpPr>
          <p:spPr>
            <a:xfrm>
              <a:off x="3244680" y="3478680"/>
              <a:ext cx="432864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8" name="Line 15"/>
            <p:cNvSpPr/>
            <p:nvPr/>
          </p:nvSpPr>
          <p:spPr>
            <a:xfrm>
              <a:off x="2425680" y="3070440"/>
              <a:ext cx="1800" cy="233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9" name="Line 16"/>
            <p:cNvSpPr/>
            <p:nvPr/>
          </p:nvSpPr>
          <p:spPr>
            <a:xfrm>
              <a:off x="5443560" y="4126680"/>
              <a:ext cx="1080" cy="49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0" name="Line 17"/>
            <p:cNvSpPr/>
            <p:nvPr/>
          </p:nvSpPr>
          <p:spPr>
            <a:xfrm>
              <a:off x="4824000" y="3321720"/>
              <a:ext cx="1080" cy="309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1" name="Rectangle 18"/>
            <p:cNvSpPr/>
            <p:nvPr/>
          </p:nvSpPr>
          <p:spPr>
            <a:xfrm>
              <a:off x="3957480" y="1959120"/>
              <a:ext cx="1883880" cy="485640"/>
            </a:xfrm>
            <a:prstGeom prst="rect">
              <a:avLst/>
            </a:prstGeom>
            <a:solidFill>
              <a:srgbClr val="33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500" spc="-1" strike="noStrike">
                  <a:solidFill>
                    <a:srgbClr val="ffffff"/>
                  </a:solidFill>
                  <a:latin typeface="Arial Narrow"/>
                </a:rPr>
                <a:t>Comité de Jueces</a:t>
              </a:r>
              <a:endParaRPr b="0" lang="en-US" sz="15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2" name="Line 19"/>
            <p:cNvSpPr/>
            <p:nvPr/>
          </p:nvSpPr>
          <p:spPr>
            <a:xfrm>
              <a:off x="4824000" y="2454120"/>
              <a:ext cx="1080" cy="37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3" name="Rectangle 20"/>
            <p:cNvSpPr/>
            <p:nvPr/>
          </p:nvSpPr>
          <p:spPr>
            <a:xfrm>
              <a:off x="2168640" y="4708440"/>
              <a:ext cx="2466720" cy="4856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000000"/>
                  </a:solidFill>
                  <a:latin typeface="Arial Narrow"/>
                </a:rPr>
                <a:t>Administración de Causas</a:t>
              </a:r>
              <a:endParaRPr b="0" lang="en-US" sz="13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4" name="Rectangle 21"/>
            <p:cNvSpPr/>
            <p:nvPr/>
          </p:nvSpPr>
          <p:spPr>
            <a:xfrm>
              <a:off x="6696360" y="4765680"/>
              <a:ext cx="1064520" cy="486360"/>
            </a:xfrm>
            <a:prstGeom prst="rect">
              <a:avLst/>
            </a:prstGeom>
            <a:solidFill>
              <a:srgbClr val="3366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500" spc="-1" strike="noStrike">
                  <a:solidFill>
                    <a:srgbClr val="ffffff"/>
                  </a:solidFill>
                  <a:latin typeface="Arial Narrow"/>
                </a:rPr>
                <a:t>Servicios</a:t>
              </a:r>
              <a:endParaRPr b="0" lang="en-US" sz="15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5" name="Rectangle 22"/>
            <p:cNvSpPr/>
            <p:nvPr/>
          </p:nvSpPr>
          <p:spPr>
            <a:xfrm>
              <a:off x="1668240" y="5673600"/>
              <a:ext cx="1652760" cy="2934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 Narrow"/>
                </a:rPr>
                <a:t>Encargado de sala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6" name="Rectangle 23"/>
            <p:cNvSpPr/>
            <p:nvPr/>
          </p:nvSpPr>
          <p:spPr>
            <a:xfrm>
              <a:off x="5072040" y="6229800"/>
              <a:ext cx="781560" cy="293040"/>
            </a:xfrm>
            <a:prstGeom prst="rect">
              <a:avLst/>
            </a:prstGeom>
            <a:solidFill>
              <a:srgbClr val="3366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 Narrow"/>
                </a:rPr>
                <a:t>Auxiliar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7" name="Rectangle 24"/>
            <p:cNvSpPr/>
            <p:nvPr/>
          </p:nvSpPr>
          <p:spPr>
            <a:xfrm>
              <a:off x="5072040" y="5798520"/>
              <a:ext cx="1775880" cy="292680"/>
            </a:xfrm>
            <a:prstGeom prst="rect">
              <a:avLst/>
            </a:prstGeom>
            <a:solidFill>
              <a:srgbClr val="3366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 Narrow"/>
                </a:rPr>
                <a:t>Encargado contable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8" name="Rectangle 25"/>
            <p:cNvSpPr/>
            <p:nvPr/>
          </p:nvSpPr>
          <p:spPr>
            <a:xfrm>
              <a:off x="5072040" y="5409360"/>
              <a:ext cx="2450520" cy="293400"/>
            </a:xfrm>
            <a:prstGeom prst="rect">
              <a:avLst/>
            </a:prstGeom>
            <a:solidFill>
              <a:srgbClr val="3366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 Narrow"/>
                </a:rPr>
                <a:t>Encargado Atención público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9" name="Rectangle 26"/>
            <p:cNvSpPr/>
            <p:nvPr/>
          </p:nvSpPr>
          <p:spPr>
            <a:xfrm>
              <a:off x="1668240" y="5994360"/>
              <a:ext cx="2158920" cy="29556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 Narrow"/>
                </a:rPr>
                <a:t>Encargado de mediación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0" name="Rectangle 27"/>
            <p:cNvSpPr/>
            <p:nvPr/>
          </p:nvSpPr>
          <p:spPr>
            <a:xfrm>
              <a:off x="1668240" y="6347160"/>
              <a:ext cx="2450520" cy="2916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 Narrow"/>
                </a:rPr>
                <a:t>Encargado de toma de actas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1" name="Line 28"/>
            <p:cNvSpPr/>
            <p:nvPr/>
          </p:nvSpPr>
          <p:spPr>
            <a:xfrm>
              <a:off x="7573320" y="3478680"/>
              <a:ext cx="1080" cy="17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62" name="Text Box 29"/>
          <p:cNvSpPr/>
          <p:nvPr/>
        </p:nvSpPr>
        <p:spPr>
          <a:xfrm>
            <a:off x="1295280" y="333360"/>
            <a:ext cx="75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La estructura orgánica de los nuevos Juzgados de Familia e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3" name="Picture 30" descr="uchile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1066320" y="19051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os 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tribunales formarán parte del Poder Judici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Tendrán la estructura, organización y competencia que la ley establece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990720" y="45720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Características de los tribuna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6" name="Picture 4" descr="uchile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1066320" y="137160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Habrá juzgados unipersonales de composición múltipl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Significa: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Juzgados compuestos por un número variable de juec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Cada uno de los cuales detentará la plenitud jurisdiccional en forma independien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l número de jueces será variabl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Se determinará de acuerdo a la carga de trabajo estimada para cada jurisdicció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990720" y="45720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aracterísticas de los tribuna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9" name="Picture 4" descr="uchile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914040" y="1828440"/>
            <a:ext cx="80010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 algn="just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n lo no previsto en la Ley de Tribunales de Familia, quedarán sujetos a las disposiciones del Código Orgánico de Tribunales y demás leyes que lo complementa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just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Artículo 118 de la Ley Nº 19.968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just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just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Hace aplicable a los Tribunales de Familia, </a:t>
            </a:r>
            <a:r>
              <a:rPr b="1" lang="es-CL" sz="2000" spc="-1" strike="noStrike" u="sng">
                <a:solidFill>
                  <a:srgbClr val="ffffff"/>
                </a:solidFill>
                <a:uFillTx/>
                <a:latin typeface="Arial"/>
              </a:rPr>
              <a:t>en cuanto resulten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000" spc="-1" strike="noStrike" u="sng">
                <a:solidFill>
                  <a:srgbClr val="ffffff"/>
                </a:solidFill>
                <a:uFillTx/>
                <a:latin typeface="Arial"/>
              </a:rPr>
              <a:t>compatible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, las normas previstas en el Código Orgánico de Tribunales para los juzgados de garantía y tribunales de juicio oral en lo penal, en lo relativo al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1. Comité de jueces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2. Juez presidente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3. Administradores de tribunales y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4. Organización administrativa de los juzgados;</a:t>
            </a:r>
            <a:r>
              <a:rPr b="0" lang="es-CL" sz="20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990720" y="457200"/>
            <a:ext cx="792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Norma supletoria en relación a la organización de los Tribunales de Famil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2" name="Picture 4" descr="uchile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857160" y="1828800"/>
            <a:ext cx="8058240" cy="47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1) J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uzgados con un juez: un juez, un administrador, dos miembros del consejo técnico, un jefe de unidad, dos administrativos jefes, un administrativo contable, dos administrativos 1º, cuatro administrativos 2º y un auxilia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2) 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Juzgados con dos jueces: dos jueces, un administrador, dos miembros del consejo técnico, un jefe de unidad, dos administrativos jefes, un administrativo contable, tres administrativos 1º, cuatro administrativos 2º, dos administrativos 3º y un auxilia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3) Juzgados con tres jueces: tres jueces, un administrador, tres miembros del consejo técnico, un jefe de unidad, dos administrativos jefes, un administrativo contable, cuatro administrativos 1º, cuatro administrativos 2º, cuatro administrativos 3º y un auxilia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838080" y="0"/>
            <a:ext cx="792504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Titulo V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I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Planta De Person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Artículo 115.- Composición de la planta de los juzgados de familia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5" name="Picture 4" descr="uchile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857160" y="1242720"/>
            <a:ext cx="80582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4)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Juzgados con cuatro jueces: cuatro jueces, un administrador, cuatro miembros del consejo técnico, un jefe de unidad, dos administrativos jefes, un administrativo contable, seis administrativos 1º, cuatro administrativos 2º, cinco administrativos 3º y un auxilia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5)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Juzgados con cinco jueces: cinco jueces, un administrador, cinco miembros del consejo técnico, un jefe de unidad, dos administrativos jefes, un administrativo contable, siete administrativos 1º, cuatro administrativos 2º, seis administrativos 3º y un auxilia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6)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Juzgados con seis jueces: seis jueces, un administrador, seis miembros del consejo técnico, dos jefes de unidad, dos administrativos jefes, un administrativo contable, ocho administrativos 1º, cuatro administrativos 2º, seis administrativos 3º y un auxilia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838080" y="0"/>
            <a:ext cx="7925040" cy="254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rtículo 115.- Composición de la planta de los juzgados de</a:t>
            </a:r>
            <a:r>
              <a:rPr b="1" lang="es-MX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familia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8" name="Picture 4" descr="uchile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857160" y="1643040"/>
            <a:ext cx="80582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Tahoma"/>
                <a:ea typeface="Times New Roman"/>
              </a:rPr>
              <a:t> 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7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)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Juzgados con siete jueces: siete jueces, un administrador, siete miembros del consejo técnico, tres jefes de unidad, tres administrativos jefes, un administrativo contable, ocho administrativos 1º, cuatro administrativos 2º, seis administrativos 3º y dos auxiliar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8)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Juzgados con ocho jueces: ocho jueces, un administrador, ocho miembros del consejo técnico, tres jefes de unidad, tres administrativos jefes, un administrativo contable, nueve administrativos 1º, cinco administrativos 2º, ocho administrativos 3º y dos auxiliar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9)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Juzgados con nueve jueces: nueve jueces, un administrador, nueve miembros del consejo técnico, tres jefes de unidad, tres administrativos jefes, un administrativo contable, diez administrativos 1º, cinco administrativos 2º, ocho administrativos 3º y dos auxiliar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just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s-ES" sz="1800" spc="-1" strike="noStrike">
                <a:solidFill>
                  <a:srgbClr val="ffff00"/>
                </a:solidFill>
                <a:latin typeface="Tahoma"/>
                <a:ea typeface="Times New Roman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just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Tahoma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838080" y="228600"/>
            <a:ext cx="792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rtículo 115.- Composición de la planta de los juzgados de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familia.</a:t>
            </a:r>
            <a:r>
              <a:rPr b="1" lang="es-E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1" name="Picture 4" descr="uchile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837720" y="2133720"/>
            <a:ext cx="80010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plicable a la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Región Metropolitana de Santiago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0640" indent="-260640"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10)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Juzgados con diez jueces: diez jueces, un administrador, diez miembros del consejo técnico, cuatro jefes de unidad, cuatro administrativos jefes, un administrativo contable, once administrativos 1º, cinco administrativos 2º, ocho administrativos 3º y dos auxiliar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0640" indent="-260640"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11)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Juzgados con doce jueces: doce jueces, un administrador, doce miembros del consejo técnico, cuatro jefes de unidad, cuatro administrativos jefes, un administrativo contable, trece administrativos 1º, seis administrativos 2º, nueve administrativos 3º y dos auxiliar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0640" indent="-260640"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0640" indent="-260640"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0640" indent="-260640"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0640" indent="-260640"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990720" y="30492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rtículo 115.- Composición de la planta de los juzgados de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familia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4" name="Picture 4" descr="uchile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1"/>
          <p:cNvSpPr/>
          <p:nvPr/>
        </p:nvSpPr>
        <p:spPr>
          <a:xfrm>
            <a:off x="19440" y="224280"/>
            <a:ext cx="9073440" cy="274536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12) Juzgados con trece jueces: trece jueces, un administrador, doce miembr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del consejo técnico, cuatro jefes de unidad, cuatro administrativos jefes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un administrativo contable, trece administrativos 1º, seis administrativos 2º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nueve administrativos 3º y dos auxiliar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837720" y="1980720"/>
            <a:ext cx="80010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Cuatro juzgados de familia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: todos con trece jueces, con competencia sobre las comunas de la provincia de Santiago..., con excepción de.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las comunas de San Joaquín, La Granja, La Pintana, San Ramón, San Miguel, La Cisterna, El Bosque, Pedro Aguirre Cerda, Lo Espejo, Pudahuel, Quinta Normal, Cerro Navia y Lo Prado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os juzgado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, con diez jueces cada uno, con competencia sobre las comunas de San Miguel, San Joaquín, La Granja, La Pintana, San Ramón, Pedro Aguirre Cerda, La Cisterna, El Bosque y Lo Espej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Un juzgado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, con doce jueces, con competencia sobre las comunas de Pudahuel, Quinta Normal, Cerro Navia y Lo Prad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914400" y="228600"/>
            <a:ext cx="7924680" cy="212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REACIÓN DE NUEVOS JUZGAD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REGIÓN METROPOLITANA CON ASIENTO PROVINCIA DE SANTIAG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00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8" name="Picture 4" descr="uchile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115920"/>
            <a:ext cx="7543800" cy="8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cc"/>
                </a:solidFill>
                <a:latin typeface="Arial"/>
              </a:rPr>
              <a:t>Juzgados de Familia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066320" y="1557000"/>
            <a:ext cx="754380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Concepto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Tribunales especiales, integrados por uno o más jueces unipersonales, que conocerán de los asuntos de familia que la ley les encomiend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Estos Juzgados forman parte del Poder Judicia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Conformación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Número de jueces que la ley determine (Art. 4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Consejo técnic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Un administrado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Empleados de secretaría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Unidades administrativa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Picture 4" descr="uchile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320" y="230184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cc"/>
                </a:solidFill>
                <a:latin typeface="Arial"/>
              </a:rPr>
              <a:t>COMITÉ DE JUECE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90" name="Picture 3" descr="uchile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2"/>
          <p:cNvSpPr/>
          <p:nvPr/>
        </p:nvSpPr>
        <p:spPr>
          <a:xfrm>
            <a:off x="1295280" y="2362320"/>
            <a:ext cx="7391520" cy="29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3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n los juzgados de garantía en los que sirvan </a:t>
            </a:r>
            <a:r>
              <a:rPr b="0" lang="es-ES" sz="2000" spc="-1" strike="noStrike" u="sng">
                <a:solidFill>
                  <a:srgbClr val="ffffff"/>
                </a:solidFill>
                <a:uFillTx/>
                <a:latin typeface="Arial"/>
              </a:rPr>
              <a:t>tres o más juece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y en cada tribunal de juicio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oral en lo penal, habrá un comité de jueces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990720" y="38088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Norma del Código Procesal Penal aplicable en materia de Tribunales de Famil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3" name="Picture 4" descr="uchile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94920" y="2835000"/>
            <a:ext cx="708660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cc"/>
                </a:solidFill>
                <a:latin typeface="Arial"/>
              </a:rPr>
              <a:t>FUNCIONES DEL COMITÉ DE JUECE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95" name="Picture 3" descr="uchile"/>
          <p:cNvPicPr/>
          <p:nvPr/>
        </p:nvPicPr>
        <p:blipFill>
          <a:blip r:embed="rId1"/>
          <a:stretch/>
        </p:blipFill>
        <p:spPr>
          <a:xfrm>
            <a:off x="147600" y="155520"/>
            <a:ext cx="60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2"/>
          <p:cNvSpPr/>
          <p:nvPr/>
        </p:nvSpPr>
        <p:spPr>
          <a:xfrm>
            <a:off x="2286000" y="-39196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914040" y="380880"/>
            <a:ext cx="79246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a)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probar el procedimiento objetivo y general a que se refieren los artículos 15 y 17, en su caso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b) Designar, de la terna que le presente el juez presidente, al administrador del tribunal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) 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Resolver acerca de la remoción del administrador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) 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Designar al personal del juzgado o tribunal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, a propuesta en terna del administrador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f) Conocer de la apelación que se interpusiere en contra de la resolución del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dministrador que remueva al sub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dministrador, a los jefes de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unidades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o a los empleados del juzgado o tribunal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g) Decidir el proyecto de plan presupuestario anual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que le presente el juez presidente, para ser propuesto a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la Corporación Administrativa del Poder Judicial, 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h) Conocer de todas las demás materias que señale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la le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8" name="Picture 4" descr="uchile"/>
          <p:cNvPicPr/>
          <p:nvPr/>
        </p:nvPicPr>
        <p:blipFill>
          <a:blip r:embed="rId1"/>
          <a:stretch/>
        </p:blipFill>
        <p:spPr>
          <a:xfrm>
            <a:off x="147600" y="155520"/>
            <a:ext cx="60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42640" y="230184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cc"/>
                </a:solidFill>
                <a:latin typeface="Arial"/>
              </a:rPr>
              <a:t>Juez presidente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200" name="Picture 3" descr="uchile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1218960" y="106668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 algn="just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l juez presidente del comité de jueces le corresponderá velar por el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adecuado funcionamiento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del juzgado o tribunal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 algn="just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 algn="just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El Juez Presidente tendrá los</a:t>
            </a: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siguientes deberes y atribuciones:</a:t>
            </a:r>
            <a:br>
              <a:rPr sz="1800"/>
            </a:b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a)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residir el comité de jueces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 algn="just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b) 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Relacionarse con la Corporación Administrativa del Poder Judicial en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todas las materias relativas a la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competencia de ésta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) 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Proponer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al comité de jueces el procedimiento objetivo y general a que se refieren los artículos 15 y 17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) Elaborar anualmente una cuenta de la gestión jurisdiccional del juzgado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) Aprobar los criterios de gestión administrativa que le proponga el administrador del tribunal y supervisar su ejecución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 algn="just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2" name="Picture 3" descr="uchile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838080" y="990720"/>
            <a:ext cx="79250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f) Aprobar la distribución del personal que le presente el administrador del tribunal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g)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Calificar al personal, teniendo a la vista la evaluación que le presente el administrador del tribunal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h) Presentar al comité de jueces una terna para la designación del administrador del tribunal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i)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Proponer al comité de jueces la remoción del administrador del tribunal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4" name="Picture 3" descr="uchile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1294920" y="3124080"/>
            <a:ext cx="75438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cc"/>
                </a:solidFill>
                <a:latin typeface="Arial"/>
              </a:rPr>
              <a:t>Consejo Técnic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6" name="Picture 3" descr="uchile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1294920" y="1676520"/>
            <a:ext cx="75438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-240120">
              <a:lnSpc>
                <a:spcPct val="11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Finalidad: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rganismo asesor en el tratamiento de un conflicto familia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40120" indent="-24012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40120" indent="-240120" algn="just">
              <a:lnSpc>
                <a:spcPct val="11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El Consejo Técnico, conforme lo señala el artículo 457 del Código Orgánico de Tribunales, modificado por la Ley Nº 19.698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40120" indent="-240120" algn="just">
              <a:lnSpc>
                <a:spcPct val="11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40120" indent="-240120" algn="just">
              <a:lnSpc>
                <a:spcPct val="11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ahoma"/>
              </a:rPr>
              <a:t>Sus miembros son auxiliares de la administración de justicia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40120" indent="-240120" algn="just">
              <a:lnSpc>
                <a:spcPct val="11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40120" indent="-240120" algn="just">
              <a:lnSpc>
                <a:spcPct val="11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Compuesto por profesionales en el número y con los requisitos que establece la le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40120" indent="-2401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8" name="Picture 4" descr="uchile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3"/>
          <p:cNvSpPr/>
          <p:nvPr/>
        </p:nvSpPr>
        <p:spPr>
          <a:xfrm>
            <a:off x="1295280" y="533520"/>
            <a:ext cx="71629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Consejo Técnico y el tratamiento multidisciplinario del conflicto familia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Text Box 4"/>
          <p:cNvSpPr/>
          <p:nvPr/>
        </p:nvSpPr>
        <p:spPr>
          <a:xfrm>
            <a:off x="1066680" y="6858000"/>
            <a:ext cx="8077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Text Box 5"/>
          <p:cNvSpPr/>
          <p:nvPr/>
        </p:nvSpPr>
        <p:spPr>
          <a:xfrm>
            <a:off x="990720" y="2209680"/>
            <a:ext cx="8153280" cy="11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CL" sz="2000" spc="-1" strike="noStrike">
                <a:solidFill>
                  <a:srgbClr val="ffffff"/>
                </a:solidFill>
                <a:latin typeface="Tahoma"/>
              </a:rPr>
              <a:t>Función: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ahoma"/>
              </a:rPr>
              <a:t>Asesorar</a:t>
            </a:r>
            <a:r>
              <a:rPr b="1" lang="es-CL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s-CL" sz="1800" spc="-1" strike="noStrike">
                <a:solidFill>
                  <a:srgbClr val="ffffff"/>
                </a:solidFill>
                <a:latin typeface="Tahoma"/>
              </a:rPr>
              <a:t>individual o colectivamente</a:t>
            </a: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 a los jueces con competencia en asuntos de familia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Text Box 6"/>
          <p:cNvSpPr/>
          <p:nvPr/>
        </p:nvSpPr>
        <p:spPr>
          <a:xfrm>
            <a:off x="914400" y="3657600"/>
            <a:ext cx="8001000" cy="31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CL" sz="2000" spc="-1" strike="noStrike">
                <a:solidFill>
                  <a:srgbClr val="ffffff"/>
                </a:solidFill>
                <a:latin typeface="Tahoma"/>
              </a:rPr>
              <a:t>¿Qué materias?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En el análisis y mayor comprensión de los asuntos sometidos a su conocimiento en el ámbito de su especialidad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En </a:t>
            </a:r>
            <a:r>
              <a:rPr b="1" lang="es-CL" sz="2000" spc="-1" strike="noStrike">
                <a:solidFill>
                  <a:srgbClr val="ffffff"/>
                </a:solidFill>
                <a:latin typeface="Tahoma"/>
              </a:rPr>
              <a:t>cada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 juzgado de familia habrá un consejo técnico interdisciplinario integrado por profesionales especializados en asuntos de familia e infanc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3" name="Picture 7" descr="uchile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71280" y="260280"/>
            <a:ext cx="7543800" cy="6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Juzgados de Familia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066320" y="1484280"/>
            <a:ext cx="754380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Consejos técnicos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 algn="just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Organismo integrado por profesionale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 algn="just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Que asesoran a los juece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 algn="just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Para el análisis y mejor comprensión de los asuntos sometidos a su conocimient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Unidades administrativas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 algn="just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Sal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 algn="just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Atención de público y mediació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 algn="just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Servicio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 algn="just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Administración de causa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 algn="just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Cumplimiento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Picture 4" descr="uchile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1066320" y="167616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El artículo 7 de la Ley Nº 19.968 exige poseer 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título profesional 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de una carrera que tenga 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al menos ocho semestres de duración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, otorgado por alguna universidad o instituto profesional del Estado o reconocido por éste, 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debiendo además acreditarse experiencia profesional y formación especializada en materia de familia e infancia de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, al menos, dos semestres de duración, impartida por 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lguna universidad o instituto de reconocido prestigio que desarrollen docencia, capacitación o investigación en dichas materias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Text Box 3"/>
          <p:cNvSpPr/>
          <p:nvPr/>
        </p:nvSpPr>
        <p:spPr>
          <a:xfrm>
            <a:off x="1066680" y="498600"/>
            <a:ext cx="76964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REQUISITOS PARA SER MIEMBRO DEL CONSEJO TÉCNIC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6" name="Picture 4" descr="uchile"/>
          <p:cNvPicPr/>
          <p:nvPr/>
        </p:nvPicPr>
        <p:blipFill>
          <a:blip r:embed="rId1"/>
          <a:stretch/>
        </p:blipFill>
        <p:spPr>
          <a:xfrm>
            <a:off x="147600" y="155520"/>
            <a:ext cx="60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896400" y="1981080"/>
            <a:ext cx="81709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a)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Asistir a las audiencias de juicio </a:t>
            </a:r>
            <a:r>
              <a:rPr b="1" lang="es-CL" sz="2000" spc="-1" strike="noStrike" u="sng">
                <a:solidFill>
                  <a:srgbClr val="ffffff"/>
                </a:solidFill>
                <a:uFillTx/>
                <a:latin typeface="Arial"/>
              </a:rPr>
              <a:t>a que sean citados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 con el objetivo de emitir las opiniones técnicas que le sean solicitadas (artículo 5 letra a) de la Ley Nº 19.968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b)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Asesorar al juez para la adecuada comparecencia y declaración del niño, niña o adolescente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c)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Evaluar, a requerimiento del juez, la pertinencia de derivar a mediación o aconsejar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conciliación entre las parte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, y sugerir los términos en que esta última pudiere llevarse a cabo (artículo 5 letra c) de la Ley Nº 19.968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) Asesorar al juez, a requerimiento de éste, en la evaluación del riesgo a que se refiere el artículo 7º de la ley </a:t>
            </a:r>
            <a:br>
              <a:rPr sz="2000"/>
            </a:b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Nº 20.066, sobre violencia intrafamilia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)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sesorar al juez en todas las materias relacionadas con su especialidad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1219320" y="609480"/>
            <a:ext cx="32004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Funcion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9" name="Picture 4" descr="uchile"/>
          <p:cNvPicPr/>
          <p:nvPr/>
        </p:nvPicPr>
        <p:blipFill>
          <a:blip r:embed="rId1"/>
          <a:stretch/>
        </p:blipFill>
        <p:spPr>
          <a:xfrm>
            <a:off x="147600" y="7920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1066320" y="205740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1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Si un miembro del Consejo Técnico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no pudiere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intervenir en una determinada causa,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o se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imposibilitare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para el ejercicio de su cargo, será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subrogado por los demás miembro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del Consejo Técnico del tribunal a que perteneciere, según el orden de sus nombramientos y la especialidad requerid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Si todos los miembro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del consejo técnico de un tribunal estuvieren afectados por una implicancia o recusación,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el juez designará un profesional que cumpla con los requisitos para integrar un Consejo Técnico de cualquier servicio público, el que estará obligado a desempeñar el carg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Text Box 3"/>
          <p:cNvSpPr/>
          <p:nvPr/>
        </p:nvSpPr>
        <p:spPr>
          <a:xfrm>
            <a:off x="1143000" y="380880"/>
            <a:ext cx="75438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Normas de implicancia o recusación de miembros del Consejo Técnico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2" name="Picture 4" descr="uchile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1905120" y="3276720"/>
            <a:ext cx="54864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cc"/>
                </a:solidFill>
                <a:latin typeface="Arial"/>
              </a:rPr>
              <a:t>Administrad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4" name="Picture 3" descr="uchile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1371600" y="342864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e elimina el cargo de secretario del tribun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Text Box 3"/>
          <p:cNvSpPr/>
          <p:nvPr/>
        </p:nvSpPr>
        <p:spPr>
          <a:xfrm>
            <a:off x="1143000" y="38088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Cambio Trascendental en la Reforma de los Tribunales de Famil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7" name="Picture 4" descr="uchile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761760" y="182844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n cada tribunal de familia habrá un administrador, auxiliar de la administración de justicia </a:t>
            </a: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encargado de organizar y controlar la gestión administrativa y financiera del tribunal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, de acuerdo a las reglas contempladas en el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árrafo 4 bis de 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os administradores de tribunales con 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</a:rPr>
              <a:t>competencia en lo criminal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”,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del Título XI del Código Orgánico de Tribunales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Text Box 3"/>
          <p:cNvSpPr/>
          <p:nvPr/>
        </p:nvSpPr>
        <p:spPr>
          <a:xfrm>
            <a:off x="1371600" y="66996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l Administrador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0" name="Picture 4" descr="uchile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Funciones: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1066320" y="182844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6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Dirigir las labores administrativas propias del funcionamiento del tribunal, bajo la supervisión del juez presidente del comité de juece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6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 u="sng">
                <a:solidFill>
                  <a:srgbClr val="ffffff"/>
                </a:solidFill>
                <a:uFillTx/>
                <a:latin typeface="Arial"/>
              </a:rPr>
              <a:t>Proponer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al comité de jueces la designación de los jefes de unidades y de los empleados del tribunal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6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 u="sng">
                <a:solidFill>
                  <a:srgbClr val="ffffff"/>
                </a:solidFill>
                <a:uFillTx/>
                <a:latin typeface="Arial"/>
              </a:rPr>
              <a:t>Proponer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al juez presidente la distribución del personal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6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Evaluar al personal a su cargo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6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Distribuir las causas a los jueces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3" name="Picture 1028" descr="uchile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Arial"/>
              </a:rPr>
              <a:t>Funciones (2):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emover a los jefes de unidades y al personal de empleados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levar la contabilidad y administrar la cuenta corriente del tribunal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ar cuenta al juez presidente acerca de la gestión administrativa del tribunal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laborar el presupuesto anual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Adquirir y abastecer de materiales de trabajo al tribunal; y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Ejercer la demás tareas que le hayan sido asignadas por el comité de jueces, el juez presidente o que determinen las leyes.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6" name="Picture 4" descr="uchile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1066320" y="144756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2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eberá sujetarse a las políticas generales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 de selección de personal, de evaluación, de administración de recursos materiales y de personal, de diseño y análisis de la información estadística y demás </a:t>
            </a: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que dicte el Consejo de la Corporación Administrativa del Poder Judicial.</a:t>
            </a:r>
            <a:r>
              <a:rPr b="1" lang="es-MX" sz="32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1600200" y="53352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l Administrad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9" name="Picture 4" descr="uchile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1143000" y="205704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EMPLEADOS DE SECRETARÍ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1" name="Picture 3" descr="uchile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115920"/>
            <a:ext cx="7543800" cy="10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Competencia de los Tribunales de Familia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000080" y="1047600"/>
            <a:ext cx="7610400" cy="509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Art. 8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uidado personal de niños, niñas o adolescent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Régimen relacional directo y regular del padre o madre que no tenga el cuidado del hij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Las causas relativas al ejercicio, suspensión o pérdida de la patria potestad; a la emancipación y a las autorizaciones a que se refieren los Párrafos 2º y 3º del Título X del Libro I del Código Civil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erecho de alimento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isensos para contraer matrimoni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Picture 6" descr="uchile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1066320" y="1828440"/>
            <a:ext cx="75438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2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Los Tribunales de Familia contarán con una planta de empleados de secretarí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2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Se organizarán en </a:t>
            </a: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unidades administrativas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 para el cumplimiento eficaz y eficiente de las siguientes funciones, conforme lo dispone el artículo 2 de la Ley Nº 19.968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3" name="Picture 3" descr="uchile"/>
          <p:cNvPicPr/>
          <p:nvPr/>
        </p:nvPicPr>
        <p:blipFill>
          <a:blip r:embed="rId1"/>
          <a:stretch/>
        </p:blipFill>
        <p:spPr>
          <a:xfrm>
            <a:off x="147600" y="155520"/>
            <a:ext cx="60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5943600" cy="7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FUNCIONES:</a:t>
            </a:r>
            <a:r>
              <a:rPr b="0" lang="es-MX" sz="20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1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928440" y="1499760"/>
            <a:ext cx="79866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just">
              <a:lnSpc>
                <a:spcPct val="1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1º 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Sala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que consistirá en la organización y asistencia a la realización de las audiencia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 algn="just">
              <a:lnSpc>
                <a:spcPct val="1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2º 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Atención de público y mediación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, destinada a otorgar una adecuada atención, orientación e información al público que concurra al juzgado, especialmente a los niños, niñas y adolescentes, a manejar la correspondencia del tribunal y a 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esarrollar las gestiones necesarias para la adecuada y cabal ejecución de las acciones de información y derivación a mediació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 algn="just">
              <a:lnSpc>
                <a:spcPct val="1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 algn="just">
              <a:lnSpc>
                <a:spcPct val="1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6" name="Picture 4" descr="uchile"/>
          <p:cNvPicPr/>
          <p:nvPr/>
        </p:nvPicPr>
        <p:blipFill>
          <a:blip r:embed="rId1"/>
          <a:stretch/>
        </p:blipFill>
        <p:spPr>
          <a:xfrm>
            <a:off x="147600" y="155520"/>
            <a:ext cx="60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3°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Servicios,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que reunirá las labores de soporte técnico de la red computacional del juzgado, de contabilidad y de apoyo a la actividad administrativa, y la coordinación y abastecimiento de todas las necesidades físicas y materiales para la realización de las audiencia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4º 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Administración de causa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, que consistirá en desarrollar toda la labor relativa al manejo de causas y registros de los procesos en el juzgado, incluidas las relativas a las notificaciones; al manejo de las fechas y salas para las audiencias; al archivo judicial básico, al ingreso y al número de rol de las causas nuevas; a la actualización diaria de la base de datos que contengan las causas del juzgado, y a las estadísticas básicas del mism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8" name="Picture 4" descr="uchile"/>
          <p:cNvPicPr/>
          <p:nvPr/>
        </p:nvPicPr>
        <p:blipFill>
          <a:blip r:embed="rId1"/>
          <a:stretch/>
        </p:blipFill>
        <p:spPr>
          <a:xfrm>
            <a:off x="147600" y="155520"/>
            <a:ext cx="60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1"/>
          <p:cNvSpPr/>
          <p:nvPr/>
        </p:nvSpPr>
        <p:spPr>
          <a:xfrm>
            <a:off x="24840" y="9000"/>
            <a:ext cx="8997120" cy="2228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5°. Cumplimiento, que, dada la particular naturaleza de los procedimiento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stablecidos en esta ley, desarrollará las gestiones necesarias para l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decuada y cabal ejecución de las resoluciones judiciales en el ámbito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familiar, particularmente de aquellas que requieren de cumplimiento sostenid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n el tiemp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143000" y="609480"/>
            <a:ext cx="5943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s-CL" sz="4000" spc="-1" strike="noStrike">
                <a:solidFill>
                  <a:srgbClr val="ffff00"/>
                </a:solidFill>
                <a:latin typeface="Tahoma"/>
                <a:ea typeface="Times New Roman"/>
              </a:rPr>
              <a:t> </a:t>
            </a: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837720" y="533160"/>
            <a:ext cx="80010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ITULO VI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ISPOSICIONES VARI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rtículo 129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.-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upresión de Juzgados de Letras de Menore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rtículo 130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.- </a:t>
            </a:r>
            <a:r>
              <a:rPr b="1" lang="es-CL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Supresión de cargos de asistentes sociale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. 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rtículo 131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.-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plicación de procedimiento en Juzgados de Letras con competencia en familia.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Serán aplicables a las causas de competencia de los juzgados de familia que sean conocidas por los juzgados de letras, los procedimientos establecidos en los Títulos III, IV y V de esta ley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rtículo 132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.-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Creación de cargos en Juzgados de Letras.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Créase </a:t>
            </a:r>
            <a:r>
              <a:rPr b="1" lang="es-CL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un cargo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de miembro de consejo técnico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, en cada uno de los siguientes juzgados de letras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2" name="Picture 4" descr="uchile"/>
          <p:cNvPicPr/>
          <p:nvPr/>
        </p:nvPicPr>
        <p:blipFill>
          <a:blip r:embed="rId1"/>
          <a:stretch/>
        </p:blipFill>
        <p:spPr>
          <a:xfrm>
            <a:off x="147600" y="155520"/>
            <a:ext cx="60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Arial"/>
              </a:rPr>
              <a:t>Normas transitorias: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1142640" y="190512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Respecto a c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usas de familia actualmente radicadas ante Juzgados de Menores o de competencia civil,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guirán conociendo hasta su sentencia de término, de conformidad al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procedimiento antiguo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 regula la supresión de los Juzgados de Menores. Ley de emp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me propia. (6 meses, hasta un año adicional y luego el traspaso a tribunal de familia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5" name="Picture 5" descr="uchile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2"/>
          <p:cNvSpPr/>
          <p:nvPr/>
        </p:nvSpPr>
        <p:spPr>
          <a:xfrm>
            <a:off x="727200" y="155520"/>
            <a:ext cx="7543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Procedimient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7" name="Picture 3" descr=""/>
          <p:cNvPicPr/>
          <p:nvPr/>
        </p:nvPicPr>
        <p:blipFill>
          <a:blip r:embed="rId1"/>
          <a:srcRect l="5462" t="0" r="0" b="0"/>
          <a:stretch/>
        </p:blipFill>
        <p:spPr>
          <a:xfrm>
            <a:off x="574560" y="2860560"/>
            <a:ext cx="2109960" cy="1955880"/>
          </a:xfrm>
          <a:prstGeom prst="rect">
            <a:avLst/>
          </a:prstGeom>
          <a:ln w="0">
            <a:noFill/>
          </a:ln>
        </p:spPr>
      </p:pic>
      <p:sp>
        <p:nvSpPr>
          <p:cNvPr id="258" name="Rectangle 4"/>
          <p:cNvSpPr/>
          <p:nvPr/>
        </p:nvSpPr>
        <p:spPr>
          <a:xfrm>
            <a:off x="727200" y="3497400"/>
            <a:ext cx="190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600" spc="-1" strike="noStrike">
                <a:solidFill>
                  <a:srgbClr val="000066"/>
                </a:solidFill>
                <a:latin typeface="Times New Roman"/>
              </a:rPr>
              <a:t>Procedimiento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9" name="Picture 5" descr=""/>
          <p:cNvPicPr/>
          <p:nvPr/>
        </p:nvPicPr>
        <p:blipFill>
          <a:blip r:embed="rId2"/>
          <a:srcRect l="0" t="5237" r="6783" b="0"/>
          <a:stretch/>
        </p:blipFill>
        <p:spPr>
          <a:xfrm>
            <a:off x="3165480" y="1125360"/>
            <a:ext cx="2057400" cy="1219320"/>
          </a:xfrm>
          <a:prstGeom prst="rect">
            <a:avLst/>
          </a:prstGeom>
          <a:ln w="0">
            <a:noFill/>
          </a:ln>
        </p:spPr>
      </p:pic>
      <p:sp>
        <p:nvSpPr>
          <p:cNvPr id="260" name="Text Box 6"/>
          <p:cNvSpPr/>
          <p:nvPr/>
        </p:nvSpPr>
        <p:spPr>
          <a:xfrm>
            <a:off x="3626280" y="1592280"/>
            <a:ext cx="101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600" spc="-1" strike="noStrike">
                <a:solidFill>
                  <a:srgbClr val="000066"/>
                </a:solidFill>
                <a:latin typeface="Times New Roman"/>
              </a:rPr>
              <a:t>Ordinari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1" name="Picture 7" descr=""/>
          <p:cNvPicPr/>
          <p:nvPr/>
        </p:nvPicPr>
        <p:blipFill>
          <a:blip r:embed="rId3"/>
          <a:srcRect l="0" t="5237" r="6783" b="0"/>
          <a:stretch/>
        </p:blipFill>
        <p:spPr>
          <a:xfrm>
            <a:off x="3165480" y="3165480"/>
            <a:ext cx="2057400" cy="121932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8"/>
          <p:cNvSpPr/>
          <p:nvPr/>
        </p:nvSpPr>
        <p:spPr>
          <a:xfrm>
            <a:off x="3507120" y="3557520"/>
            <a:ext cx="106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600" spc="-1" strike="noStrike">
                <a:solidFill>
                  <a:srgbClr val="000066"/>
                </a:solidFill>
                <a:latin typeface="Times New Roman"/>
              </a:rPr>
              <a:t>Especiale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3" name="Picture 9" descr=""/>
          <p:cNvPicPr/>
          <p:nvPr/>
        </p:nvPicPr>
        <p:blipFill>
          <a:blip r:embed="rId4"/>
          <a:srcRect l="0" t="5237" r="6783" b="0"/>
          <a:stretch/>
        </p:blipFill>
        <p:spPr>
          <a:xfrm>
            <a:off x="3165480" y="5305320"/>
            <a:ext cx="2057400" cy="1219320"/>
          </a:xfrm>
          <a:prstGeom prst="rect">
            <a:avLst/>
          </a:prstGeom>
          <a:ln w="0">
            <a:noFill/>
          </a:ln>
        </p:spPr>
      </p:pic>
      <p:sp>
        <p:nvSpPr>
          <p:cNvPr id="264" name="Text Box 10"/>
          <p:cNvSpPr/>
          <p:nvPr/>
        </p:nvSpPr>
        <p:spPr>
          <a:xfrm>
            <a:off x="3537360" y="5583240"/>
            <a:ext cx="106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600" spc="-1" strike="noStrike">
                <a:solidFill>
                  <a:srgbClr val="000066"/>
                </a:solidFill>
                <a:latin typeface="Times New Roman"/>
              </a:rPr>
              <a:t>En Leyes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600" spc="-1" strike="noStrike">
                <a:solidFill>
                  <a:srgbClr val="000066"/>
                </a:solidFill>
                <a:latin typeface="Times New Roman"/>
              </a:rPr>
              <a:t>Especiale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AutoShape 11"/>
          <p:cNvSpPr/>
          <p:nvPr/>
        </p:nvSpPr>
        <p:spPr>
          <a:xfrm rot="1491000">
            <a:off x="2499840" y="5351040"/>
            <a:ext cx="773280" cy="309600"/>
          </a:xfrm>
          <a:prstGeom prst="rightArrow">
            <a:avLst>
              <a:gd name="adj1" fmla="val 50000"/>
              <a:gd name="adj2" fmla="val 62442"/>
            </a:avLst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AutoShape 12"/>
          <p:cNvSpPr/>
          <p:nvPr/>
        </p:nvSpPr>
        <p:spPr>
          <a:xfrm rot="19360200">
            <a:off x="2502000" y="2061720"/>
            <a:ext cx="815760" cy="289080"/>
          </a:xfrm>
          <a:prstGeom prst="rightArrow">
            <a:avLst>
              <a:gd name="adj1" fmla="val 50000"/>
              <a:gd name="adj2" fmla="val 70548"/>
            </a:avLst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AutoShape 13"/>
          <p:cNvSpPr/>
          <p:nvPr/>
        </p:nvSpPr>
        <p:spPr>
          <a:xfrm rot="39000">
            <a:off x="2712600" y="3546000"/>
            <a:ext cx="681120" cy="273240"/>
          </a:xfrm>
          <a:prstGeom prst="rightArrow">
            <a:avLst>
              <a:gd name="adj1" fmla="val 50000"/>
              <a:gd name="adj2" fmla="val 62319"/>
            </a:avLst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AutoShape 15"/>
          <p:cNvSpPr/>
          <p:nvPr/>
        </p:nvSpPr>
        <p:spPr>
          <a:xfrm rot="19171800">
            <a:off x="5195880" y="2708280"/>
            <a:ext cx="816120" cy="289080"/>
          </a:xfrm>
          <a:prstGeom prst="rightArrow">
            <a:avLst>
              <a:gd name="adj1" fmla="val 50000"/>
              <a:gd name="adj2" fmla="val 70579"/>
            </a:avLst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9" name="Picture 16" descr=""/>
          <p:cNvPicPr/>
          <p:nvPr/>
        </p:nvPicPr>
        <p:blipFill>
          <a:blip r:embed="rId5"/>
          <a:srcRect l="0" t="5237" r="6783" b="0"/>
          <a:stretch/>
        </p:blipFill>
        <p:spPr>
          <a:xfrm>
            <a:off x="5572080" y="3071880"/>
            <a:ext cx="3352680" cy="1171440"/>
          </a:xfrm>
          <a:prstGeom prst="rect">
            <a:avLst/>
          </a:prstGeom>
          <a:ln w="0">
            <a:noFill/>
          </a:ln>
        </p:spPr>
      </p:pic>
      <p:sp>
        <p:nvSpPr>
          <p:cNvPr id="270" name="Text Box 17"/>
          <p:cNvSpPr/>
          <p:nvPr/>
        </p:nvSpPr>
        <p:spPr>
          <a:xfrm>
            <a:off x="6019920" y="3429000"/>
            <a:ext cx="2552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a0aff"/>
                </a:solidFill>
                <a:latin typeface="Tahoma"/>
                <a:ea typeface="Tahoma"/>
              </a:rPr>
              <a:t>Procedimiento contravencional</a:t>
            </a:r>
            <a:r>
              <a:rPr b="1" i="1" lang="es-CL" sz="14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1" name="Picture 18" descr=""/>
          <p:cNvPicPr/>
          <p:nvPr/>
        </p:nvPicPr>
        <p:blipFill>
          <a:blip r:embed="rId6"/>
          <a:srcRect l="0" t="5237" r="6783" b="0"/>
          <a:stretch/>
        </p:blipFill>
        <p:spPr>
          <a:xfrm>
            <a:off x="5429160" y="4214880"/>
            <a:ext cx="3353040" cy="995400"/>
          </a:xfrm>
          <a:prstGeom prst="rect">
            <a:avLst/>
          </a:prstGeom>
          <a:ln w="0">
            <a:noFill/>
          </a:ln>
        </p:spPr>
      </p:pic>
      <p:sp>
        <p:nvSpPr>
          <p:cNvPr id="272" name="Text Box 19"/>
          <p:cNvSpPr/>
          <p:nvPr/>
        </p:nvSpPr>
        <p:spPr>
          <a:xfrm>
            <a:off x="6019920" y="4419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66"/>
                </a:solidFill>
                <a:latin typeface="Times New Roman"/>
              </a:rPr>
              <a:t>Asuntos no contenciosos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AutoShape 20"/>
          <p:cNvSpPr/>
          <p:nvPr/>
        </p:nvSpPr>
        <p:spPr>
          <a:xfrm rot="20678400">
            <a:off x="5227200" y="3465000"/>
            <a:ext cx="681120" cy="273240"/>
          </a:xfrm>
          <a:prstGeom prst="rightArrow">
            <a:avLst>
              <a:gd name="adj1" fmla="val 50000"/>
              <a:gd name="adj2" fmla="val 62319"/>
            </a:avLst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AutoShape 21"/>
          <p:cNvSpPr/>
          <p:nvPr/>
        </p:nvSpPr>
        <p:spPr>
          <a:xfrm rot="790800">
            <a:off x="5238360" y="4119120"/>
            <a:ext cx="773280" cy="309600"/>
          </a:xfrm>
          <a:prstGeom prst="rightArrow">
            <a:avLst>
              <a:gd name="adj1" fmla="val 50000"/>
              <a:gd name="adj2" fmla="val 62442"/>
            </a:avLst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5" name="Picture 22" descr=""/>
          <p:cNvPicPr/>
          <p:nvPr/>
        </p:nvPicPr>
        <p:blipFill>
          <a:blip r:embed="rId7"/>
          <a:srcRect l="0" t="5237" r="6783" b="0"/>
          <a:stretch/>
        </p:blipFill>
        <p:spPr>
          <a:xfrm>
            <a:off x="6172200" y="5410080"/>
            <a:ext cx="2427120" cy="1200240"/>
          </a:xfrm>
          <a:prstGeom prst="rect">
            <a:avLst/>
          </a:prstGeom>
          <a:ln w="0">
            <a:noFill/>
          </a:ln>
        </p:spPr>
      </p:pic>
      <p:sp>
        <p:nvSpPr>
          <p:cNvPr id="276" name="Text Box 23"/>
          <p:cNvSpPr/>
          <p:nvPr/>
        </p:nvSpPr>
        <p:spPr>
          <a:xfrm>
            <a:off x="6705720" y="5715000"/>
            <a:ext cx="1522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66"/>
                </a:solidFill>
                <a:latin typeface="Times New Roman"/>
              </a:rPr>
              <a:t>Adopción (Ley 19.620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AutoShape 24"/>
          <p:cNvSpPr/>
          <p:nvPr/>
        </p:nvSpPr>
        <p:spPr>
          <a:xfrm>
            <a:off x="5111640" y="5700600"/>
            <a:ext cx="773280" cy="309600"/>
          </a:xfrm>
          <a:prstGeom prst="rightArrow">
            <a:avLst>
              <a:gd name="adj1" fmla="val 50000"/>
              <a:gd name="adj2" fmla="val 62442"/>
            </a:avLst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Text Box 25"/>
          <p:cNvSpPr/>
          <p:nvPr/>
        </p:nvSpPr>
        <p:spPr>
          <a:xfrm>
            <a:off x="6629400" y="1143000"/>
            <a:ext cx="11430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000066"/>
                </a:solidFill>
                <a:latin typeface="Times New Roman"/>
              </a:rPr>
              <a:t>Separación, nulidad y divorcio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Text Box 26"/>
          <p:cNvSpPr/>
          <p:nvPr/>
        </p:nvSpPr>
        <p:spPr>
          <a:xfrm>
            <a:off x="5943600" y="2084400"/>
            <a:ext cx="27432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66"/>
                </a:solidFill>
                <a:latin typeface="Times New Roman"/>
              </a:rPr>
              <a:t>Medidas de protección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66"/>
                </a:solidFill>
                <a:latin typeface="Times New Roman"/>
              </a:rPr>
              <a:t>de niños, niñas y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66"/>
                </a:solidFill>
                <a:latin typeface="Times New Roman"/>
              </a:rPr>
              <a:t>adolescentes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80" name="Picture 14" descr=""/>
          <p:cNvPicPr/>
          <p:nvPr/>
        </p:nvPicPr>
        <p:blipFill>
          <a:blip r:embed="rId8"/>
          <a:srcRect l="0" t="11156" r="6783" b="0"/>
          <a:stretch/>
        </p:blipFill>
        <p:spPr>
          <a:xfrm>
            <a:off x="5562720" y="2057400"/>
            <a:ext cx="3352680" cy="106668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14" descr=""/>
          <p:cNvPicPr/>
          <p:nvPr/>
        </p:nvPicPr>
        <p:blipFill>
          <a:blip r:embed="rId9"/>
          <a:srcRect l="0" t="11156" r="6783" b="0"/>
          <a:stretch/>
        </p:blipFill>
        <p:spPr>
          <a:xfrm>
            <a:off x="5572080" y="1000080"/>
            <a:ext cx="3352680" cy="1066680"/>
          </a:xfrm>
          <a:prstGeom prst="rect">
            <a:avLst/>
          </a:prstGeom>
          <a:ln w="0">
            <a:noFill/>
          </a:ln>
        </p:spPr>
      </p:pic>
      <p:sp>
        <p:nvSpPr>
          <p:cNvPr id="282" name="29 CuadroTexto"/>
          <p:cNvSpPr/>
          <p:nvPr/>
        </p:nvSpPr>
        <p:spPr>
          <a:xfrm>
            <a:off x="6072120" y="1214280"/>
            <a:ext cx="264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2929ff"/>
                </a:solidFill>
                <a:latin typeface="Tahoma"/>
              </a:rPr>
              <a:t>Medidas de protección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30 CuadroTexto"/>
          <p:cNvSpPr/>
          <p:nvPr/>
        </p:nvSpPr>
        <p:spPr>
          <a:xfrm>
            <a:off x="6143760" y="2286000"/>
            <a:ext cx="235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2929ff"/>
                </a:solidFill>
                <a:latin typeface="Tahoma"/>
              </a:rPr>
              <a:t>Violencia intrafamiliar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1 Rectángulo"/>
          <p:cNvSpPr/>
          <p:nvPr/>
        </p:nvSpPr>
        <p:spPr>
          <a:xfrm>
            <a:off x="428760" y="214200"/>
            <a:ext cx="8501040" cy="141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Las guardas, con excepción de aquellas relativas a pupilos mayores de edad, y aquellas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que digan relación con la curaduría de la herencia yacente, sin perjuicio de lo establecido en el inciso segundo del artículo 494 del Código Civi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Medidas de protección de niños, niñas y adolescent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cciones de filiación y estado civil.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Todos los asuntos en que se impute la comisión de cualquier falta a adolescentes mayores de catorce y menores de dieciséis años de edad, y las que se imputen a adolescentes mayores de dieciséis y menores de dieciocho años, que no se encuentren contempladas en el inciso tercero del artículo 1° de la ley N° 20.084. Tratándose de hechos punibles cometidos por un niño o niña, el juez de familia procederá de acuerdo a lo prescrito en el artículo 102 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9720" y="-1105200"/>
            <a:ext cx="75438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000080" y="528480"/>
            <a:ext cx="7610400" cy="632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6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utorización niños, niñas y adolescentes para salir del paí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6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ausas relativas al maltrato de niños, niñas y adolescent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6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rocedimientos previos a la adopció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6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rocedimiento de adopció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6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paración judicial de bien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6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Las causas sobre declaración y desafectación de bienes familiares y la constitución de derechos de usufructo, uso o habitación sobre los mismos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6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paración, nulidad y divorci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6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ctos de violencia intrafamilia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6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Toda otra materia que la ley les encomiende.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6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6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6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1 Rectángulo"/>
          <p:cNvSpPr/>
          <p:nvPr/>
        </p:nvSpPr>
        <p:spPr>
          <a:xfrm>
            <a:off x="785880" y="285840"/>
            <a:ext cx="8072280" cy="82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Relativo a los procesos matrimoniales. 1. Compensación económica. 2. Liquidación régimen de bienes (227 inciso final COT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Relativo a violencia intrafamiliar. 1. D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sembolsos y perjuicios patrimoniales que se hubieren ocasionado a la víctima con la ejecución del o los actos de actos de violencia intrafamiliar (art. 11 de la LVI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-  R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lativo a trabajo infantil: 1.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Conocer acerca del control de la autorización para trabajar dada por el inspector del trabajo respectivo al adolescente mayor de 15 años y menor de 18 (art. 13.4 del Código del Trabajo). 2. Autorizar para trabajar como actores en ciertos espectáculos a menores de 18 años (art. 15.2 del Código del Trabajo). 3. Dar o denegar la autorización a niños y adolescentes para celebrar contratos de trabajo con personas o entidades dedicadas al teatro, cine, radio, televisión, circo u otras actividades similares en el caso indicado en el art. 16 del Código del Trabaj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- Relativo al derecho de alimentos. 1. Pretensión pauliana especial (art. 5. 7 Ley Nº 14.908)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1 Rectángulo"/>
          <p:cNvSpPr/>
          <p:nvPr/>
        </p:nvSpPr>
        <p:spPr>
          <a:xfrm>
            <a:off x="642960" y="428760"/>
            <a:ext cx="85010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- Cuestiones prejudiciales de familia. 1. Los relativos a la validez del matrimonio. 2. Las cuestiones sobre estado civil cuya resolución deba servir de antecedente necesario para el fallo de la acción penal persecutoria de los delitos de usurpación, ocultación o supresión del estado civil (cfr. arts. 171 y 252, letra a) CPP y 173 COT).         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066320" y="15238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cc"/>
                </a:solidFill>
                <a:latin typeface="Arial"/>
              </a:rPr>
              <a:t>ESTRUCTURA ORGÁNICA DE LOS TRIBUNALES DE FAMIL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Picture 3" descr="uchile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3T18:33:17Z</dcterms:created>
  <dc:creator>INP</dc:creator>
  <dc:description/>
  <dc:language>en-US</dc:language>
  <cp:lastModifiedBy>mauro</cp:lastModifiedBy>
  <dcterms:modified xsi:type="dcterms:W3CDTF">2008-08-22T05:44:56Z</dcterms:modified>
  <cp:revision>91</cp:revision>
  <dc:subject/>
  <dc:title>Diapositiva 1</dc:title>
</cp:coreProperties>
</file>