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5F19-E393-4736-AE76-61BD8AE7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4870-FC2A-4A0D-B926-B450C55F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8BF-74C3-4517-BA4E-A3CC1028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229-FDA3-487D-B48A-3FC9883B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698B-F3E6-4474-BC68-BA69D3CD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5807-66A5-4ADE-9426-93A0751B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FBE0-EB10-4AA5-BDCF-6E9F5424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BBBD-BAA3-4835-B531-62B93072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6B1C-DBF7-4DC0-B0CF-529AD07A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7788-0CFD-4F84-92D2-B2170FEF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3546-AE10-4E8D-BCBF-5A925284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A33-FC43-4DFB-925C-0AC11F03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041F-4943-4F5E-B959-846629CA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E62E-9BEA-4C83-999D-3BD4036D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51FB-5CA2-4F74-8EA0-1895C6D7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8ACF-E617-47E5-820A-BD83C096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0288-4991-4CD7-874E-AB29D099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0969-02B3-4606-94F2-06DA230F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05A-89CD-480A-80A2-DBBE7F30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5DE-E011-47C4-9C3E-A81D4952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152-CF02-461E-BA9D-DC516E1D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3AC-AD39-4C1B-9080-A278126F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6DC-7DA0-4F26-AAE4-F9C2680D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20A9-C8DC-47A3-A22A-78A6C8D6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63E9-F7F9-45F8-B0F8-097E1F61CAB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D45F-4E56-402F-8667-84A87F1D05F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SQUEMA GENERAL DEL DERECHO ADMINISTRATIVO COMO DISCIPLIN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31780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ma de Estad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Administrad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rsona Nat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rsona Juríd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Actividad Administrativ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glament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cret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lt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cesi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citaci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0" y="2420640"/>
            <a:ext cx="403848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JURIDICIDAD 7 LEGALID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ts. 6 y 7 CP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DERECHOS SUBJETIV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t. 19 Nº 26 CP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prio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posterio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7002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LEM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32360" y="1700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INCIP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314172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256536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422100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ESQUEMA GENERAL DEL ACTO ADMINISTRATIVO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“PARTICULARIDADES”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0920" y="1341360"/>
          <a:ext cx="8569080" cy="5448240"/>
        </p:xfrm>
        <a:graphic>
          <a:graphicData uri="http://schemas.openxmlformats.org/drawingml/2006/table">
            <a:tbl>
              <a:tblPr/>
              <a:tblGrid>
                <a:gridCol w="1573200"/>
                <a:gridCol w="2774880"/>
                <a:gridCol w="1628640"/>
                <a:gridCol w="2592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 CIV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ADMINISTR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CIV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ADMINISTR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VOLUNT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s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vidu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be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TEORÍA DEL ÓRGA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VOLUNTAD SIN VIC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PRINCIPIO DE JURIDIC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OBJE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c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hac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D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:          Actividad de  fo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bven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bsidi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don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HACE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: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testad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der – Deb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NO HACE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: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ólo por l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onsabilidad del Est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OBJETO LÍC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PRINCIPIO DE JURIC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CAU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íci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usalis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ticausalis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EL INTERÉS PÚBL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CAUSA LÍCI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PRINCIPIO DE JURIC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50920" y="907920"/>
          <a:ext cx="8569080" cy="395280"/>
        </p:xfrm>
        <a:graphic>
          <a:graphicData uri="http://schemas.openxmlformats.org/drawingml/2006/table">
            <a:tbl>
              <a:tblPr/>
              <a:tblGrid>
                <a:gridCol w="4321080"/>
                <a:gridCol w="4248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ISTE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IDE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3:41:10Z</dcterms:created>
  <dc:creator>Fac. Derecho</dc:creator>
  <dc:description/>
  <dc:language>en-US</dc:language>
  <cp:lastModifiedBy>Fac. Derecho</cp:lastModifiedBy>
  <dcterms:modified xsi:type="dcterms:W3CDTF">2008-08-06T14:32:46Z</dcterms:modified>
  <cp:revision>3</cp:revision>
  <dc:subject/>
  <dc:title>ESQUEMA GENERAL DEL DERECHO ADMINISTRATIVO COMO DISCIPLINA</dc:title>
</cp:coreProperties>
</file>