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F4F-917B-4B0F-A937-2EFA0244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741-E6A3-4487-881A-2A59408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97E-FF88-4B4D-889B-65DC415E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7D2-69F1-46FC-AA5F-C87E1A9A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7D5A-4046-4FEC-832B-B98ACD0F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27E-4C7A-4A8D-9ADF-91CFAF2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619-AEA4-426A-86FD-2ED512ED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20A-0778-4282-9E76-B8105FE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E2F-BFCC-4730-A7CF-AB62CE4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FF98-FF2B-462A-8FE7-44384B5F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4D4-69C1-4A69-9C0D-529C793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B8A-8947-43A9-976B-C24A7991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8D3A-8662-44CC-B42A-CA91DE7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F16-609F-4B06-B543-13FF25F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E6F1-3C0E-4173-A086-9DBDB0F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7DD6-3185-4778-89AC-8F07B44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E2A-7849-4E9B-8A70-354116DD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685-5DB3-46BB-8A15-4BD18111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C75-9C2F-4450-B62C-AEC362A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D34-B793-4C28-9B4C-49D6F21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390-BDD7-4CF5-957A-1E0D390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5E0-D6C0-427D-A0A0-9953F5A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0CB-75FD-46D9-A389-4338C28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8CB-8B42-4AD1-A7FA-3175738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09B4-CB9B-4CB7-9008-F93329409E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68E-A112-4C4C-98AB-0CB014B4F3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QUEMA GENERAL DEL DERECHO ADMINISTRATIVO COMO DISCIPLIN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3178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ma de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Na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Juríd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ctividad Administr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r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l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es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citac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2420640"/>
            <a:ext cx="40384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JURIDICIDAD 7 LEGA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s. 6 y 7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DERECHOS SUBJETIV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. 19 Nº 26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oste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2210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SQUEMA GENERAL DEL ACTO ADMINISTRATIVO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“PARTICULARIDADES”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341360"/>
          <a:ext cx="8569080" cy="5448240"/>
        </p:xfrm>
        <a:graphic>
          <a:graphicData uri="http://schemas.openxmlformats.org/drawingml/2006/table">
            <a:tbl>
              <a:tblPr/>
              <a:tblGrid>
                <a:gridCol w="1573200"/>
                <a:gridCol w="2774880"/>
                <a:gridCol w="1628640"/>
                <a:gridCol w="25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TEORÍA DEL ÓRG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 SIN V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D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D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   Actividad de  fo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sid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don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st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er – De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NO 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ólo por l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abilidad del Est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 LÍC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íci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EL INTERÉS PÚBL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 LÍC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907920"/>
          <a:ext cx="8569080" cy="395280"/>
        </p:xfrm>
        <a:graphic>
          <a:graphicData uri="http://schemas.openxmlformats.org/drawingml/2006/table">
            <a:tbl>
              <a:tblPr/>
              <a:tblGrid>
                <a:gridCol w="432108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ID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1:10Z</dcterms:created>
  <dc:creator>Fac. Derecho</dc:creator>
  <dc:description/>
  <dc:language>en-US</dc:language>
  <cp:lastModifiedBy>Fac. Derecho</cp:lastModifiedBy>
  <dcterms:modified xsi:type="dcterms:W3CDTF">2008-08-06T14:32:46Z</dcterms:modified>
  <cp:revision>3</cp:revision>
  <dc:subject/>
  <dc:title>ESQUEMA GENERAL DEL DERECHO ADMINISTRATIVO COMO DISCIPLINA</dc:title>
</cp:coreProperties>
</file>