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570-CE78-4905-BD44-C2BEAADC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ED9-F67C-4322-A95F-819D348B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A51-8D67-4EC9-8A45-1698F494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1CF-8F75-4BE4-8488-1511ECE0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15C4-319E-483E-9F33-1A97D4D0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755E-3D06-45BA-B1AB-6F01E2B9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ED96-4640-4F15-A5D0-E4E825A9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D402-F57D-4994-BB3E-EB93CC0E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1DCF-5C79-4DB0-9CC1-E75A5E86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F1A7-A7E6-4CCC-8878-6478A351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516F-6E7F-4471-9C13-61BBFA1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15D-266D-48DE-9469-3E140560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BB3B-5D20-4117-9F91-28328AB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24A3-436C-4A4D-8B4D-9FFDDE38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DB40-0A1B-4514-A429-CE51CF05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AF08-DA41-45CC-BFFC-EB7C3F45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D8A3-C68C-496A-9602-B4CDDB8E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036-A040-4AF5-9A70-B3806EB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236-6AFB-4173-8F74-A9A3058C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3C1-0825-4CB0-9D3F-422B821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3B9-09A2-4A55-BA44-9344883B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A4C-6F77-4888-A24F-C5896940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41E-796D-406F-AE33-A1AD5790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F7B-E931-4B03-8704-C08F0A7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8866-892A-4E98-BE89-04B3D73084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99A2-E7FB-4662-9E92-22928AEF4C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SQUEMA GENERAL DEL DERECHO ADMINISTRATIVO COMO DISCIPLIN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3178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ma de Est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Nat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Juríd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ctividad Administrativ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glamen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re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l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ces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citac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0" y="2420640"/>
            <a:ext cx="40384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JURIDICIDAD 7 LEGAL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s. 6 y 7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DERECHOS SUBJETIV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. 19 Nº 26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oste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700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1700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14172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56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422100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SQUEMA GENERAL DEL ACTO ADMINISTRATIVO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“PARTICULARIDADES”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341360"/>
          <a:ext cx="8569080" cy="5448240"/>
        </p:xfrm>
        <a:graphic>
          <a:graphicData uri="http://schemas.openxmlformats.org/drawingml/2006/table">
            <a:tbl>
              <a:tblPr/>
              <a:tblGrid>
                <a:gridCol w="1573200"/>
                <a:gridCol w="2774880"/>
                <a:gridCol w="1628640"/>
                <a:gridCol w="259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vidu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TEORÍA DEL ÓRGA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 SIN V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D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D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   Actividad de  fo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sid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don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est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der – Deb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NO 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ólo por l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onsabilidad del Est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 LÍC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íci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EL INTERÉS PÚBL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 LÍC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920" y="907920"/>
          <a:ext cx="8569080" cy="395280"/>
        </p:xfrm>
        <a:graphic>
          <a:graphicData uri="http://schemas.openxmlformats.org/drawingml/2006/table">
            <a:tbl>
              <a:tblPr/>
              <a:tblGrid>
                <a:gridCol w="4321080"/>
                <a:gridCol w="424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STE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ID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3:41:10Z</dcterms:created>
  <dc:creator>Fac. Derecho</dc:creator>
  <dc:description/>
  <dc:language>en-US</dc:language>
  <cp:lastModifiedBy>Fac. Derecho</cp:lastModifiedBy>
  <dcterms:modified xsi:type="dcterms:W3CDTF">2008-08-06T14:32:46Z</dcterms:modified>
  <cp:revision>3</cp:revision>
  <dc:subject/>
  <dc:title>ESQUEMA GENERAL DEL DERECHO ADMINISTRATIVO COMO DISCIPLINA</dc:title>
</cp:coreProperties>
</file>