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12C-A6D7-4BFC-80B1-B03242D3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259-07D1-4DDD-80E6-D4ACF528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C1C-47FD-4574-82DB-4E00454D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693-18CA-4FAE-BDE1-B725C2D0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7824-1AAF-40E3-A8C0-D0149B7F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F58-1515-47BB-80BB-A6A0823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DD96-AF5F-4BD6-8011-78E6E9EA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7783-5B0D-4963-A508-F4F6590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6702-D8E0-490D-8D40-FB9ACF0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0F0-AB17-45F7-B543-C8B9D22A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D3A-F40A-4883-8401-83582F1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07F-91F5-429C-9AE2-4E9621D5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A3A9-C62A-4EDA-8424-18EE8E6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E1D6-9CBE-4C79-BDE7-DE05A624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563D-EF69-4F08-8FA6-AAEEB75D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C2E2-D33B-4275-9EA7-4527AFDC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E65-B505-46BD-A333-8055F92B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E9C-32E3-4B0F-B4FE-CA1920A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85D-75CB-496A-83A2-1E98FD6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9C6-25D4-4B4F-AB9A-CD06CA7D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AE1-BC29-4BC0-83FB-A2E43395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8FC-3519-441A-B562-5903AA8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E54-3C20-4498-85B6-A2861E3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002-2458-422F-BAE7-2E52CB7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7A5-85F8-468A-A594-E4A1715F74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AFC4-260D-47DB-A654-191404F3E8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QUEMA GENERAL DEL DERECHO ADMINISTRATIVO COMO DISCIPLIN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3178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ma de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Na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Juríd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ctividad Administr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r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l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es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citac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2420640"/>
            <a:ext cx="40384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JURIDICIDAD 7 LEGA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s. 6 y 7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DERECHOS SUBJETIV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. 19 Nº 26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oste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2210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SQUEMA GENERAL DEL ACTO ADMINISTRATIVO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“PARTICULARIDADES”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341360"/>
          <a:ext cx="8569080" cy="5448240"/>
        </p:xfrm>
        <a:graphic>
          <a:graphicData uri="http://schemas.openxmlformats.org/drawingml/2006/table">
            <a:tbl>
              <a:tblPr/>
              <a:tblGrid>
                <a:gridCol w="1573200"/>
                <a:gridCol w="2774880"/>
                <a:gridCol w="1628640"/>
                <a:gridCol w="25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TEORÍA DEL ÓRG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 SIN V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D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D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   Actividad de  fo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sid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don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st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er – De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NO 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ólo por l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abilidad del Est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 LÍC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íci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EL INTERÉS PÚBL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 LÍC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907920"/>
          <a:ext cx="8569080" cy="395280"/>
        </p:xfrm>
        <a:graphic>
          <a:graphicData uri="http://schemas.openxmlformats.org/drawingml/2006/table">
            <a:tbl>
              <a:tblPr/>
              <a:tblGrid>
                <a:gridCol w="432108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ID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1:10Z</dcterms:created>
  <dc:creator>Fac. Derecho</dc:creator>
  <dc:description/>
  <dc:language>en-US</dc:language>
  <cp:lastModifiedBy>Fac. Derecho</cp:lastModifiedBy>
  <dcterms:modified xsi:type="dcterms:W3CDTF">2008-08-06T14:32:46Z</dcterms:modified>
  <cp:revision>3</cp:revision>
  <dc:subject/>
  <dc:title>ESQUEMA GENERAL DEL DERECHO ADMINISTRATIVO COMO DISCIPLINA</dc:title>
</cp:coreProperties>
</file>