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912-CF42-467F-AEB5-2AE32BB6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B2B-3961-4EAD-84F1-1DFA729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8C4-D92B-4195-ADBD-DA9DF627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CE6-8CE5-4B05-83D7-7A984342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F1B-9068-4435-A290-D9607ED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A1AA-35E9-425D-9384-30ABEE1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4F6-C2A2-4D83-929E-22545BFF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AD6-7D84-4CEA-998D-CC240D8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E367-22C4-42C4-9E88-BE2166A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FCB-1AD4-479D-AC7C-8E53CFC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156F-7B3F-495B-947C-4B1CC88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780-8B91-4D8C-8A40-EA64414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7D12-1C27-4DC3-BC40-ECD65D3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5F5B-C76B-48F8-8ABA-8198803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FF82-9F6C-4DD4-B1BF-C3C9667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5636-DC8F-48E6-A365-3AFAD26D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96D-F494-4C1C-AFCD-5604DBD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4DD0-6FD3-4E9C-B6BE-D10E5992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B732-65CB-44F6-9B83-CEEE485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E554-3CE5-4EA8-9DB1-983AF79B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B5CA-A3A7-440C-8F47-739DF46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D40A-24ED-4811-BBD7-C168144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06D-6AF5-48A0-B534-8128716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6739-FAF7-494E-9D50-F68AC27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0A13-2C59-464F-B2E8-1FC97500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916A-2407-4996-B3B0-D8A9BB2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148A-11BF-42EE-84E6-28145D6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A324-80DA-4E77-941B-99DCA315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C22D-920F-4F7A-9BB3-AE2B1174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15D1-9A0B-4BDB-A804-3042406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B1DD-1277-4D91-A66D-58FAA248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0255-AF74-404F-A839-88EE834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03C7-417C-4CE2-ABD8-229F809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613-765B-4066-82EA-2E6FED4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9845-3F84-445F-8504-FAEABF9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DF57-075F-4F1A-A04C-E4EEFB5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CEFA-883E-4937-BB23-9BED7A5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6556-1C3D-438D-939A-860894E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328C-24BC-4F45-A225-A308953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1A4E-2740-4C3B-8710-61DA81C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6B37-5425-4F98-B70C-D53A968E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573B-A84A-4207-A99D-F9FCE274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07FD-33D1-4EA3-BF6A-F4B62E7D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FB11-401E-4005-9740-6664B53E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B1A-39CD-4C78-916C-8420964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63D6-B2DB-4842-B428-256A76C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B6725-FEB8-42F5-8117-CCE259A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AF55-E989-4AE5-9AE8-02DE18B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CD23-3BE1-4296-A1DD-97AC7D16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AF012-ED7A-4B0C-90E8-DFD38802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766D-F915-49A4-8EF0-F0008AE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E017-5A29-4F61-ACDB-81B3810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0F90-3D1A-4D39-B65C-3706179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6872-4D69-49E2-8FC3-D09D82C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2A44-ADD6-4B7A-8AEE-1843136F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CF2-E74D-49BF-ACEB-546CA9AA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25AFB-F722-4EBA-B9E0-CC4330E5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5D29-1007-4919-9BD1-14A761A4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62C9-C521-4145-94D6-9BA4FA8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4D7F7-FFAF-4865-A3C6-AF2C2500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7D1D-0F34-4B2C-BE45-45D2A6B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AAFF-2FA1-4B2A-AFBF-97CDF9BD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525B-D0BC-45E5-836C-ADEC2A39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B2BB-8EE7-4E9B-BF80-99F19E4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BA07-4121-4D08-BFB8-D1113FE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2FF0F-DEC8-4EBA-B4DC-1D82AB2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97A-6783-4223-A3D7-FCE978C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F803-6556-4AA2-B98F-79807B9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8354-7522-495B-94B2-3731F99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B815-D214-4C5E-8758-DC7E3AE6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D3CB-BB61-4413-A7CA-8943BA64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C0BAA-FA5D-433F-9884-F52DE5ED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1E67-CDC6-4EBB-A9CF-0BC1B78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12FB0-0965-49DD-8025-91134D2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980B-DFB7-4599-B8DD-19546A6E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0C2E0-560F-45D0-B66F-90DE592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9376-9BFF-4FE7-A66F-F22720D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F85-338E-4A19-8F9C-106C46F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52C4-0F53-4563-A921-5AD987A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D340-8671-4DDD-B1B8-67DBE6B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85D7B-3AF8-4529-8CAF-628205B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DC9CE-9829-4D00-B9C8-70109007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83A4-BC0D-45A7-9885-DE64F1F9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EBA-71DD-46F9-A952-413FC3A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AB7F-3C74-4F75-BD81-BDC9A5E83E29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6D81-E6F1-43B1-92FE-7DE7E9906F12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3BE-C2C4-4949-B3AB-C6A1B87093B6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6FE-004D-466E-B492-1908ECFCA932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E9A-6DE5-43E7-860E-9F5F08FF0BAC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31C-EB55-4741-82F1-97462F68386F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3B83-9BA4-4588-97FD-9283A532ABB7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72314"/>
                </a:solidFill>
                <a:latin typeface="Gill Sans MT"/>
              </a:rPr>
              <a:t>La relación ley - reglamento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Nace como reacción a legalidad post- revolución france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 Chile tiene una utilización residual a principios del siglo X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CPR de 1980 refuerza P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stablecimiento Dom. Leg. Má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es de b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eación PR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os conflictos PR - LE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egitimidad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¿Debe la administración regular Derecho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Intensidad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i la administración regula derechos ¿Con qué grado de intervención debe hacerl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ntrol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directamente el decreto con la CP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28480" y="1499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absoluta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relativ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gulación es propia del legislador. Art. 19 Nº 21 y 26 CPR. Solo por ley se pueden limitar derech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s leyes de bases no son la regla general. Por tanto debe haber regulación integ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28480" y="571320"/>
            <a:ext cx="750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. El reglamento no puede invadir el ámbito de reserva leg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plicación de Principio de legalidad u jerarquí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del TC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treros camineros I (Rol 146, 1992), Letreros camineros II (Rol 167, 1993), Tarifas de peajes (Rol 183, 1994)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Que si bien, es efectivo que el legislador haciendo uso de su facultad de regular puede establecer limitaciones y restricciones al derecho a desarrollar cualquier actividad económic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sta facultad no le corresponde al administrador 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[…] En otras palabras, el constituyente entrega al legislador y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no al administrador la facultad de disponer cómo deben realizarse las actividades económicas y a qué reglas deben someterse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”. 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(Rol 146, 1992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xisten diversas reservas legales en la CPR. “con arreglo a la ley”, “con sujeción a la ley”, “en conformidad a la ley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naturaleza del reglamen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TC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 de presupuestos (Rol 254, 1997), Acuerdo de complementación económica con Bolivia (Rol 282, 1999), Restricción catalíticos (Rol 325, 2001), et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La diversidad de situaciones que pueden presentarse en la ejecución de la ley de presupuestos imposibilitan una previsión total por parte del legislador. En efecto, lo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Gill Sans MT"/>
              </a:rPr>
              <a:t>complejo y dinámico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 no puede regularse íntegramente con anticipación […] En esta contingenci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l otorgamiento al Ejecutivo de facultades de ejecución resulta inevitable para el buen funcionamiento de la acción estatal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”. (Rol 254, 199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es posible y lícito que el Poder Ejecutivo haga uso de su potestad reglamentaria de ejecución, pormenorizando y particularizando, en los aspectos instrumentales la norma para así hacer posible el mandato legal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 (Rol 325, 2001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uál es el quántum admisible de remisión reglamentar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final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trodu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855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flicto de competencias entre el Poder Legislativo y el Ejecutiv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Legitim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Intens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Contro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iro interpretativo del TC sobre la materia: 1990 – 1996 / 1997 – hasta la actu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finalis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fine el rol del reglamento por su propósito último: desarrollar o complementar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no solo desarrolla y detalla la ley sino que hace todo lo tendiente a llevar adelante su aplica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714240"/>
            <a:ext cx="74991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solo puede desarrollar lo ya legislado. No puede complementar ni innovar en lo ya regula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solo pormenoriza, sin alterar ni complementa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ómo se concilian ambas postura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l complemento indispensable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es una técnica de colaboración. Por tanto el reglamento es una modalidad de hacer cumpli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 la razonabilidad técnic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iterio acuñado por TC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de ejecución y la ley conforman un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solo todo jurídicamente armónico e indisolublemente unidos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tiene que tener razonabilidad técnica o ser coherente con los fines y postulados de la ley.  El reglamento está limitado por le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oría de la intensidad de la reser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penderá primeramente de la intensidad de la reserva legal (mayor o menor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variará conforme varía la reserva legal: es un criterio más flexi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3. El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00120" y="128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la constitucionalidad del decreto sin controlar la ley que lo fundament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s tesis en pug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ampli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El TC debe controlar el decreto si es inconstitucional aunque sea concordante con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Rol TC histór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357200" y="571320"/>
            <a:ext cx="749952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restringida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TC solo puede revisar la constitucionalidad de un decreto si éste se aleja de la ley. Si el decreto sigue la ley el TC no puede revisar su constitucion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Supremacía constitucional supone jerarquía normativ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En definitiva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lación Ley – reglamen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-. Reserva legal relativ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-. Se tiende a la complementación entre ambas normas. Tesis de la razonabilidad téc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-. Tesis de la competencia ampli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ibliograf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3 Marcador de contenido"/>
          <p:cNvSpPr/>
          <p:nvPr/>
        </p:nvSpPr>
        <p:spPr>
          <a:xfrm>
            <a:off x="1214280" y="15001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Tres problemas de la potestad reglamentaria: legitimidad, intensidad y control”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rlos Carm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ey y Reglamento en 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rancisco Zuñ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Gonzalo Garc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Notas sobre el principio de supremacía constitucional y los decretos supremos de ejecución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Mario Verdu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El principio de reserva legal en la doctrina emanada del Tribunal Constitucional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Humberto Nogu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rtículos relacionado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44480" y="1714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32 Nº 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PRE y P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63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Reserva leg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93 Nº 1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 – Art. 94 CPR: T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resupuestos Constitucion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142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Supremacía Constituci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Lega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Jerarqu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ructura normativa unitaria y piramid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1º Constitución Polí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2º L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3º Potestad Reglament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e excluye de reglamentación ciertas materias que no pueden ser normadas por la administración, sino que dada su importancia deben serlo por el legislad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19 Nº 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volución histór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Revolución Francesa – liberalism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Caso Chilen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serva puede ser relativa o absoluta. (nivel de intensid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ominio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25: Dominio legal mín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80: 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 Nº 20: ¿Norma de clausura o numerus apertu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Gill Sans MT"/>
              </a:rPr>
              <a:t>Solo son Materias de ley:  </a:t>
            </a: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Nº20 Toda otra norma de carácter general y obligatoria que estatuya las bases esenciales de un ordenamiento jurídico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Atribución especial que la Constitución o la ley dan, específicamente, a ciertos órganos o autoridades para dictar normas jurídicas generales o especiales” (Carmona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Se expresa a través de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decre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 y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reglamen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agrada en CPR: Art. 32 Nº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ede s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De ejecución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complementa la ley o asegura su ejecu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Autónom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se regula con prescindencia de si existe o no ley que ejecut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33:14Z</dcterms:created>
  <dc:creator>WinuE</dc:creator>
  <dc:description/>
  <dc:language>en-US</dc:language>
  <cp:lastModifiedBy>WinuE</cp:lastModifiedBy>
  <dcterms:modified xsi:type="dcterms:W3CDTF">2008-09-12T18:22:03Z</dcterms:modified>
  <cp:revision>38</cp:revision>
  <dc:subject/>
  <dc:title>S</dc:title>
</cp:coreProperties>
</file>