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8A3-35A0-449E-BF3E-36C4B47D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89D-BE45-4DC4-B019-E9DBFF6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4C9-6DE6-4A53-9695-CC692447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BE7-DFD9-4125-AA0B-245AEFE0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5306-5AC0-4BA3-938C-CD4FE76C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82B0-002A-4EBD-A788-42AC0B20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CB15-727E-4810-B550-91AEBC2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D8F2-E3DF-4B79-912B-AA1B009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0C9-E89B-4D3B-946D-9B8E0BB6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75AC-9404-4F16-83EC-B6F3CC6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AD5-743E-4A95-B91D-FF46EBB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7C4-2284-4231-9FBD-4997A4BC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1568-CB0F-4945-B574-F1CE224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BC8A-4B00-466D-810A-56E10DB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4EA3-4B55-4BC7-92FB-F77995F7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DEF1-3377-4E09-AF3C-80A39104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A50-D8C2-4B13-AA24-37B63A0C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AE94-0BEE-49BB-8890-62E51988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9D88-CC1E-4878-9796-909A999D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695D-6B44-4ED7-BFB9-76A5B9BE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0CC4-7E85-41F2-B332-186AA6D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73AF4-7A4B-4E28-A3CD-1BC7FC9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7A0-3CCA-4D7F-8ADF-C608CD1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A46A-89CD-4578-9EF8-0F4B2B5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1C42-D5A1-4D35-A0F2-492B939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8A80-0C1C-435D-8993-4CAECF8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54BE-17A1-497A-867F-F9B903B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D42B-6CA0-441C-85FC-0B8183E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6BFE-753F-42CC-B6B9-6ECE6937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31AE-B718-43C7-AC45-410C2E9B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A2BF-BB93-4A25-9C43-2278C111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D372-1BCE-45C0-ADED-B7712BFB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467E-CCAE-4C6A-AA82-A91B7F4D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922-F782-4997-A287-412C3386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7E93-918D-46AB-831D-DC4AAE07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DAED-382A-4B3D-95A0-C3252E3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A35A-F289-40CC-BA33-15DA21C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2951-0081-4569-8F68-D0B9889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1655-8B14-4E20-A5C4-5BDB7AB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311F-28E2-4C90-A138-E88C1F9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7882-ADFF-4085-AE61-ED146C3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A621-A0A5-4216-A746-E37B593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F773-4283-424B-BA99-5AEAB66E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363E-194A-48A4-9662-35766445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55E-67F6-4C25-AC62-5F031837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74AB-ABC5-4C57-A758-500A5F42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1689-DFA8-4D00-9F3C-F65BAEB3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A0FB0-AC93-419E-BC72-611598C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F798-63EA-441B-8496-1BC87C60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7916-281E-498A-B0B6-2292DBE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AFF4A-99AA-470F-8AE3-392E745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01FD-6D95-40E2-B8E7-98378A1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9210C-5C69-42D2-83BB-980FF5E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9AFE-3711-47D8-B9AD-C834972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3036-D7BD-4023-8F81-04922366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3A1-89BE-43DC-8FFB-8666BCB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0F62-30E6-4434-AFBD-9394493E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E5C1-295C-4201-AE7C-8A9860D4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8A50-0263-48CB-8658-8419ACE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2725-4C35-48A8-8566-00DF490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C82C-10E8-4916-A657-7FE5DC8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9559-C24F-43A3-9EE0-6BBB8CA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57061-135F-4492-8C63-8E5EA786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4302-8CF7-4166-B212-8BA004F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6D84-ADF4-45B0-946D-3560F87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D6C0-E92F-47DD-9607-1A244995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B41-3399-497B-8257-D06F71B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7BF0-4094-435C-928F-DD756BF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B106-CE05-431B-B4DE-B617EBBC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FA704-C78E-4626-97AC-91613BBC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CEB6-0567-43CF-9F3F-867F3043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6EBD-0A32-4652-91B9-04E9A6C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FFC2-41F7-4015-82C6-5192B725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B80E-B667-4E1F-AF34-93820F85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D61B-C42A-46B5-A179-5B16890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C71D-06DE-4925-82D0-33871E51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BF76-021B-4FCF-A806-5A2C34D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5CD-15BB-4CA1-A91F-0AF13236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3568C-4C9B-4A91-ACDE-F2F38E0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572A-0A8A-46D8-B4EB-484920E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5DEB5-C6A5-4BAA-AA42-EFEDB66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5BE0-1FF2-48F6-B8A7-91099836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D3FE2-34F2-4982-B42F-5B64B684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61E-F4CB-435F-A303-36B20B3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0A0-B6DD-49C3-BFA3-0F4459371230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ECE-03DF-4CD9-B9DC-75CBEBC66CA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115-478E-42F3-933D-7F02E4B74767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B1BF-77EA-4E3E-92E2-7BA2B67E2C4F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6C48-D135-43C8-8B91-C8AB290C5DBB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02C-9395-4B8A-93A1-B44C0D3909AE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6C2B-F822-4754-9668-14783F9B6178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72314"/>
                </a:solidFill>
                <a:latin typeface="Gill Sans MT"/>
              </a:rPr>
              <a:t>La relación ley - reglamento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Nace como reacción a legalidad post- revolución france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 Chile tiene una utilización residual a principios del siglo X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CPR de 1980 refuerza P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stablecimiento Dom. Leg. Má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es de b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eación PR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os conflictos PR - LE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egitimidad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¿Debe la administración regular Derecho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Intensidad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i la administración regula derechos ¿Con qué grado de intervención debe hacerl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ntrol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directamente el decreto con la CP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28480" y="1499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absoluta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relativ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gulación es propia del legislador. Art. 19 Nº 21 y 26 CPR. Solo por ley se pueden limitar derech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s leyes de bases no son la regla general. Por tanto debe haber regulación integ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28480" y="571320"/>
            <a:ext cx="750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. El reglamento no puede invadir el ámbito de reserva leg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plicación de Principio de legalidad u jerarquí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del TC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treros camineros I (Rol 146, 1992), Letreros camineros II (Rol 167, 1993), Tarifas de peajes (Rol 183, 1994)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Que si bien, es efectivo que el legislador haciendo uso de su facultad de regular puede establecer limitaciones y restricciones al derecho a desarrollar cualquier actividad económic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sta facultad no le corresponde al administrador 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[…] En otras palabras, el constituyente entrega al legislador y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no al administrador la facultad de disponer cómo deben realizarse las actividades económicas y a qué reglas deben someterse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”. 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(Rol 146, 1992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xisten diversas reservas legales en la CPR. “con arreglo a la ley”, “con sujeción a la ley”, “en conformidad a la ley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naturaleza del reglamen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TC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 de presupuestos (Rol 254, 1997), Acuerdo de complementación económica con Bolivia (Rol 282, 1999), Restricción catalíticos (Rol 325, 2001), et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La diversidad de situaciones que pueden presentarse en la ejecución de la ley de presupuestos imposibilitan una previsión total por parte del legislador. En efecto, lo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Gill Sans MT"/>
              </a:rPr>
              <a:t>complejo y dinámico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 no puede regularse íntegramente con anticipación […] En esta contingenci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l otorgamiento al Ejecutivo de facultades de ejecución resulta inevitable para el buen funcionamiento de la acción estatal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”. (Rol 254, 199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es posible y lícito que el Poder Ejecutivo haga uso de su potestad reglamentaria de ejecución, pormenorizando y particularizando, en los aspectos instrumentales la norma para así hacer posible el mandato legal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 (Rol 325, 2001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uál es el quántum admisible de remisión reglamentar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final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trodu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855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flicto de competencias entre el Poder Legislativo y el Ejecutiv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Legitim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Intens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Contro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iro interpretativo del TC sobre la materia: 1990 – 1996 / 1997 – hasta la actu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finalis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fine el rol del reglamento por su propósito último: desarrollar o complementar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no solo desarrolla y detalla la ley sino que hace todo lo tendiente a llevar adelante su aplica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714240"/>
            <a:ext cx="74991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solo puede desarrollar lo ya legislado. No puede complementar ni innovar en lo ya regula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solo pormenoriza, sin alterar ni complementa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ómo se concilian ambas postura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l complemento indispensable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es una técnica de colaboración. Por tanto el reglamento es una modalidad de hacer cumpli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 la razonabilidad técnic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iterio acuñado por TC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de ejecución y la ley conforman un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solo todo jurídicamente armónico e indisolublemente unidos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tiene que tener razonabilidad técnica o ser coherente con los fines y postulados de la ley.  El reglamento está limitado por le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oría de la intensidad de la reser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penderá primeramente de la intensidad de la reserva legal (mayor o menor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variará conforme varía la reserva legal: es un criterio más flexi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3. El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00120" y="128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la constitucionalidad del decreto sin controlar la ley que lo fundament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s tesis en pug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ampli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El TC debe controlar el decreto si es inconstitucional aunque sea concordante con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Rol TC histór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357200" y="571320"/>
            <a:ext cx="749952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restringida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TC solo puede revisar la constitucionalidad de un decreto si éste se aleja de la ley. Si el decreto sigue la ley el TC no puede revisar su constitucion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Supremacía constitucional supone jerarquía normativ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En definitiva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lación Ley – reglamen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-. Reserva legal relativ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-. Se tiende a la complementación entre ambas normas. Tesis de la razonabilidad téc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-. Tesis de la competencia ampli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ibliograf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3 Marcador de contenido"/>
          <p:cNvSpPr/>
          <p:nvPr/>
        </p:nvSpPr>
        <p:spPr>
          <a:xfrm>
            <a:off x="1214280" y="15001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Tres problemas de la potestad reglamentaria: legitimidad, intensidad y control”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rlos Carm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ey y Reglamento en 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rancisco Zuñ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Gonzalo Garc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Notas sobre el principio de supremacía constitucional y los decretos supremos de ejecución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Mario Verdu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El principio de reserva legal en la doctrina emanada del Tribunal Constitucional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Humberto Nogu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rtículos relacionado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44480" y="1714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32 Nº 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PRE y P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63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Reserva leg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93 Nº 1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 – Art. 94 CPR: T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resupuestos Constitucion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142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Supremacía Constituci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Lega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Jerarqu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ructura normativa unitaria y piramid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1º Constitución Polí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2º L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3º Potestad Reglament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e excluye de reglamentación ciertas materias que no pueden ser normadas por la administración, sino que dada su importancia deben serlo por el legislad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19 Nº 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volución histór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Revolución Francesa – liberalism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Caso Chilen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serva puede ser relativa o absoluta. (nivel de intensid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ominio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25: Dominio legal mín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80: 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 Nº 20: ¿Norma de clausura o numerus apertu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Gill Sans MT"/>
              </a:rPr>
              <a:t>Solo son Materias de ley:  </a:t>
            </a: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Nº20 Toda otra norma de carácter general y obligatoria que estatuya las bases esenciales de un ordenamiento jurídico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Atribución especial que la Constitución o la ley dan, específicamente, a ciertos órganos o autoridades para dictar normas jurídicas generales o especiales” (Carmona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Se expresa a través de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decre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 y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reglamen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agrada en CPR: Art. 32 Nº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ede s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De ejecución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complementa la ley o asegura su ejecu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Autónom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se regula con prescindencia de si existe o no ley que ejecut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33:14Z</dcterms:created>
  <dc:creator>WinuE</dc:creator>
  <dc:description/>
  <dc:language>en-US</dc:language>
  <cp:lastModifiedBy>WinuE</cp:lastModifiedBy>
  <dcterms:modified xsi:type="dcterms:W3CDTF">2008-09-12T18:22:03Z</dcterms:modified>
  <cp:revision>38</cp:revision>
  <dc:subject/>
  <dc:title>S</dc:title>
</cp:coreProperties>
</file>