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8F2-BE39-490C-BF47-E4272F21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27B-5C90-4553-89D5-AD2F32FB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76C-CB6A-4B95-8742-1BCCCDB8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6F7-2839-4480-93EF-DB2F3A1C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78EA-4C2F-4026-8FEC-1D8B01F5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2A4F-C0DA-477C-9368-FFADAF9F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171C-F602-4A54-BB6C-541491D5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2717-13ED-4AFB-A523-679E861F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470A-BC61-40B9-96CE-C86D28ED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7749-A650-4BC6-98B0-6E14D435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C13A-95C9-459A-977B-84A42569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9D0-ABBF-4655-AF6E-C17BC146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62B5-D73A-4A39-B5EB-CEF1070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5B57-B062-48E3-8568-1467B71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6B69-FCFA-4757-BBE0-1F37656B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4BE0-1327-4E17-B043-52FF033E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6750-B0AD-4E62-878E-58F9C64B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8CE8-D3E0-40C1-A139-590B7718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F965-E59E-45DF-B945-9313EFEB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1CD0-21C1-4411-9112-9C5E5B1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29D3-21F8-42F6-B88D-194F65B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7A15-9645-4A74-B4B6-FC95F03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A80-0A3B-4185-B319-5669FBC2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E8DB-AF68-4E4E-A2D0-2CF22443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BC4E-EF53-4ED9-95CB-40D7E52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EBC35-5D61-4003-A95E-4FBFAA7A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8272-3DF3-4512-89A8-84F41B11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AF94-AE03-4B3D-8D58-6D60CA90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C579-41FE-4F18-9F38-1ACCE0A0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E5C1-97FE-475D-A5F3-7618D5B1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7CC6-CF1F-4E72-92D8-D234F3CA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946B7-3B1B-40EC-BDD1-9E899671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653AA-8AFC-4445-9804-AE9DF067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4A1-2A4D-4837-9C98-150B8E20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3A074-D687-415E-893F-679F2083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CD4C-4092-4519-9567-65A80C71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3731-57E5-424F-A18D-CCCA7DCD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4B3B6-126B-4910-842B-179F85DE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1B332-8E39-4D87-92A3-20CB1A54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97B1-2149-405F-8944-4C50E967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5961-3B54-4742-B786-92F15EC3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2D7D-EC5D-4ED3-B077-23E25123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5ECB-E4A2-449F-9BAD-0596F3E4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0C8CB-894C-4EE2-8347-FF6F9C02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9F3-D37F-4DF7-8D0B-6E688CF4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7BE6B-046E-4A24-B213-CE58C8FE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19113-3024-4D58-88A9-B9AD02D6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6C5DC-9F20-4AB0-8F36-29C3D4DB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1D65-49FF-4FC1-B357-D06515C6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5568-593D-4EEE-BE49-C1F7EC8A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6B9FD-8E1B-4731-A4B9-B7F1160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9EDB2-96FA-418D-83DD-40FEF84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B00A-9B91-489E-85FB-4A29922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56E0-A2CD-4829-A9D9-D4E51E0B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F84A3-B592-4929-8682-81364DF8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803-C2E5-446B-91E5-9F4D91C7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4D7B-75C6-4E8B-927F-89F084A9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4043-3993-4C0E-99D2-3629256F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7E642-9CD8-4B5A-B4C6-AEF68F64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035A-6B26-4085-A3C2-A4FF3039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038A5-682B-4709-9698-A9E732D1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5C1C5-8267-4530-AE32-1B27D3EE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566EB-B589-464E-99BD-918A8C01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2F721-4653-432A-A5F4-B6E976E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910D3-0FD8-4303-8BC9-2621DB1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DCBF2-7BBB-4643-BB9C-BD46A93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A9C-6A17-40B5-9AFD-C89BE75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12B91-DB84-47B4-ADC4-DB7F8638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E1788-2C84-4C82-A6BC-6EA94192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6F83E-5685-4EDF-B51A-8A2F43A4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4672C-A6EF-49BD-8DFB-2538A615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D954A-4CF8-432E-9BD5-3139B6A1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2AC1-86C5-448C-948A-B59357C8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9D0B4-4F4B-4CB0-AA25-A4EB15CE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9672-84FA-46F2-A0B7-11DEADC9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D5546-8007-4095-9CA1-CF73F072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3A801-0454-43EB-8803-A55D275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FC3-D8A1-4697-B7CC-149C0E48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18A07-0DE1-4D6C-B302-CB7944F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02CCC-B716-4470-8EC9-9509120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24783-E1E2-410D-B3F6-0A10CEE5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D0C3E-5652-485A-A051-ED0C3427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367E-7236-453A-8AB5-44BFD47C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218-F292-45B2-8253-901E7E8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AA13-45E4-4E91-AD70-8628534AB5F3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C918-3A02-4EE2-B5F6-D73DFB50BADF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C4CD-C3EF-4FC3-B525-6B70A0D51EC0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3C3E-CBE6-4D90-AEC9-19216C0E4560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2F6E-6156-47D6-B059-9A1199DC75D7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47B0-7C2D-4033-88BE-7AB028BE2FBD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3C8A-2151-44C8-8A22-7B7A6588335E}" type="slidenum">
              <a:rPr b="0" lang="es-ES_trad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7200" y="2428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72314"/>
                </a:solidFill>
                <a:latin typeface="Gill Sans MT"/>
              </a:rPr>
              <a:t>La relación ley - reglamento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Nace como reacción a legalidad post- revolución frances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 Chile tiene una utilización residual a principios del siglo X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CPR de 1980 refuerza P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stablecimiento Dom. Leg. Máx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yes de b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reación PR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os conflictos PR - LE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egitimidad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¿Debe la administración regular Derecho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Intensidad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i la administración regula derechos ¿Con qué grado de intervención debe hacerl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ntrol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Puede el TC controlar directamente el decreto con la CP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2854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1. 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28480" y="14997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Postura de la reserva legal absoluta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Postura de la reserva legal relativ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stura de la reserva legal absolu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regulación es propia del legislador. Art. 19 Nº 21 y 26 CPR. Solo por ley se pueden limitar derecho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s leyes de bases no son la regla general. Por tanto debe haber regulación integr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28480" y="571320"/>
            <a:ext cx="750564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3. El reglamento no puede invadir el ámbito de reserva leg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plicación de Principio de legalidad u jerarquí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Jurisprudencia del TC Reserva legal absolu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treros camineros I (Rol 146, 1992), Letreros camineros II (Rol 167, 1993), Tarifas de peajes (Rol 183, 1994),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Que si bien, es efectivo que el legislador haciendo uso de su facultad de regular puede establecer limitaciones y restricciones al derecho a desarrollar cualquier actividad económica,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esta facultad no le corresponde al administrador 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[…] En otras palabras, el constituyente entrega al legislador y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no al administrador la facultad de disponer cómo deben realizarse las actividades económicas y a qué reglas deben someterse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”. 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(Rol 146, 1992)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1. La legitim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stura de la reserva legal relati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ominio legal máx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xisten diversas reservas legales en la CPR. “con arreglo a la ley”, “con sujeción a la ley”, “en conformidad a la ley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naturaleza del reglamen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428760"/>
            <a:ext cx="74995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Jurisprudencia TC Reserva legal relati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ey de presupuestos (Rol 254, 1997), Acuerdo de complementación económica con Bolivia (Rol 282, 1999), Restricción catalíticos (Rol 325, 2001), etc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La diversidad de situaciones que pueden presentarse en la ejecución de la ley de presupuestos imposibilitan una previsión total por parte del legislador. En efecto, lo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Gill Sans MT"/>
              </a:rPr>
              <a:t>complejo y dinámico</a:t>
            </a:r>
            <a:r>
              <a:rPr b="0" i="1" lang="es-ES_tradnl" sz="2000" spc="-1" strike="noStrike">
                <a:solidFill>
                  <a:srgbClr val="000000"/>
                </a:solidFill>
                <a:latin typeface="Gill Sans MT"/>
              </a:rPr>
              <a:t> no puede regularse íntegramente con anticipación […] En esta contingencia, </a:t>
            </a:r>
            <a:r>
              <a:rPr b="1" i="1" lang="es-ES_tradnl" sz="2000" spc="-1" strike="noStrike">
                <a:solidFill>
                  <a:srgbClr val="000000"/>
                </a:solidFill>
                <a:latin typeface="Gill Sans MT"/>
              </a:rPr>
              <a:t>el otorgamiento al Ejecutivo de facultades de ejecución resulta inevitable para el buen funcionamiento de la acción estatal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”. (Rol 254, 1997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 “</a:t>
            </a:r>
            <a:r>
              <a:rPr b="0" i="1" lang="es-ES_tradnl" sz="3200" spc="-1" strike="noStrike">
                <a:solidFill>
                  <a:srgbClr val="000000"/>
                </a:solidFill>
                <a:latin typeface="Gill Sans MT"/>
              </a:rPr>
              <a:t>es posible y lícito que el Poder Ejecutivo haga uso de su potestad reglamentaria de ejecución, pormenorizando y particularizando, en los aspectos instrumentales la norma para así hacer posible el mandato legal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” (Rol 325, 2001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2. La intens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Cuál es el quántum admisible de remisión reglamentari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tesis finali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tesis del parámetro estric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Introduc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85560" y="1428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flicto de competencias entre el Poder Legislativo y el Ejecutiv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Legitim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Intens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Contro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iro interpretativo del TC sobre la materia: 1990 – 1996 / 1997 – hasta la actual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sis finalist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efine el rol del reglamento por su propósito último: desarrollar o complementar la le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or tanto, el reglamento no solo desarrolla y detalla la ley sino que hace todo lo tendiente a llevar adelante su aplicació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28480" y="714240"/>
            <a:ext cx="749916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sis del parámetro estricto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solo puede desarrollar lo ya legislado. No puede complementar ni innovar en lo ya regulad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or tanto, el reglamento solo pormenoriza, sin alterar ni complementar la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2. La intensid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Cómo se concilian ambas postura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Teoría del complemento indispensable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testad reglamentaria es una técnica de colaboración. Por tanto el reglamento es una modalidad de hacer cumplir la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571320"/>
            <a:ext cx="749952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Teoría de la razonabilidad técnic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riterio acuñado por TC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de ejecución y la ley conforman un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solo todo jurídicamente armónico e indisolublemente unidos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reglamento tiene que tener razonabilidad técnica o ser coherente con los fines y postulados de la ley.  El reglamento está limitado por le l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34960" y="356760"/>
            <a:ext cx="749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La teoría de la intensidad de la reserv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ependerá primeramente de la intensidad de la reserva legal (mayor o menor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potestad reglamentaria variará conforme varía la reserva legal: es un criterio más flexi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3. El contro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00120" y="1285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¿Puede el TC controlar la constitucionalidad del decreto sin controlar la ley que lo fundament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Dos tesis en pug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mpetencia ampli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El TC debe controlar el decreto si es inconstitucional aunque sea concordante con la le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Rol TC históric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357200" y="571320"/>
            <a:ext cx="749952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Competencia restringida: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l TC solo puede revisar la constitucionalidad de un decreto si éste se aleja de la ley. Si el decreto sigue la ley el TC no puede revisar su constitucionalid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- Supremacía constitucional supone jerarquía normativ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En definitiva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848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Relación Ley – reglamen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1-. Reserva legal relativ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-. Se tiende a la complementación entre ambas normas. Tesis de la razonabilidad técnic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3-. Tesis de la competencia ampli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Bibliografí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3 Marcador de contenido"/>
          <p:cNvSpPr/>
          <p:nvPr/>
        </p:nvSpPr>
        <p:spPr>
          <a:xfrm>
            <a:off x="1214280" y="15001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Tres problemas de la potestad reglamentaria: legitimidad, intensidad y control”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rlos Carm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Ley y Reglamento en la Jurisprudencia del Tribunal Constitucional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Francisco Zuñi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La Jurisprudencia del Tribunal Constitucional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Gonzalo Garc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Notas sobre el principio de supremacía constitucional y los decretos supremos de ejecución.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Mario Verdu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El principio de reserva legal en la doctrina emanada del Tribunal Constitucional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. Humberto Nogue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rtículos relacionados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44480" y="1714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32 Nº 6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: PRE y P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63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: Reserva leg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</a:t>
            </a: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93 Nº 16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PR – Art. 94 CPR: T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572314"/>
                </a:solidFill>
                <a:latin typeface="Gill Sans MT"/>
              </a:rPr>
              <a:t>Presupuestos Constituciona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142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Supremacía Constitucion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Legal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incipio de Jerarquí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ructura normativa unitaria y piramid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1º Constitución Políti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2º Le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3º Potestad Reglamentar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reserva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e excluye de reglamentación ciertas materias que no pueden ser normadas por la administración, sino que dada su importancia deben serlo por el legislad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19 Nº 2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6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reserva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volución históric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- Revolución Francesa – liberalism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- Caso Chilen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La reserva puede ser relativa o absoluta. (nivel de intensida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Dominio leg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titución de 1925: Dominio legal mín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titución de 1980: Dominio legal máxim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Art. 63 Nº 20: ¿Norma de clausura o numerus apertu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Gill Sans MT"/>
              </a:rPr>
              <a:t>Solo son Materias de ley:  </a:t>
            </a:r>
            <a:r>
              <a:rPr b="1" i="1" lang="es-ES_tradnl" sz="1800" spc="-1" strike="noStrike">
                <a:solidFill>
                  <a:srgbClr val="000000"/>
                </a:solidFill>
                <a:latin typeface="Gill Sans MT"/>
              </a:rPr>
              <a:t>Nº20 Toda otra norma de carácter general y obligatoria que estatuya las bases esenciales de un ordenamiento jurídico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s-ES_tradnl" sz="3600" spc="-1" strike="noStrike">
                <a:solidFill>
                  <a:srgbClr val="000000"/>
                </a:solidFill>
                <a:latin typeface="Gill Sans MT"/>
              </a:rPr>
              <a:t>Atribución especial que la Constitución o la ley dan, específicamente, a ciertos órganos o autoridades para dictar normas jurídicas generales o especiales” (Carmona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Se expresa a través de </a:t>
            </a:r>
            <a:r>
              <a:rPr b="1" lang="es-ES_tradnl" sz="3600" spc="-1" strike="noStrike">
                <a:solidFill>
                  <a:srgbClr val="000000"/>
                </a:solidFill>
                <a:latin typeface="Gill Sans MT"/>
              </a:rPr>
              <a:t>decretos</a:t>
            </a: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 y </a:t>
            </a:r>
            <a:r>
              <a:rPr b="1" lang="es-ES_tradnl" sz="3600" spc="-1" strike="noStrike">
                <a:solidFill>
                  <a:srgbClr val="000000"/>
                </a:solidFill>
                <a:latin typeface="Gill Sans MT"/>
              </a:rPr>
              <a:t>reglamentos</a:t>
            </a:r>
            <a:r>
              <a:rPr b="0" lang="es-ES_tradnl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La potestad reglamentar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Consagrada en CPR: Art. 32 Nº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Puede s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De ejecución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complementa la ley o asegura su ejecució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Gill Sans MT"/>
              </a:rPr>
              <a:t>Autónoma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: se regula con prescindencia de si existe o no ley que ejecuta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2:33:14Z</dcterms:created>
  <dc:creator>WinuE</dc:creator>
  <dc:description/>
  <dc:language>en-US</dc:language>
  <cp:lastModifiedBy>WinuE</cp:lastModifiedBy>
  <dcterms:modified xsi:type="dcterms:W3CDTF">2008-09-12T18:22:03Z</dcterms:modified>
  <cp:revision>38</cp:revision>
  <dc:subject/>
  <dc:title>S</dc:title>
</cp:coreProperties>
</file>