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2EF-05C5-4F99-9BD8-0F874526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02A-6A1F-458C-9EBA-D001673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C9F-FD0C-4A0A-B950-2DFCA536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A89-91D9-4D5A-8624-410B272E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12CE-9193-4DF6-8168-52FF3FE8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EF6C-ACC7-4807-B38A-28F58BD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D81B-8322-4FA3-926A-52F9053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8073-BED9-4CAF-8FEC-3F654CDA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D795-78D3-4247-9186-B45E90B8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956-7477-4ED7-BC84-3E79650D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74B0-1CD2-42D4-B73D-916D8C62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4D7-6A62-49D5-971B-88775BCC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DFAA-A588-4E3C-BF26-C7ED6A5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E13E-3889-4A8F-8E53-87CC22D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D469-6D29-4E8F-A379-473606FE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4A4D-9C42-4499-A9E7-6B5296FB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38C8-25BF-4F53-A3B3-32EEF96D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C206-613B-4EC4-98EB-0F58E471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779A-3BEB-4853-A575-2A8DD19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360F-C0B6-4C61-8596-4C63CB6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431C-EC59-4463-98C8-510CCE27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ED7D-7C85-4DC1-892D-C49C56E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F74-8E16-4264-8C4C-FFE092C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20B7-3F6D-435C-B71B-C5235D97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D759-8D27-4BDB-A689-D431398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77E0-042C-42BB-A548-05E40E9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75C8-4A45-44B3-9362-2729B52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E29F-CC94-4282-B736-4445144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B3F7-B129-4D25-962F-8BCE3BD6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12D3-B225-473A-943A-4EB717A4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9168-AC98-4713-ADC2-9947F35E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1541-D5B6-463E-AB05-3DF6D5FB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F14B-BC92-4C95-8B1C-22D5DF51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C14-6A17-4132-8233-C2367EB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F4B2-B4FF-44E5-9A30-05A0B11B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6AC3-F4A3-478A-A6F6-6AAEAC85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66AB-895C-4DC0-97DB-9E9DB6B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5216-E8F7-40C2-8103-CF5C9C21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E90E-C2B7-4246-97BC-E3616EF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6A24-CD50-4912-B078-8C41C8F0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A9E5-0F30-4C4F-B3AA-EEC65B0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ED40-92AA-492D-955B-384A03B9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897B-B4F1-4E3C-A1B2-363353C4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3629-6437-4AA1-9DD5-1BF0E608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46A-33DC-4F19-8C24-6CC6305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61367-A249-4AFE-9C9C-95594E2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0AFF1-7E1A-463B-BEBC-E5765B6C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2C08-E55C-409C-97C7-C58F038A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D71D-59FF-4578-A4C4-7DEC798D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AA38-C6A9-4A7E-B2C6-8F45E2A9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B364-45B7-48B9-AF97-EE384407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4B5A-3FE0-4378-B604-31A1AFA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3221-E8F7-44D8-9542-20B9A13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60DF-15D1-4868-95CE-A0BCAB36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97B2-330E-4ADB-848A-A677310D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0D7-5808-4931-88E1-99DFA5FC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CEB8-1455-49CD-AD5F-74688B7F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C6B2-4984-4F68-97C7-D65DA070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4067-11BF-4128-9FDC-BB0E7CDC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F48B-7457-4362-B71D-FDE56EF3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1D03-BB25-432F-BB6C-5D150A3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DCBC6-FE3C-486F-BFBF-ECDA91B1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60A4-029C-4730-8BE0-C951BEB4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A8CE-2DEA-425C-AD62-A59EEA8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C683-24FB-4AFC-A0D5-0909BEA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1793-E87F-42E9-B48F-A297D16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180-BFDD-4AD9-BE59-3D74CDD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B3A19-290F-4281-A13D-A6F6FCA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8793-F0F6-4BA7-B01B-C84B08D3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FC15-ECAD-4FE7-AA8F-C0311AEB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B5E9-0C96-47EA-954F-8BA62245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FB4D5-624C-4688-9A8E-D6633CA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2E86A-F4EE-46F7-9773-D603835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35CD7-BD1E-4ABF-8FEC-042888BD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EB70-2505-4D36-AC32-8539F53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D83DD-E048-4A61-906C-D21D6A52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029A-C0A6-4F50-A839-1FF5857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24A-CFE7-438F-A277-997BB96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D8BA-6D79-4203-92DE-552EA57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B42B-8BB5-4BEE-A933-1745F83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EDF7-0917-4706-9AE0-C3FE1AC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4D43-9D2A-455D-86BE-0C899C6C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F187-C67A-4778-B8E8-E2BE09C9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613-1271-4F3A-94A8-BB6A717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3F29-0916-42E3-A825-26A22B1AC7E1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C85-63F3-4C67-9D73-CFBD243BD678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BACF-3986-444D-AED8-317EC1D17E85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A1E-CD4B-4FCF-93E1-A35B7AD7BED3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92F8-03CF-4B81-93D1-4042A10E0A2D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D172-F588-47CC-9DB0-1B35D0E71F63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FD8-3593-40E1-BCC7-AF715DEEA07D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2428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72314"/>
                </a:solidFill>
                <a:latin typeface="Gill Sans MT"/>
              </a:rPr>
              <a:t>La relación ley - reglamento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Nace como reacción a legalidad post- revolución france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 Chile tiene una utilización residual a principios del siglo X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CPR de 1980 refuerza P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stablecimiento Dom. Leg. Má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es de b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eación PR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os conflictos PR - LE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egitimidad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¿Debe la administración regular Derecho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Intensidad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i la administración regula derechos ¿Con qué grado de intervención debe hacerl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ntrol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directamente el decreto con la CP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28480" y="1499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absoluta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relativ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gulación es propia del legislador. Art. 19 Nº 21 y 26 CPR. Solo por ley se pueden limitar derech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s leyes de bases no son la regla general. Por tanto debe haber regulación integ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28480" y="571320"/>
            <a:ext cx="75056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. El reglamento no puede invadir el ámbito de reserva leg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plicación de Principio de legalidad u jerarquí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del TC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treros camineros I (Rol 146, 1992), Letreros camineros II (Rol 167, 1993), Tarifas de peajes (Rol 183, 1994)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Que si bien, es efectivo que el legislador haciendo uso de su facultad de regular puede establecer limitaciones y restricciones al derecho a desarrollar cualquier actividad económic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sta facultad no le corresponde al administrador 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[…] En otras palabras, el constituyente entrega al legislador y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no al administrador la facultad de disponer cómo deben realizarse las actividades económicas y a qué reglas deben someterse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”. 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(Rol 146, 1992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xisten diversas reservas legales en la CPR. “con arreglo a la ley”, “con sujeción a la ley”, “en conformidad a la ley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naturaleza del reglamen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TC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 de presupuestos (Rol 254, 1997), Acuerdo de complementación económica con Bolivia (Rol 282, 1999), Restricción catalíticos (Rol 325, 2001), et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La diversidad de situaciones que pueden presentarse en la ejecución de la ley de presupuestos imposibilitan una previsión total por parte del legislador. En efecto, lo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Gill Sans MT"/>
              </a:rPr>
              <a:t>complejo y dinámico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 no puede regularse íntegramente con anticipación […] En esta contingenci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l otorgamiento al Ejecutivo de facultades de ejecución resulta inevitable para el buen funcionamiento de la acción estatal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”. (Rol 254, 1997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es posible y lícito que el Poder Ejecutivo haga uso de su potestad reglamentaria de ejecución, pormenorizando y particularizando, en los aspectos instrumentales la norma para así hacer posible el mandato legal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 (Rol 325, 2001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uál es el quántum admisible de remisión reglamentari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final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Introdu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8556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flicto de competencias entre el Poder Legislativo y el Ejecutiv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Legitim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Intens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Contro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iro interpretativo del TC sobre la materia: 1990 – 1996 / 1997 – hasta la actu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finalis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fine el rol del reglamento por su propósito último: desarrollar o complementar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no solo desarrolla y detalla la ley sino que hace todo lo tendiente a llevar adelante su aplica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28480" y="714240"/>
            <a:ext cx="74991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solo puede desarrollar lo ya legislado. No puede complementar ni innovar en lo ya regulad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solo pormenoriza, sin alterar ni complementa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ómo se concilian ambas postura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l complemento indispensable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es una técnica de colaboración. Por tanto el reglamento es una modalidad de hacer cumpli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 la razonabilidad técnic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iterio acuñado por TC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de ejecución y la ley conforman un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solo todo jurídicamente armónico e indisolublemente unidos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tiene que tener razonabilidad técnica o ser coherente con los fines y postulados de la ley.  El reglamento está limitado por le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oría de la intensidad de la reser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penderá primeramente de la intensidad de la reserva legal (mayor o menor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variará conforme varía la reserva legal: es un criterio más flexi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3. El contro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00120" y="1285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la constitucionalidad del decreto sin controlar la ley que lo fundament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s tesis en pug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ampli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El TC debe controlar el decreto si es inconstitucional aunque sea concordante con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Rol TC históric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357200" y="571320"/>
            <a:ext cx="749952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restringida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TC solo puede revisar la constitucionalidad de un decreto si éste se aleja de la ley. Si el decreto sigue la ley el TC no puede revisar su constitucion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Supremacía constitucional supone jerarquía normativ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En definitiva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lación Ley – reglamen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1-. Reserva legal relativ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-. Se tiende a la complementación entre ambas normas. Tesis de la razonabilidad téc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-. Tesis de la competencia ampli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Bibliograf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3 Marcador de contenido"/>
          <p:cNvSpPr/>
          <p:nvPr/>
        </p:nvSpPr>
        <p:spPr>
          <a:xfrm>
            <a:off x="1214280" y="15001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Tres problemas de la potestad reglamentaria: legitimidad, intensidad y control”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rlos Carm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ey y Reglamento en 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rancisco Zuñ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Gonzalo Garc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Notas sobre el principio de supremacía constitucional y los decretos supremos de ejecución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Mario Verdu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El principio de reserva legal en la doctrina emanada del Tribunal Constitucional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. Humberto Nogu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rtículos relacionado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44480" y="1714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32 Nº 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PRE y P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63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Reserva leg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93 Nº 1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 – Art. 94 CPR: T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resupuestos Constitucion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142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Supremacía Constituci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Lega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Jerarqu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ructura normativa unitaria y piramid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1º Constitución Polí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2º L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3º Potestad Reglamenta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e excluye de reglamentación ciertas materias que no pueden ser normadas por la administración, sino que dada su importancia deben serlo por el legislad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19 Nº 2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volución histór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Revolución Francesa – liberalism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Caso Chilen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serva puede ser relativa o absoluta. (nivel de intensida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ominio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25: Dominio legal mín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80: 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 Nº 20: ¿Norma de clausura o numerus apertu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Gill Sans MT"/>
              </a:rPr>
              <a:t>Solo son Materias de ley:  </a:t>
            </a: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Nº20 Toda otra norma de carácter general y obligatoria que estatuya las bases esenciales de un ordenamiento jurídico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Atribución especial que la Constitución o la ley dan, específicamente, a ciertos órganos o autoridades para dictar normas jurídicas generales o especiales” (Carmona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Se expresa a través de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decre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 y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reglamen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agrada en CPR: Art. 32 Nº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uede s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De ejecución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complementa la ley o asegura su ejecu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Autónom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se regula con prescindencia de si existe o no ley que ejecut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33:14Z</dcterms:created>
  <dc:creator>WinuE</dc:creator>
  <dc:description/>
  <dc:language>en-US</dc:language>
  <cp:lastModifiedBy>WinuE</cp:lastModifiedBy>
  <dcterms:modified xsi:type="dcterms:W3CDTF">2008-09-12T18:22:03Z</dcterms:modified>
  <cp:revision>38</cp:revision>
  <dc:subject/>
  <dc:title>S</dc:title>
</cp:coreProperties>
</file>