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7E5E-B769-478B-B699-974A025D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70296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F7D-E2CD-4977-97DC-9A6241D5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A1EB-981C-4E7C-A278-3B642E24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8320" y="17524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17524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70296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8320" y="370296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280" y="370296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201C-857C-49B0-9CA3-7EDA3B99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AE7-3212-4D3D-AB07-2CCFE7E7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BEF4-7A99-463D-8E93-24641D6B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CAF0-9C33-4426-B567-B3ABF603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CCB-4875-4CBF-ABA2-189A8836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533160"/>
            <a:ext cx="754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FF0-8A15-440F-9236-544493FE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FDC9-B922-48F7-BBC8-E57124A0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3C64-2034-41C9-A426-164CFE4F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70296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315B-5DDC-403B-A307-B8A5A22E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019560"/>
            <a:ext cx="1905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01956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D19A-BE36-45FC-9871-0E87934D21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DEMNIZACIÓN DE PERJUICIOS, CUMPLIMIENTO POR EQUIVAL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MPLIMIENTO NO ES POS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EXCEPCION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JURÍD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UEV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ISMA OBLIGACIÓN QUE CAMBIA DE OBJETO, ART. 1555 CC (TODA OBLIGACIÓN DE NO HACER “SE RESUELVE” EN LA DE REPARAR PERJUICI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9A0B-310E-45A2-A06E-5FED31C0D549}" type="slidenum">
              <a:t>1</a:t>
            </a:fld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 MOR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EP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R QUE SUFRE UNA PERSONA COMO CONSECUENCIA DEL INCUMPLIMIENTO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IOLACIÓN DE DERECHOS DE LA PERSON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CEDENCIA EN MATERIA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56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2329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30C-38A0-43EB-B946-9934B98E04B4}" type="slidenum">
              <a:t>10</a:t>
            </a:fld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 MOR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TRATOS QUE INVOLUCRAN DERECHOS DE LA PERSONALIDAD (CONTRATO DE TRANSPOR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ALQUIER TIPO DE CONTRA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1BE3-1415-46A3-920B-E1A06A59EFB7}" type="slidenum">
              <a:t>11</a:t>
            </a:fld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-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SENCIA DE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LACIÓN DE CAUS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QUISITO INDEPEND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 O FUERZA MAY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FE2C-6587-4C4A-A446-904FA9B044A8}" type="slidenum">
              <a:t>12</a:t>
            </a:fld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DEFINI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45 CC, EL IMPREVISTO A QUE NO ES POSIBLE RESISTIR, COMO UN NAUFRAGIO, UN TERREMOTO, EL APRESAMIENTO DE ENEMIGOS, LOS ACTOS DE AUTORIDAD EJERCIDOS POR UN FUNCIONARIO PÚBLICO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USA EXTRAÑA AL DEUDOR, ART. 154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REVISIBILIDAD DEL HECHO (CONCEPTO RELATIVO, CÁLCULO DE PROBABILIDADES, CASO CONCRET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ECHO IRRESIST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F44-7CD0-4418-8E8E-5BD0B8AE1199}" type="slidenum">
              <a:t>13</a:t>
            </a:fld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L DEUDOR NO ES RESPONSABLE DEL CASO FORTUITO, ARTS. 1547 Y 1670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RANSITORIO. EXIME INDEMNIZACION MORATORIA, ART. 1558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EXCEP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CUERDO DE LAS PARTES, OBLIGACIONES DE GARANTÍA, ART. 1547 CC INCISO FINAL, ART. 1673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LEY (ART. 1676 C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SO FORTUITO SOBREVIENE POR CULPA DEL DEUDOR. CULPA QUE MOTIVA EL CASO FORTUITO NO EL INCUMPLI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SO FORTUITIO SOBREVIENEN DURANTE LA MORA DEL DEU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E6A-1FF6-485C-9AC5-CC102317CE9A}" type="slidenum">
              <a:t>14</a:t>
            </a:fld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PRUEB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BE PROBAR EL CASO FORTUITO QUIEN LO AL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S. 1547, 1671, 1674, 1698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679 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EL HECHO O CULPA DEL DEUDOR SE COMPRENDE EL HECHO O CULPA DE LAS PERSONAS POR QUIENES FUERE RESPON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OS CASOS, CASO FORTU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ER ART. 167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09A3-9633-4660-A047-E9797B985230}" type="slidenum">
              <a:t>15</a:t>
            </a:fld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EORÍA DE LA IMPREV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SENCIA DE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EN MATERIA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ALTA DE DILIGENCIA O CUIDADO QUE DEBE EMPLEARSE EN EL CUMPLIMIENTO DE UN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SCUIDO, IMPRUDENCIA, NEGLIG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VISI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POR OMIS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APRECIA EN ABSTRACTO, ART. 44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EA48-3F81-4EC4-A54D-F2C7A19E2A82}" type="slidenum">
              <a:t>16</a:t>
            </a:fld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LASIFICACIÓN TRIPARTITA DE LA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GRAVE O CULPA L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CAUCIONES MÁS ELEM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QUIVALE AL DO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GRAVE, NEGLIGENCIA LEVE, CULPA LATA, ES LA QUE CONSISTE EN NO MANEJAR LOS NEGOCIOS AJENOS CON AQUEL CUIDADO QUE AÚN LAS PERSONAS NEGLIGENTES Y DE POCA PRUDENCIA SUELEN EMPLEAR EN SUS NEGOCIOS PROPIOS. ESTA CULPA EN MATERIAS CIVILES EQUIVALE AL DO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B17E-7AB6-4E86-8E06-0B05ED87180D}" type="slidenum">
              <a:t>17</a:t>
            </a:fld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LE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GRADO DE DILIGENCIA ME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LEVE, DESCUIDO LEVE, DESCUIDO LIGERO, ES LA FALTA DE AQUELLA DILIGENCIA Y CUIDADO QUE LOS HOMBRES EMPLEAN ORDINARIAMENTE EN SUS NEGOCIOS PROPIOS. CULPA O DESCUIDO, SIN OTRA CALIFICACIÓN, SIGNIFICA CULPA O DESCUIDO LEVE. ESTA ESPECIE DE CULPA SE OPONE A LA DILIGENCIA O CUIDADO ORDINARIO O MEDI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QUE DEBE ADMINISTRAR UN NEGOCIO COMO UN BUEN PADRE DE FAMILIA ES RESPONSABLE DE ESTA ESPECIE DE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A104-BEDC-4CED-B2B3-E1E4E555CFB5}" type="slidenum">
              <a:t>18</a:t>
            </a:fld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LEVÍSI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TRAORDINARIA PRUD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O DESCUIDO LEVÍSIMO ES LA FALTA DE AQUELLA ESMERADA DILIGENCIA QUE UN HOMBRE JUICIOSO EMPLEA EN LA ADMINISTRACIÓN DE SUS NEGOCIOS IMPORTANTES. ESTA ESPECIE DE CULPA SE OPONE A LA SUMA DILIGENCIA O CUIDA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EPTO JURÍDICO INDETERMIN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47 CC, QUIÉN REPORTA UT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41CC-6C50-40CC-8FC5-EE43371F138A}" type="slidenum">
              <a:t>19</a:t>
            </a:fld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ÍMITE: MONTO DE LOS PERJU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ATURALEZA COMPENSATO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STITUYE UNA OBLIGACIÓN DE DIN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XCEPCIÓN, CLÁUSULA PENAL (ART. 1535 C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SUBSIDI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SI LA EJECUCIÓN FORZADA NO ES PO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CEP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0B32-1941-4F64-9974-FD2188BD39FC}" type="slidenum">
              <a:t>2</a:t>
            </a:fld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TOS QUE SÓLO SON ÚTILES PARA EL ACREEDOR, CULPA GR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TOS QUE SÓLO SON ÚTILES PARA EL DEUDOR, CULPA LEVÍSI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TOS QUE SON ÚTILES PARA AMBAS PARTES, CULPA LE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IMA AUTONOMÍA DE LA VOLUNTAD, ART. 1547 INC. FINAL. CULPA GRAVE FUTURA NO PUEDE CONDONA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ULPA SE PRES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296B-881C-49B0-92B7-71484FA2503D}" type="slidenum">
              <a:t>20</a:t>
            </a:fld>
          </a:p>
        </p:txBody>
      </p:sp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TENCIONALIDAD: DAÑO Y PROVEC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DAÑO ES PREVISTO Y QUER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ICIO DEL CONSENTIMIENTO, REQUISITO DE LA RESPOSABILIDAD EXTRACONTRACTUAL, AGRAVANTE DE LA RESPONSABILIDAD CONTRACT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, 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S PREVISTOS E IMPREVI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OLO FUTURO NO PUEDE CONDONA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UTONOMÍA DE LA VOLUNT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0934-7090-4596-9BFB-B08955295680}" type="slidenum">
              <a:t>21</a:t>
            </a:fld>
          </a:p>
        </p:txBody>
      </p:sp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GRAVE EQUIVALE AL DO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S PREVISTOS E IMPREVI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GRAVE FUTURA NO PUEDE CONDONA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QUPARACIÓN NO ES TO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 DEBE PROBARSE, EXCEPCIONES, ART. 1459 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GRAVE SE PRES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3796-7A59-4D32-84DC-8AD3EB58A84C}" type="slidenum">
              <a:t>22</a:t>
            </a:fld>
          </a:p>
        </p:txBody>
      </p:sp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57 CC, SE DEBE LA INDEMNIZACIÓN DE PERJUICIOS DESDE QUE EL DEUDOR SE HA CONSTITUIDO EN M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38 CC, HÁYASE O NO ESTIPULADO UN TÉRMINO DENTRO DEL CUAL DEBA CUMPLIRSE LA OBLIGACIÓN PRINCIPAL, EL DEUDOR NO INCURRE EN LA PENA SINO CUANDO SE HA CONSTITUIDO EN M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DEMNIZACIÓN MORATORIA Y COMPENSATO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987F-5247-4C51-B65F-FCEF4AFD73B4}" type="slidenum">
              <a:t>23</a:t>
            </a:fld>
          </a:p>
        </p:txBody>
      </p:sp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O APLICA EN LAS OBLIGACIONES DE NO HAC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L DEU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IGIBILIDAD DE LA OBLIGACIÓN NO ES SIEMPRE SUFIC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TARDO IMPUTABLE EN EL CUMPLIMIENTO DE UNA OBLIGACIÓN UNIDO A LA INTERPELACIÓN DEL ACRE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CIERTA, VENCIDA Y LÍQU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TARDO EN EL CUMPLI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TARDO IMPUTABLE, ART. 1558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BA8F-3314-4097-90E2-05347E331E85}" type="slidenum">
              <a:t>24</a:t>
            </a:fld>
          </a:p>
        </p:txBody>
      </p:sp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TERPELACIÓN DEL ACREEDOR, ART. 1551 Nº3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PELACIÓN JUDICIAL, ART. 1551 Nº3 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CONVENCIÓN JUDICIAL (DEMANDA DE CUMPLIMIENTO, RESOLUCIÓN, INDEMNIZACIÓN DE PERJUICI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SDE NOTIFICACIÓN DEMAN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GLA GEN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7EDA-6B22-4ECA-9213-09CB3394598C}" type="slidenum">
              <a:t>25</a:t>
            </a:fld>
          </a:p>
        </p:txBody>
      </p:sp>
    </p:spTree>
  </p:cSld>
  <p:transition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PELACIÓN CONTRACTUAL, TÉRMINO ESTIPULADO, ART. 1556 Nº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UERDO DE LAS PAR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TOS JURÍDICOS BILATER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EXCLUYE CONDI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CEPCIONES, ART. 1538 CC (CLÁUSULA PENAL), ART. 1977 CC (ARRENDAMIENT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PELACIÓN CONTRACTUAL, PLAZO TÁCITO, ART. 1556 Nº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580-813C-47E7-9BBB-41A6EB60D429}" type="slidenum">
              <a:t>26</a:t>
            </a:fld>
          </a:p>
        </p:txBody>
      </p:sp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L DEUDOR,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 LUGAR A LA INDEMNIZACIÓN DE PERJUIC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ACE RESPONSABLE AL DEUDOR DEL CASO FORTUITO ACAECIDO DURANTE LA MORA, SALVO QUE EL CASO FORTUITO HUBIERE SOBREVENIDO ESTANDO LA COSA EN PODER DEL ACREEDOR, ARTS. 1547 Y 1672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50 CC. RIESGO ES DEL DEU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CEDE EXCEPCIÓN DE CONTRATO NO CUMPL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0151-FA34-4AE7-AF04-FB2C93675BD2}" type="slidenum">
              <a:t>27</a:t>
            </a:fld>
          </a:p>
        </p:txBody>
      </p:sp>
    </p:spTree>
  </p:cSld>
  <p:transition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L ACRE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ISPOSICIONES AISL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48 CC, ART. 1552 CC, ART. 1680 CC, ART. 182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GO POR CONSIGNACIÓN (ARTS. 1598 Y 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 AMBAS PAR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A00F-4EC2-4D4A-8451-2645D23624E6}" type="slidenum">
              <a:t>28</a:t>
            </a:fld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SUBSIDI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ONES DE NO HACER, ART. 1555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ONES DE D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UERZA OBLIGATORIA DEL CONTRA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69 CC (EL PAGO SE HARÁ BAJO TODOS RESPECTOS EN CONFORMIDAD AL TENOR DE LA OBLIG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DESCARTA OBLIGACIÓN ALTERNATIVA (CUMPLIMIENTO O INDEMNIZACIÓN A ELECCIÓN DEL ACREED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79C1-B972-4938-BBB2-14DA1C31FF54}" type="slidenum">
              <a:t>3</a:t>
            </a:fld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SUBSIDIARIA, EXCEP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ONES DE HACER, ART. 1553 CC, “A ELECCIÒN SUY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DICIÓN RESOLUTORIA TÁCITA EN CONTRATOS BILATERALES (RESOLUCIÓN CON INDEMNIZACIÓN DE PERJUICI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LÁUSULA PENAL, ART. 153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CUMPLIMIENTO ES EXCESIVAMENTE ONEROSO? BUENA FE, ART. 1106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OCTRINAS QUE ADMITEN CUMPLIMIENTO DEL DEUDOR EN CASO DE RESOLUCIÓN DEL ART. 1489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5670-9DFF-48E1-8DDB-B1EAE9B94042}" type="slidenum">
              <a:t>4</a:t>
            </a:fld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JECUCIÓN FORZADA ES POS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DAR UNA ESPECIE O CUERPO CIERTO QUE SUBSISTE EN PODER DEL DEU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DAR COSAS GENÉR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HACER QUE PUEDE SER EJECUTADA POR EL DEUDOR O TERCER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NO HACER Y PUEDE DESTRUIRSE LO HEC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S Y PERJU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 EMERGENTE Y LUCRO CESA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56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9408-49AE-4E63-990A-37DED551FEBB}" type="slidenum">
              <a:t>5</a:t>
            </a:fld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QUISITO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QUISITOS RESPONSABILIDAD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CUMPLIMIENTO DE UN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OSIBILIDAD DE EJECUCIÓN FORZADA (EXCEPCION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LACIÓN DE CAUSALIDAD ENTRE EL INCUMPLIMIENTO Y EL D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CUMPLIMIENTO IMPU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RA DEL DEU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MANDANTE DEBE HABER CUMPLIDO O ESTAR LLANO A CUMPL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NO CONCURRA UNA CAUSAL DE EXON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5B4F-2BCB-4C1E-B0E9-97B94997AD7A}" type="slidenum">
              <a:t>6</a:t>
            </a:fld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NCUMPLIMIENT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LASES DE INCUMPL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EJECUCIÓN DE L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MPLIMIENTO PA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MPLIMIENTO TARDÍ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LA INDEMNIZACIÓN DE PERJUICIOS COMPRENDE EL DAÑO EMERGENTE Y LUCRO CESANTE, YA PROVENGAN DE NO HABERSE CUMPLIDO LA OBLIGACIÓN, O DE HABERSE CUMPLIDO IMPERFECTAMENTE, O DE HABERSE RETARDADO EL CUMPLIMIENTO, ART. 1556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UEBA DEL INCUMPLIMIENTO, PRESUNCIÓ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0819-457B-45D1-ACCD-AD8E86483159}" type="slidenum">
              <a:t>7</a:t>
            </a:fld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56 CC, DAÑO EMERGENTE Y LUCRO CES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 DEBE SER CONSECUENCIA INMEDIATA O DIRECTA DE NO HABERSE CUMPLIDO LA OBLIGACIÓN O DE HABERSE DEMORADO SU CUMPLIMIENTO, ART. 155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LACIÓN DE CAUS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SE INDEMNIZAN LOS DAÑOS DIREC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 DEBE SER PROBADO. NO SE PRES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2A08-163E-451D-B518-ADEB3FEBB3F3}" type="slidenum">
              <a:t>8</a:t>
            </a:fld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UEBA DEL DAÑO, EXCEP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LÁUSULA PE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LAS OBLIGACIONES DE PAGAR UNA CANTIDAD DE DINERO, CUANDO SE COBRAN SOLAMENTE INTERE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RT. 1559 CC: “EL ACREEDOR NO TIENE NECESIDAD DE JUSTIFICAR PERJUICIOS CUANDO SÓLO COBRA INTERESES; BASTA EL HECHO DEL RETA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 EVIDENTE (NO PAGO DE RENT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S PATRIMONIALES Y DAÑOS EXTRAPATRIMON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E456-DE6E-452F-8B55-618D91B4D2BA}" type="slidenum">
              <a:t>9</a:t>
            </a:fld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6:32:59Z</dcterms:created>
  <dc:creator>ASTRID SCHUDECK</dc:creator>
  <dc:description/>
  <dc:language>en-US</dc:language>
  <cp:lastModifiedBy>ASTRID SCHUDECK</cp:lastModifiedBy>
  <dcterms:modified xsi:type="dcterms:W3CDTF">2008-11-05T01:03:47Z</dcterms:modified>
  <cp:revision>53</cp:revision>
  <dc:subject/>
  <dc:title>RESPONSABILIDAD CONTRACTUAL</dc:title>
</cp:coreProperties>
</file>