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354-0B5D-4456-A9AD-1D617DBF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FF2-B189-40E8-A6AC-E9794E15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359-8590-4213-8532-13D6F74A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BDA-4431-48B2-A22A-65414B58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58F-64CD-428A-B0B1-A5AC28BB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144-A52B-42CD-BF94-1C32AA2F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FFA-9103-481D-970B-ACD33421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FD3-A89D-4EAB-9D7F-21E9A24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533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BEC-7E60-4F67-8D2B-2F1BF6F9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F94-14E5-4CF7-8FFF-F9D107B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399-A14C-4041-8616-8349063C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E0F-3CC3-43E0-AF98-2679C158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0195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01956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DB31-78BE-4D1B-8C9A-F481D04013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DE PERJUICIOS, CUMPLIMIENTO POR EQUIVAL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MPLIMIENTO NO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SMA OBLIGACIÓN QUE CAMBIA DE OBJETO, ART. 1555 CC (TODA OBLIGACIÓN DE NO HACER “SE RESUELVE” EN LA DE REPARAR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FA1-99DD-49FA-A9F4-58276AB6010C}" type="slidenum">
              <a:t>1</a:t>
            </a:fld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R QUE SUFRE UNA PERSONA COMO CONSECUENCIA DEL INCUMPLIMIENTO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OLACIÓN DE DERECHOS DE LA PERS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CEDENCI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232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EE9-D60C-44D9-83C4-55CEEF9FC6C4}" type="slidenum">
              <a:t>10</a:t>
            </a:fld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ATOS QUE INVOLUCRAN DERECHOS DE LA PERSONALIDAD (CONTRATO DE TRANSPO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ALQUIER TIPO DE CONT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53C-9D8B-4DFF-8E86-C9E4D0FA5A15}" type="slidenum">
              <a:t>11</a:t>
            </a:fld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-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QUISITO INDEPEND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 O FUERZA MAY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C98-E327-4D2D-BB05-8DC03780C3AF}" type="slidenum">
              <a:t>12</a:t>
            </a:fld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DEFIN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45 CC, EL IMPREVISTO A QUE NO ES POSIBLE RESISTIR, COMO UN NAUFRAGIO, UN TERREMOTO, EL APRESAMIENTO DE ENEMIGOS, LOS ACTOS DE AUTORIDAD EJERCIDOS POR UN FUNCIONARIO PÚBLI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USA EXTRAÑA AL DEUDOR, ART. 154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REVISIBILIDAD DEL HECHO (CONCEPTO RELATIVO, CÁLCULO DE PROBABILIDADES, CASO CONCRE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CHO IRRESIST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C5E-96C1-4842-9487-F7EA2BB494E1}" type="slidenum">
              <a:t>13</a:t>
            </a:fld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DEUDOR NO ES RESPONSABLE DEL CASO FORTUITO, ARTS. 1547 Y 1670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ITORIO. EXIME INDEMNIZACION MORATORIA, ART. 1558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CUERDO DE LAS PARTES, OBLIGACIONES DE GARANTÍA, ART. 1547 CC INCISO FINAL, ART. 1673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EY (ART. 1676 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O SOBREVIENE POR CULPA DEL DEUDOR. CULPA QUE MOTIVA EL CASO FORTUITO NO EL IN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IO SOBREVIENEN DURANTE LA MORA DEL DEU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BDE-28A5-4F15-8F8A-FF804142946D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PRUE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BE PROBAR EL CASO FORTUITO QUIEN LO A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S. 1547, 1671, 1674, 169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67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EL HECHO O CULPA DEL DEUDOR SE COMPRENDE EL HECHO O CULPA DE LAS PERSONAS POR QUIENES FUERE RESPON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CASOS, CASO FORT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R ART. 167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5B3-3183-4EE0-A2C1-E539FEF11D65}" type="slidenum">
              <a:t>15</a:t>
            </a:fld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ORÍA DE LA IMP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ALTA DE DILIGENCIA O CUIDADO QUE DEBE EMPLEARSE EN EL 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CUIDO, IMPRUDENCIA, NEGLIG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VIS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POR O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APRECIA EN ABSTRACTO, ART. 44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FB0-16D4-40A3-B635-33E747B3ED91}" type="slidenum">
              <a:t>16</a:t>
            </a:fld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IFICACIÓN TRIPARTITA DE LA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O CULPA L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CAUCIONES MÁS ELEM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, NEGLIGENCIA LEVE, CULPA LATA, ES LA QUE CONSISTE EN NO MANEJAR LOS NEGOCIOS AJENOS CON AQUEL CUIDADO QUE AÚN LAS PERSONAS NEGLIGENTES Y DE POCA PRUDENCIA SUELEN EMPLEAR EN SUS NEGOCIOS PROPIOS. ESTA CULPA EN MATERIAS CIVILES 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CC8-F045-4C54-956B-804365F8BF17}" type="slidenum">
              <a:t>17</a:t>
            </a:fld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DO DE DILIGENCIA M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, DESCUIDO LEVE, DESCUIDO LIGERO, ES LA FALTA DE AQUELLA DILIGENCIA Y CUIDADO QUE LOS HOMBRES EMPLEAN ORDINARIAMENTE EN SUS NEGOCIOS PROPIOS. CULPA O DESCUIDO, SIN OTRA CALIFICACIÓN, SIGNIFICA CULPA O DESCUIDO LEVE. ESTA ESPECIE DE CULPA SE OPONE A LA DILIGENCIA O CUIDADO ORDINARIO O MED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QUE DEBE ADMINISTRAR UN NEGOCIO COMO UN BUEN PADRE DE FAMILIA ES RESPONSABLE DE ESTA ESPECIE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1D0-0014-4A9F-B1C5-70D986689B9C}" type="slidenum">
              <a:t>18</a:t>
            </a:fld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TRAORDINARIA PRUD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O DESCUIDO LEVÍSIMO ES LA FALTA DE AQUELLA ESMERADA DILIGENCIA QUE UN HOMBRE JUICIOSO EMPLEA EN LA ADMINISTRACIÓN DE SUS NEGOCIOS IMPORTANTES. ESTA ESPECIE DE CULPA SE OPONE A LA SUMA DILIGENCIA O CUIDA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 JURÍDICO IN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47 CC, QUIÉN REPORTA UT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0F0-3601-4C2C-944F-5B95B1BA4524}" type="slidenum">
              <a:t>19</a:t>
            </a:fld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ÍMITE: MONTO DE LOS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TURALEZA COMPENSA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TITUYE UNA OBLIGACIÓN DE DIN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CEPCIÓN, CLÁUSULA PENAL (ART. 1535 C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I LA EJECUCIÓN FORZADA NO ES PO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4CA-2EE0-421E-A087-773169DA714C}" type="slidenum">
              <a:t>2</a:t>
            </a:fld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ACREEDOR, CULPA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DEUDOR, 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ON ÚTILES PARA AMBAS PARTES, 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IMA AUTONOMÍA DE LA VOLUNTAD, ART. 1547 INC. FINAL. CULPA GRAVE FUTURA NO PUEDE CONDON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ULPA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4E7-F6AA-40BC-8239-30BD62A74E7E}" type="slidenum">
              <a:t>20</a:t>
            </a:fld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NCIONALIDAD: DAÑO Y PROV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DAÑO ES PREVISTO Y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ICIO DEL CONSENTIMIENTO, REQUISITO DE LA RESPOSABILIDAD EXTRACONTRACTUAL, AGRAVANTE DE LA RESPONSABILIDAD CONTR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, 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LO FUTURO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TONOMÍA DE LA VOLUNT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3DD-B8D2-443C-8418-5FD9A053792A}" type="slidenum">
              <a:t>21</a:t>
            </a:fld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EQUIVALE AL 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 FUTURA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PARACIÓN NO ES 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 DEBE PROBARSE, EXCEPCIONES, ART. 145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A6A-97D9-46EB-B454-96FB2EC54672}" type="slidenum">
              <a:t>22</a:t>
            </a:fld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7 CC, SE DEBE LA INDEMNIZACIÓN DE PERJUICIOS DESDE QUE EL DEUDOR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38 CC, HÁYASE O NO ESTIPULADO UN TÉRMINO DENTRO DEL CUAL DEBA CUMPLIRSE LA OBLIGACIÓN PRINCIPAL, EL DEUDOR NO INCURRE EN LA PENA SINO CUANDO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MORATORIA Y COMPENSA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BC2-1997-4A5A-A323-AC81A3ED570D}" type="slidenum">
              <a:t>23</a:t>
            </a:fld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APLICA EN LAS OBLIGACIONES DE NO HA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IGIBILIDAD DE LA OBLIGACIÓN NO ES SIEMPRE SUFIC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 EN EL CUMPLIMIENTO DE UNA OBLIGACIÓN UNIDO A LA INTERPELACIÓN DEL ACRE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CIERTA, VENCIDA Y LÍQ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EN EL CUMPL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, ART. 155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134-868E-4F2F-97ED-4E20E761C8B4}" type="slidenum">
              <a:t>24</a:t>
            </a:fld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PELACIÓN DEL ACREEDOR, ART. 1551 Nº3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JUDICIAL, ART. 1551 Nº3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CONVENCIÓN JUDICIAL (DEMANDA DE CUMPLIMIENTO, RESOLUCIÓN,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DE NOTIFICACIÓN DEMA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GLA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E90-9D23-4915-9351-F4E5644C3FDE}" type="slidenum">
              <a:t>25</a:t>
            </a:fld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TÉRMINO ESTIPULADO, ART. 1556 Nº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LAS PA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OS JURÍDICOS BILAT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EXCLUYE COND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, ART. 1538 CC (CLÁUSULA PENAL), ART. 1977 CC (ARRENDAMIEN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PLAZO TÁCITO, ART. 1556 Nº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574-6CD1-4309-BEB4-8E1B36A8E8DB}" type="slidenum">
              <a:t>26</a:t>
            </a:fld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 LUGAR A LA INDEMNIZACIÓN DE PERJU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CE RESPONSABLE AL DEUDOR DEL CASO FORTUITO ACAECIDO DURANTE LA MORA, SALVO QUE EL CASO FORTUITO HUBIERE SOBREVENIDO ESTANDO LA COSA EN PODER DEL ACREEDOR, ARTS. 1547 Y 1672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0 CC. RIESGO ES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DE EXCEPCIÓN DE CONTRATO NO CUMPL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120-5394-4B89-B7FE-A518C053CE0B}" type="slidenum">
              <a:t>27</a:t>
            </a:fld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ACRE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POSICIONES AIS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48 CC, ART. 1552 CC, ART. 1680 CC, ART. 182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GO POR CONSIGNACIÓN (ARTS. 1598 Y 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 AMBAS PA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6F9-AF4B-4979-9BE7-4C39C92E04A6}" type="slidenum">
              <a:t>28</a:t>
            </a:fld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NO HACER, ART. 1555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UERZA OBLIGATORIA DEL 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69 CC (EL PAGO SE HARÁ BAJO TODOS RESPECTOS EN CONFORMIDAD AL TENOR DE LA OBLIG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DESCARTA OBLIGACIÓN ALTERNATIVA (CUMPLIMIENTO O INDEMNIZACIÓN A ELECCIÓN DEL ACREED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5EB-8D7E-46DB-939F-64FAC4CF4B5F}" type="slidenum">
              <a:t>3</a:t>
            </a:fld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HACER, ART. 1553 CC, “A ELECCIÒN SUY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ÓN RESOLUTORIA TÁCITA EN CONTRATOS BILATERALES (RESOLUCIÓN CON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, ART. 153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CUMPLIMIENTO ES EXCESIVAMENTE ONEROSO? BUENA FE, ART. 110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CTRINAS QUE ADMITEN CUMPLIMIENTO DEL DEUDOR EN CASO DE RESOLUCIÓN DEL ART. 148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F8E-423C-4400-B190-C66E4328FE0F}" type="slidenum">
              <a:t>4</a:t>
            </a:fld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JECUCIÓN FORZADA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UNA ESPECIE O CUERPO CIERTO QUE SUBSISTE EN PODER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COSAS GENÉR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HACER QUE PUEDE SER EJECUTADA POR EL DEUDOR O TERC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NO HACER Y PUEDE DESTRUIRSE LO H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Y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MERGENTE Y LUCRO CES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21F-B2ED-445E-8017-9DC961213B03}" type="slidenum">
              <a:t>5</a:t>
            </a:fld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 RESPONSABILIDAD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SIBILIDAD DE EJECUCIÓN FORZADA (EXCEP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 ENTRE EL INCUMPLIMIENTO Y EL 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IMPU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MANDANTE DEBE HABER CUMPLIDO O ESTAR LLANO A CUMPL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NO CONCURRA UNA CAUSAL DE EXO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A4C-09A5-45B9-95C2-8DAA085DAAEE}" type="slidenum">
              <a:t>6</a:t>
            </a:fld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NCUMPLIMIENT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ES DE INCUMPL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EJECUCIÓN DE L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PA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TARD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INDEMNIZACIÓN DE PERJUICIOS COMPRENDE EL DAÑO EMERGENTE Y LUCRO CESANTE, YA PROVENGAN DE NO HABERSE CUMPLIDO LA OBLIGACIÓN, O DE HABERSE CUMPLIDO IMPERFECTAMENTE, O DE HABERSE RETARDADO EL CUMPLIMIENTO, ART. 1556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INCUMPLIMIENTO, PRESUN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A3D-2C4D-4FA3-AC55-6113C34B2FA6}" type="slidenum">
              <a:t>7</a:t>
            </a:fld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6 CC, DAÑO EMERGENTE Y LUCRO CES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CONSECUENCIA INMEDIATA O DIRECTA DE NO HABERSE CUMPLIDO LA OBLIGACIÓN O DE HABERSE DEMORADO SU CUMPLIMIENTO, ART. 15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E INDEMNIZAN LOS DAÑOS DIRE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PROBADO. NO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B36-E2AF-42B2-AD1E-EA62BDAF69A8}" type="slidenum">
              <a:t>8</a:t>
            </a:fld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DAÑ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LAS OBLIGACIONES DE PAGAR UNA CANTIDAD DE DINERO, CUANDO SE COBRAN SOLAMENTE INTER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RT. 1559 CC: “EL ACREEDOR NO TIENE NECESIDAD DE JUSTIFICAR PERJUICIOS CUANDO SÓLO COBRA INTERESES; BASTA EL HECHO DEL RETA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VIDENTE (NO PAGO DE RENT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PATRIMONIALES Y DAÑOS EXTRAPATRIMON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325-FAD5-4C1F-9698-627AEC675D49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32:59Z</dcterms:created>
  <dc:creator>ASTRID SCHUDECK</dc:creator>
  <dc:description/>
  <dc:language>en-US</dc:language>
  <cp:lastModifiedBy>ASTRID SCHUDECK</cp:lastModifiedBy>
  <dcterms:modified xsi:type="dcterms:W3CDTF">2008-11-05T01:03:47Z</dcterms:modified>
  <cp:revision>53</cp:revision>
  <dc:subject/>
  <dc:title>RESPONSABILIDAD CONTRACTUAL</dc:title>
</cp:coreProperties>
</file>