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BCBC-16E4-4A67-8D7B-FAB28C597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3702960"/>
            <a:ext cx="7543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CDA6-2F5E-473B-A245-1D93937C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3400" y="175248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370296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3400" y="370296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D7C0-2D81-4F91-B62F-E96732A47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8320" y="175248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280" y="175248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370296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8320" y="370296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280" y="370296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B12F-DF44-4914-A36E-3333DA4D1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F87E-77FA-4B8F-8D77-B8611D74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D040-98AB-40D7-9E03-D2E7E1EA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68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3400" y="1752480"/>
            <a:ext cx="368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00FF-C40F-4378-9AD5-988B85DC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28FF-4416-4AD6-949F-3992F08B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7720" y="533160"/>
            <a:ext cx="7543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CB7F-5DE6-4446-AA2E-74345D46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3400" y="1752480"/>
            <a:ext cx="368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370296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B285-D83D-49C3-BC97-3DA4874E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68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3400" y="175248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3400" y="370296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A838-8F57-4585-86FB-98C45DB3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3400" y="175248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3702960"/>
            <a:ext cx="7543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D95D-C7D8-4CF5-8244-ACCFB29E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019560"/>
            <a:ext cx="1905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6760" y="601956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34FC-8AB4-45BC-A51B-523C57D3A6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ESPONSABILIDAD CONTRACTU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DEMNIZACIÓN DE PERJUICIOS, CUMPLIMIENTO POR EQUIVAL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MPLIMIENTO NO ES POS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EXCEPCION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ATURALEZA JURÍD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UEVA OBLIG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ISMA OBLIGACIÓN QUE CAMBIA DE OBJETO, ART. 1555 CC (TODA OBLIGACIÓN DE NO HACER “SE RESUELVE” EN LA DE REPARAR PERJUICI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0B5A-9D82-4074-B0EE-0C7B9E7CF589}" type="slidenum">
              <a:t>1</a:t>
            </a:fld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AÑO MOR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CEP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OLOR QUE SUFRE UNA PERSONA COMO CONSECUENCIA DEL INCUMPLIMIENTO CONTRACT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IOLACIÓN DE DERECHOS DE LA PERSON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OCEDENCIA EN MATERIA CONTRACT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. 1556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. 2329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5F5D-EC17-4DD4-A0FB-3B4E208D3707}" type="slidenum">
              <a:t>10</a:t>
            </a:fld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AÑO MOR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TRATOS QUE INVOLUCRAN DERECHOS DE LA PERSONALIDAD (CONTRATO DE TRANSPORT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ALQUIER TIPO DE CONTRA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9D76-1713-4192-A654-D5F90F5E59BF}" type="slidenum">
              <a:t>11</a:t>
            </a:fld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OLO-CUL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USENCIA DE CUL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LACIÓN DE CAUSA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QUISITO INDEPENDI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 O FUERZA MAY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D7E3-321D-439F-A4C2-570D218F6FCE}" type="slidenum">
              <a:t>12</a:t>
            </a:fld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, DEFINI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. 45 CC, EL IMPREVISTO A QUE NO ES POSIBLE RESISTIR, COMO UN NAUFRAGIO, UN TERREMOTO, EL APRESAMIENTO DE ENEMIGOS, LOS ACTOS DE AUTORIDAD EJERCIDOS POR UN FUNCIONARIO PÚBLICO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, REQUIS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USA EXTRAÑA AL DEUDOR, ART. 1547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MPREVISIBILIDAD DEL HECHO (CONCEPTO RELATIVO, CÁLCULO DE PROBABILIDADES, CASO CONCRET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HECHO IRRESIST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7E99-9108-4099-A81B-A259BE951023}" type="slidenum">
              <a:t>13</a:t>
            </a:fld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, EFE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L DEUDOR NO ES RESPONSABLE DEL CASO FORTUITO, ARTS. 1547 Y 1670 C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TRANSITORIO. EXIME INDEMNIZACION MORATORIA, ART. 1558 C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, EXCEP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ACUERDO DE LAS PARTES, OBLIGACIONES DE GARANTÍA, ART. 1547 CC INCISO FINAL, ART. 1673 C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LEY (ART. 1676 CC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ASO FORTUITO SOBREVIENE POR CULPA DEL DEUDOR. CULPA QUE MOTIVA EL CASO FORTUITO NO EL INCUMPLI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ASO FORTUITIO SOBREVIENEN DURANTE LA MORA DEL DEUD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2E5C-9674-4FE9-BFFC-EC5204EFA56B}" type="slidenum">
              <a:t>14</a:t>
            </a:fld>
          </a:p>
        </p:txBody>
      </p:sp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, PRUEB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BE PROBAR EL CASO FORTUITO QUIEN LO AL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S. 1547, 1671, 1674, 1698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RT. 1679 C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EL HECHO O CULPA DEL DEUDOR SE COMPRENDE EL HECHO O CULPA DE LAS PERSONAS POR QUIENES FUERE RESPONS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TROS CASOS, CASO FORTUI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VER ART. 1677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936D-781C-4010-BFF5-AC2DE53F5346}" type="slidenum">
              <a:t>15</a:t>
            </a:fld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EORÍA DE LA IMPREVIS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USENCIA DE CUL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LPA EN MATERIA CONTRACT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ALTA DE DILIGENCIA O CUIDADO QUE DEBE EMPLEARSE EN EL CUMPLIMIENTO DE UNA OBLIG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SCUIDO, IMPRUDENCIA, NEGLIGENC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EVISIBI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LPA POR OMIS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APRECIA EN ABSTRACTO, ART. 44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0538-0161-4943-A7FA-CF88EDDBF2FA}" type="slidenum">
              <a:t>16</a:t>
            </a:fld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LASIFICACIÓN TRIPARTITA DE LA CUL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LPA GRAVE O CULPA L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ECAUCIONES MÁS ELEMENT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QUIVALE AL DO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LPA GRAVE, NEGLIGENCIA LEVE, CULPA LATA, ES LA QUE CONSISTE EN NO MANEJAR LOS NEGOCIOS AJENOS CON AQUEL CUIDADO QUE AÚN LAS PERSONAS NEGLIGENTES Y DE POCA PRUDENCIA SUELEN EMPLEAR EN SUS NEGOCIOS PROPIOS. ESTA CULPA EN MATERIAS CIVILES EQUIVALE AL DO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9ADE-4901-43DC-89C0-CE7C8A1126AC}" type="slidenum">
              <a:t>17</a:t>
            </a:fld>
          </a:p>
        </p:txBody>
      </p:sp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LPA LE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GRADO DE DILIGENCIA ME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LPA LEVE, DESCUIDO LEVE, DESCUIDO LIGERO, ES LA FALTA DE AQUELLA DILIGENCIA Y CUIDADO QUE LOS HOMBRES EMPLEAN ORDINARIAMENTE EN SUS NEGOCIOS PROPIOS. CULPA O DESCUIDO, SIN OTRA CALIFICACIÓN, SIGNIFICA CULPA O DESCUIDO LEVE. ESTA ESPECIE DE CULPA SE OPONE A LA DILIGENCIA O CUIDADO ORDINARIO O MEDIA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QUE DEBE ADMINISTRAR UN NEGOCIO COMO UN BUEN PADRE DE FAMILIA ES RESPONSABLE DE ESTA ESPECIE DE CUL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477C-83E6-49DE-BC58-832C4D82AB21}" type="slidenum">
              <a:t>18</a:t>
            </a:fld>
          </a:p>
        </p:txBody>
      </p:sp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LPA LEVÍSI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XTRAORDINARIA PRUDENC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LPA O DESCUIDO LEVÍSIMO ES LA FALTA DE AQUELLA ESMERADA DILIGENCIA QUE UN HOMBRE JUICIOSO EMPLEA EN LA ADMINISTRACIÓN DE SUS NEGOCIOS IMPORTANTES. ESTA ESPECIE DE CULPA SE OPONE A LA SUMA DILIGENCIA O CUIDAD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CEPTO JURÍDICO INDETERMIN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RT. 1547 CC, QUIÉN REPORTA UT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5D94-2AAE-4CFC-A1A7-0BCC631779D1}" type="slidenum">
              <a:t>19</a:t>
            </a:fld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ESPONSABILIDAD CONTRACTU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ÍMITE: MONTO DE LOS PERJUI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ATURALEZA COMPENSATO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STITUYE UNA OBLIGACIÓN DE DIN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XCEPCIÓN, CLÁUSULA PENAL (ART. 1535 C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ATURALEZA SUBSIDIA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ÓLO SI LA EJECUCIÓN FORZADA NO ES PO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XCEP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9365-2BF9-47CF-A6A6-5899C6B429F7}" type="slidenum">
              <a:t>2</a:t>
            </a:fld>
          </a:p>
        </p:txBody>
      </p:sp>
    </p:spTree>
  </p:cSld>
  <p:transition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TOS QUE SÓLO SON ÚTILES PARA EL ACREEDOR, CULPA GRA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TOS QUE SÓLO SON ÚTILES PARA EL DEUDOR, CULPA LEVÍSI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TOS QUE SON ÚTILES PARA AMBAS PARTES, CULPA LE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IMA AUTONOMÍA DE LA VOLUNTAD, ART. 1547 INC. FINAL. CULPA GRAVE FUTURA NO PUEDE CONDONA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CULPA SE PRESU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D3CF-486D-4B44-9DD4-D07D4B31501F}" type="slidenum">
              <a:t>20</a:t>
            </a:fld>
          </a:p>
        </p:txBody>
      </p:sp>
    </p:spTree>
  </p:cSld>
  <p:transition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O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NTENCIONALIDAD: DAÑO Y PROVEC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DAÑO ES PREVISTO Y QUERI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VICIO DEL CONSENTIMIENTO, REQUISITO DE LA RESPOSABILIDAD EXTRACONTRACTUAL, AGRAVANTE DE LA RESPONSABILIDAD CONTRACTU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OLO,  EFE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AÑOS PREVISTOS E IMPREVIS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OLO FUTURO NO PUEDE CONDONAR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UTONOMÍA DE LA VOLUNT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2ECC-1C5C-4EE3-B628-0F19AC490777}" type="slidenum">
              <a:t>21</a:t>
            </a:fld>
          </a:p>
        </p:txBody>
      </p:sp>
    </p:spTree>
  </p:cSld>
  <p:transition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LPA GRAVE EQUIVALE AL DO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AÑOS PREVISTOS E IMPREVIS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LPA GRAVE FUTURA NO PUEDE CONDONAR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QUPARACIÓN NO ES TO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OLO DEBE PROBARSE, EXCEPCIONES, ART. 1459 C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LPA GRAVE SE PRESU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F4D3-087E-4C91-A6CB-CF9AA48FDF14}" type="slidenum">
              <a:t>22</a:t>
            </a:fld>
          </a:p>
        </p:txBody>
      </p:sp>
    </p:spTree>
  </p:cSld>
  <p:transition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O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RT. 1557 CC, SE DEBE LA INDEMNIZACIÓN DE PERJUICIOS DESDE QUE EL DEUDOR SE HA CONSTITUIDO EN M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RT. 1538 CC, HÁYASE O NO ESTIPULADO UN TÉRMINO DENTRO DEL CUAL DEBA CUMPLIRSE LA OBLIGACIÓN PRINCIPAL, EL DEUDOR NO INCURRE EN LA PENA SINO CUANDO SE HA CONSTITUIDO EN M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DEMNIZACIÓN MORATORIA Y COMPENSATO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726E-B43F-4BD5-ADF1-6CC0DB047951}" type="slidenum">
              <a:t>23</a:t>
            </a:fld>
          </a:p>
        </p:txBody>
      </p:sp>
    </p:spTree>
  </p:cSld>
  <p:transition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O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O APLICA EN LAS OBLIGACIONES DE NO HAC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RA DEL DEU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XIGIBILIDAD DE LA OBLIGACIÓN NO ES SIEMPRE SUFICI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TARDO IMPUTABLE EN EL CUMPLIMIENTO DE UNA OBLIGACIÓN UNIDO A LA INTERPELACIÓN DEL ACREE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QUIS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ÓN CIERTA, VENCIDA Y LÍQUI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TARDO EN EL CUMPLI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TARDO IMPUTABLE, ART. 1558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CD9C-851E-473A-BD8A-628958E65F32}" type="slidenum">
              <a:t>24</a:t>
            </a:fld>
          </a:p>
        </p:txBody>
      </p:sp>
    </p:spTree>
  </p:cSld>
  <p:transition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O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QUIS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NTERPELACIÓN DEL ACREEDOR, ART. 1551 Nº3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TERPELACIÓN JUDICIAL, ART. 1551 Nº3 C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CONVENCIÓN JUDICIAL (DEMANDA DE CUMPLIMIENTO, RESOLUCIÓN, INDEMNIZACIÓN DE PERJUICI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SDE NOTIFICACIÓN DEMAN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GLA GENER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AEBC-72B9-4A0A-9FC9-6423620FA595}" type="slidenum">
              <a:t>25</a:t>
            </a:fld>
          </a:p>
        </p:txBody>
      </p:sp>
    </p:spTree>
  </p:cSld>
  <p:transition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O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TERPELACIÓN CONTRACTUAL, TÉRMINO ESTIPULADO, ART. 1556 Nº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CUERDO DE LAS PAR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CTOS JURÍDICOS BILATER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EXCLUYE CONDI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XCEPCIONES, ART. 1538 CC (CLÁUSULA PENAL), ART. 1977 CC (ARRENDAMIENT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TERPELACIÓN CONTRACTUAL, PLAZO TÁCITO, ART. 1556 Nº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39FA-2778-4F88-B9F0-A77EBB3FA458}" type="slidenum">
              <a:t>26</a:t>
            </a:fld>
          </a:p>
        </p:txBody>
      </p:sp>
    </p:spTree>
  </p:cSld>
  <p:transition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O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RA DEL DEUDOR, EFE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A LUGAR A LA INDEMNIZACIÓN DE PERJUIC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HACE RESPONSABLE AL DEUDOR DEL CASO FORTUITO ACAECIDO DURANTE LA MORA, SALVO QUE EL CASO FORTUITO HUBIERE SOBREVENIDO ESTANDO LA COSA EN PODER DEL ACREEDOR, ARTS. 1547 Y 1672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. 1550 CC. RIESGO ES DEL DEU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OCEDE EXCEPCIÓN DE CONTRATO NO CUMPLI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2297-91F3-42E3-90EC-EB4586E15145}" type="slidenum">
              <a:t>27</a:t>
            </a:fld>
          </a:p>
        </p:txBody>
      </p:sp>
    </p:spTree>
  </p:cSld>
  <p:transition>
    <p:newsflash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O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RA DEL ACRE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ISPOSICIONES AISLA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. 1548 CC, ART. 1552 CC, ART. 1680 CC, ART. 1827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AGO POR CONSIGNACIÓN (ARTS. 1598 Y S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RA DE AMBAS PAR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7F05-E18C-4FB4-B003-52AE2825AD49}" type="slidenum">
              <a:t>28</a:t>
            </a:fld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ESPONSABILIDAD CONTRACTU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ATURALEZA SUBSIDIA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ONES DE NO HACER, ART. 1555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ONES DE D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UERZA OBLIGATORIA DEL CONTRA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. 1569 CC (EL PAGO SE HARÁ BAJO TODOS RESPECTOS EN CONFORMIDAD AL TENOR DE LA OBLIGACIÓ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DESCARTA OBLIGACIÓN ALTERNATIVA (CUMPLIMIENTO O INDEMNIZACIÓN A ELECCIÓN DEL ACREEDO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A581-CF6A-47D8-9C03-FEE663D7DA68}" type="slidenum">
              <a:t>3</a:t>
            </a:fld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ESPONSABILIDAD CONTRACTU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ATURALEZA SUBSIDIARIA, EXCEP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ONES DE HACER, ART. 1553 CC, “A ELECCIÒN SUYA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NDICIÓN RESOLUTORIA TÁCITA EN CONTRATOS BILATERALES (RESOLUCIÓN CON INDEMNIZACIÓN DE PERJUICI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LÁUSULA PENAL, ART. 1537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CUMPLIMIENTO ES EXCESIVAMENTE ONEROSO? BUENA FE, ART. 1106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OCTRINAS QUE ADMITEN CUMPLIMIENTO DEL DEUDOR EN CASO DE RESOLUCIÓN DEL ART. 1489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BB7E-4233-4EFA-B872-087555E77987}" type="slidenum">
              <a:t>4</a:t>
            </a:fld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ESPONSABILIDAD CONTRACTU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JECUCIÓN FORZADA ES POS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ÓN DE DAR UNA ESPECIE O CUERPO CIERTO QUE SUBSISTE EN PODER DEL DEU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ÓN DE DAR COSAS GENÉRIC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ÓN DE HACER QUE PUEDE SER EJECUTADA POR EL DEUDOR O TERCER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ÓN DE NO HACER Y PUEDE DESTRUIRSE LO HEC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AÑOS Y PERJUI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AÑO EMERGENTE Y LUCRO CESA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. 1556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C689-74EF-4D56-9363-7F2007A8C25D}" type="slidenum">
              <a:t>5</a:t>
            </a:fld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EQUISITO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QUISITOS RESPONSABILIDAD CONTRACT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NCUMPLIMIENTO DE UNA OBLIG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MPOSIBILIDAD DE EJECUCIÓN FORZADA (EXCEPCION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A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LACIÓN DE CAUSALIDAD ENTRE EL INCUMPLIMIENTO Y EL DA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NCUMPLIMIENTO IMPUT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ORA DEL DEU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MANDANTE DEBE HABER CUMPLIDO O ESTAR LLANO A CUMPLI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QUE NO CONCURRA UNA CAUSAL DE EXONE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AE3C-8E42-43C9-AC76-8A65DC5B2FC8}" type="slidenum">
              <a:t>6</a:t>
            </a:fld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NCUMPLIMIENT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LASES DE INCUMPL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NEJECUCIÓN DE LA OBLIG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MPLIMIENTO PARC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MPLIMIENTO TARDÍ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LA INDEMNIZACIÓN DE PERJUICIOS COMPRENDE EL DAÑO EMERGENTE Y LUCRO CESANTE, YA PROVENGAN DE NO HABERSE CUMPLIDO LA OBLIGACIÓN, O DE HABERSE CUMPLIDO IMPERFECTAMENTE, O DE HABERSE RETARDADO EL CUMPLIMIENTO, ART. 1556 C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UEBA DEL INCUMPLIMIENTO, PRESUNCIÓN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8AAF-0F6A-4DB5-916D-6F1F53252403}" type="slidenum">
              <a:t>7</a:t>
            </a:fld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AÑ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RT. 1556 CC, DAÑO EMERGENTE Y LUCRO CES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AÑO DEBE SER CONSECUENCIA INMEDIATA O DIRECTA DE NO HABERSE CUMPLIDO LA OBLIGACIÓN O DE HABERSE DEMORADO SU CUMPLIMIENTO, ART. 155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LACIÓN DE CAUSA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ÓLO SE INDEMNIZAN LOS DAÑOS DIREC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AÑO DEBE SER PROBADO. NO SE PRESU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D9B0-E4E7-4780-BD1C-1BF1F65C335F}" type="slidenum">
              <a:t>8</a:t>
            </a:fld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AÑ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UEBA DEL DAÑO, EXCEP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LÁUSULA PE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LAS OBLIGACIONES DE PAGAR UNA CANTIDAD DE DINERO, CUANDO SE COBRAN SOLAMENTE INTERE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ART. 1559 CC: “EL ACREEDOR NO TIENE NECESIDAD DE JUSTIFICAR PERJUICIOS CUANDO SÓLO COBRA INTERESES; BASTA EL HECHO DEL RETAR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AÑO EVIDENTE (NO PAGO DE RENTA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AÑOS PATRIMONIALES Y DAÑOS EXTRAPATRIMONI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EC82-7F30-4BEE-9C83-AA67C71F0E64}" type="slidenum">
              <a:t>9</a:t>
            </a:fld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16:32:59Z</dcterms:created>
  <dc:creator>ASTRID SCHUDECK</dc:creator>
  <dc:description/>
  <dc:language>en-US</dc:language>
  <cp:lastModifiedBy>ASTRID SCHUDECK</cp:lastModifiedBy>
  <dcterms:modified xsi:type="dcterms:W3CDTF">2008-11-05T01:03:47Z</dcterms:modified>
  <cp:revision>53</cp:revision>
  <dc:subject/>
  <dc:title>RESPONSABILIDAD CONTRACTUAL</dc:title>
</cp:coreProperties>
</file>