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361A5-34FC-4EED-999D-F86DB2C77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D2D6C-83E6-4671-B4F0-8F065D0CE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9F23A-CF28-4E28-9E2D-F4DDE19F2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DB079-0E2F-4FC9-A369-C443ADC3B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DFA57-A981-4972-B469-5113C0DD2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CDB81-8179-44AC-9726-D720649F2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E1A57-0E4B-42A3-A451-5AC217EEF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069E5-13AC-42F6-9402-DC4BD4C12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BF9C8-5EE2-41A9-B7EF-CC848709D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105E4-939A-443B-8C38-EB2095104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B87BE-502F-4026-99C3-88E9CFF24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48910-36F9-4AC8-B613-D08328831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3EAC-556B-429A-897B-DA810AB7BCC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2920" y="2205000"/>
            <a:ext cx="60483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cc3300"/>
                </a:solidFill>
                <a:uFillTx/>
                <a:latin typeface="Arial"/>
              </a:rPr>
              <a:t>Tema Seleccionado</a:t>
            </a:r>
            <a:br>
              <a:rPr sz="4400"/>
            </a:br>
            <a:br>
              <a:rPr sz="4400"/>
            </a:br>
            <a:r>
              <a:rPr b="1" lang="es-ES_tradnl" sz="4400" spc="-1" strike="noStrike">
                <a:solidFill>
                  <a:srgbClr val="cc3300"/>
                </a:solidFill>
                <a:latin typeface="Arial"/>
              </a:rPr>
              <a:t> </a:t>
            </a:r>
            <a:r>
              <a:rPr b="0" lang="es-ES_tradnl" sz="4400" spc="-1" strike="noStrike">
                <a:solidFill>
                  <a:srgbClr val="cc3300"/>
                </a:solidFill>
                <a:latin typeface="Arial"/>
              </a:rPr>
              <a:t>La Explotación Sexual Comercial Infantil en Chile y el Plan Nacional para Erradicarla.</a:t>
            </a:r>
            <a:br>
              <a:rPr sz="5400"/>
            </a:br>
            <a:endParaRPr b="0" lang="en-US" sz="4400" spc="-1" strike="noStrike">
              <a:solidFill>
                <a:srgbClr val="000000"/>
              </a:solidFill>
              <a:latin typeface="Arial"/>
            </a:endParaRPr>
          </a:p>
        </p:txBody>
      </p:sp>
      <p:pic>
        <p:nvPicPr>
          <p:cNvPr id="42" name="" descr=""/>
          <p:cNvPicPr/>
          <p:nvPr/>
        </p:nvPicPr>
        <p:blipFill>
          <a:blip r:embed="rId1"/>
          <a:stretch/>
        </p:blipFill>
        <p:spPr>
          <a:xfrm>
            <a:off x="6516720" y="3141720"/>
            <a:ext cx="2320920" cy="3382920"/>
          </a:xfrm>
          <a:prstGeom prst="rect">
            <a:avLst/>
          </a:prstGeom>
          <a:ln w="0">
            <a:noFill/>
          </a:ln>
        </p:spPr>
      </p:pic>
      <p:pic>
        <p:nvPicPr>
          <p:cNvPr id="43" name="" descr=""/>
          <p:cNvPicPr/>
          <p:nvPr/>
        </p:nvPicPr>
        <p:blipFill>
          <a:blip r:embed="rId2"/>
          <a:stretch/>
        </p:blipFill>
        <p:spPr>
          <a:xfrm>
            <a:off x="324000" y="4149720"/>
            <a:ext cx="2340000" cy="23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468360" y="333000"/>
            <a:ext cx="8136000" cy="626436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Pregunta Principal</a:t>
            </a:r>
            <a:r>
              <a:rPr b="1" lang="es-ES_tradnl" sz="2800" spc="-1" strike="noStrike">
                <a:solidFill>
                  <a:srgbClr val="800000"/>
                </a:solidFill>
                <a:latin typeface="Arial"/>
              </a:rPr>
              <a:t>: </a:t>
            </a:r>
            <a:r>
              <a:rPr b="0" lang="es-ES_tradnl" sz="2800" spc="-1" strike="noStrike">
                <a:solidFill>
                  <a:srgbClr val="800000"/>
                </a:solidFill>
                <a:latin typeface="Arial"/>
              </a:rPr>
              <a:t>¿Cuál es el plan más adecuado y eficiente para prevenir y erradicar la explotación sexual comercial infantil?</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Objetivo General</a:t>
            </a:r>
            <a:r>
              <a:rPr b="1" lang="es-ES_tradnl" sz="2800" spc="-1" strike="noStrike">
                <a:solidFill>
                  <a:srgbClr val="800000"/>
                </a:solidFill>
                <a:latin typeface="Arial"/>
              </a:rPr>
              <a:t>: </a:t>
            </a:r>
            <a:r>
              <a:rPr b="0" lang="es-ES_tradnl" sz="2800" spc="-1" strike="noStrike">
                <a:solidFill>
                  <a:srgbClr val="800000"/>
                </a:solidFill>
                <a:latin typeface="Arial"/>
              </a:rPr>
              <a:t>Demostrar que la actuación interna del Estado no ha sido suficiente para erradicar la ESCI a través del Plan de Acción aplicado.</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Hipótesis:</a:t>
            </a:r>
            <a:r>
              <a:rPr b="1" lang="es-ES_tradnl" sz="2800" spc="-1" strike="noStrike">
                <a:solidFill>
                  <a:srgbClr val="800000"/>
                </a:solidFill>
                <a:latin typeface="Arial"/>
              </a:rPr>
              <a:t> </a:t>
            </a:r>
            <a:r>
              <a:rPr b="0" lang="es-ES_tradnl" sz="2800" spc="-1" strike="noStrike">
                <a:solidFill>
                  <a:srgbClr val="800000"/>
                </a:solidFill>
                <a:latin typeface="Arial"/>
              </a:rPr>
              <a:t>Las medidas estatales referidas a la sensibilización de la población, a la normativización y fiscalización han sido insuficientes para erradicar la ESCI como una de las peores formas de trabajo infantil, ya que no se ha logrado crear una conciencia social respecto la gravedad del tema y, asimismo, se sigue practicando impunem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5" name=""/>
          <p:cNvGraphicFramePr/>
          <p:nvPr/>
        </p:nvGraphicFramePr>
        <p:xfrm>
          <a:off x="324000" y="115920"/>
          <a:ext cx="8496000" cy="6545160"/>
        </p:xfrm>
        <a:graphic>
          <a:graphicData uri="http://schemas.openxmlformats.org/drawingml/2006/table">
            <a:tbl>
              <a:tblPr/>
              <a:tblGrid>
                <a:gridCol w="2519280"/>
                <a:gridCol w="3313080"/>
                <a:gridCol w="266364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Cuál es la realidad chilena en materia de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clarecer la realidad chilena en materia de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 Realidad chilena ant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Cómo ha enfrentado el Estado el tem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clarecer las medidas que el Estado ha asumido respecto la realidad nacional de ESC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I Medidas tomadas por el Estado para erradicar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alpha val="50000"/>
                      </a:srgbClr>
                    </a:solid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Quiénes son los principales actores involucrados en la erradicación de la ESC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dentificar a los actores reales en la práctica de erradicación de la ESC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II Actores para la erradicación d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alpha val="50000"/>
                      </a:srgbClr>
                    </a:solidFill>
                  </a:tcPr>
                </a:tc>
              </a:tr>
              <a:tr h="2604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 el Plan Nacional para Erradicar el trabajo infantil (IPEC) adecuado y efectivo para lograr la erradicación d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Analizar la adecuación y eficiencia</a:t>
                      </a:r>
                      <a:r>
                        <a:rPr b="0" i="1" lang="es-ES_tradnl" sz="2000" spc="-1" strike="noStrike">
                          <a:solidFill>
                            <a:srgbClr val="cc3300"/>
                          </a:solidFill>
                          <a:latin typeface="Arial"/>
                        </a:rPr>
                        <a:t> </a:t>
                      </a:r>
                      <a:r>
                        <a:rPr b="0" lang="es-ES_tradnl" sz="2000" spc="-1" strike="noStrike">
                          <a:solidFill>
                            <a:srgbClr val="cc3300"/>
                          </a:solidFill>
                          <a:latin typeface="Arial"/>
                        </a:rPr>
                        <a:t>del Plan Nacional para erradicar el trabajo infantil (IPEC) en lo referido a la ESCI y plantear otras medidas más eficientes o accesorias si es procedente.</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V El Plan Nacional para erradicar el trabajo infantil (IPEC) y su eficiencia.</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79280" y="274680"/>
            <a:ext cx="532908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3300"/>
                </a:solidFill>
                <a:uFillTx/>
                <a:latin typeface="Arial"/>
              </a:rPr>
              <a:t>JUSTIFICACÍÓN</a:t>
            </a:r>
            <a:endParaRPr b="0" lang="en-US" sz="4000" spc="-1" strike="noStrike">
              <a:solidFill>
                <a:srgbClr val="000000"/>
              </a:solidFill>
              <a:latin typeface="Arial"/>
            </a:endParaRPr>
          </a:p>
        </p:txBody>
      </p:sp>
      <p:sp>
        <p:nvSpPr>
          <p:cNvPr id="47" name="PlaceHolder 2"/>
          <p:cNvSpPr>
            <a:spLocks noGrp="1"/>
          </p:cNvSpPr>
          <p:nvPr>
            <p:ph/>
          </p:nvPr>
        </p:nvSpPr>
        <p:spPr>
          <a:xfrm>
            <a:off x="0" y="981000"/>
            <a:ext cx="9144000" cy="6308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99"/>
                </a:solidFill>
                <a:latin typeface="Arial"/>
              </a:rPr>
              <a:t>	</a:t>
            </a:r>
            <a:r>
              <a:rPr b="0" lang="es-ES_tradnl" sz="2800" spc="-1" strike="noStrike">
                <a:solidFill>
                  <a:srgbClr val="cc0099"/>
                </a:solidFill>
                <a:latin typeface="Arial"/>
              </a:rPr>
              <a:t>	</a:t>
            </a:r>
            <a:r>
              <a:rPr b="0" lang="es-ES_tradnl" sz="2800" spc="-1" strike="noStrike">
                <a:solidFill>
                  <a:srgbClr val="cc3300"/>
                </a:solidFill>
                <a:latin typeface="Arial"/>
              </a:rPr>
              <a:t>La ESCI es una práctica no menor en Chile que afecta en lo más íntimo a los derechos del menor. Con la investigación podremos adentrarnos en el tema para comprenderlo mejor, podremos tener un esquema de las medidas tomadas por el Estado y verificar su eficacia; como también podremos analizar la actuación de órganos externos. Por medio de esta investigación podremos concluir si la actuación del Estado ha sido pertinente y suficiente para erradicar la ESCI, o si la actuación principal está en los agentes externos. En base a lo anterior, la investigación intentará dilucidar el camino más eficiente a seguir para lograr la erradicación de la ESCI, según las condiciones nacion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8" name=""/>
          <p:cNvGraphicFramePr/>
          <p:nvPr/>
        </p:nvGraphicFramePr>
        <p:xfrm>
          <a:off x="108000" y="549360"/>
          <a:ext cx="8928000" cy="5576760"/>
        </p:xfrm>
        <a:graphic>
          <a:graphicData uri="http://schemas.openxmlformats.org/drawingml/2006/table">
            <a:tbl>
              <a:tblPr/>
              <a:tblGrid>
                <a:gridCol w="4397400"/>
                <a:gridCol w="4530600"/>
              </a:tblGrid>
              <a:tr h="557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Hipótesis:</a:t>
                      </a:r>
                      <a:r>
                        <a:rPr b="0" lang="es-ES_tradnl" sz="2800" spc="-1" strike="noStrike">
                          <a:solidFill>
                            <a:srgbClr val="cc3300"/>
                          </a:solidFill>
                          <a:latin typeface="Arial"/>
                        </a:rPr>
                        <a:t> Las medidas estatales han sido insuficientes para erradicar la ESCI, ya que no se ha logrado crear una conciencia social respecto la gravedad del tema y, asimismo, se sigue practicando impunemen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Variable Independiente: </a:t>
                      </a:r>
                      <a:r>
                        <a:rPr b="0" lang="es-ES_tradnl" sz="2800" spc="-1" strike="noStrike">
                          <a:solidFill>
                            <a:srgbClr val="cc3300"/>
                          </a:solidFill>
                          <a:latin typeface="Arial"/>
                        </a:rPr>
                        <a:t>No se ha logrado crear una conciencia social respecto la gravedad de la ESCI. La ESCI se sigue practicando impunemente</a:t>
                      </a:r>
                      <a:r>
                        <a:rPr b="0" lang="es-ES" sz="2800" spc="-1" strike="noStrike">
                          <a:solidFill>
                            <a:srgbClr val="cc33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Variable Dependiente:</a:t>
                      </a:r>
                      <a:r>
                        <a:rPr b="0" lang="es-ES_tradnl" sz="2800" spc="-1" strike="noStrike">
                          <a:solidFill>
                            <a:srgbClr val="cc3300"/>
                          </a:solidFill>
                          <a:latin typeface="Arial"/>
                        </a:rPr>
                        <a:t> Las medidas estatales han sido insuficientes para erradicar la ES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9" name=""/>
          <p:cNvGraphicFramePr/>
          <p:nvPr/>
        </p:nvGraphicFramePr>
        <p:xfrm>
          <a:off x="395280" y="260280"/>
          <a:ext cx="8291520" cy="5865840"/>
        </p:xfrm>
        <a:graphic>
          <a:graphicData uri="http://schemas.openxmlformats.org/drawingml/2006/table">
            <a:tbl>
              <a:tblPr/>
              <a:tblGrid>
                <a:gridCol w="4146480"/>
                <a:gridCol w="4145040"/>
              </a:tblGrid>
              <a:tr h="5865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Arial"/>
                        </a:rPr>
                        <a:t>Indicadores: </a:t>
                      </a:r>
                      <a:r>
                        <a:rPr b="0" lang="es-ES_tradnl" sz="1600" spc="-1" strike="noStrike">
                          <a:solidFill>
                            <a:srgbClr val="cc3300"/>
                          </a:solidFill>
                          <a:latin typeface="Arial"/>
                        </a:rPr>
                        <a:t>Plan de Prevención y Erradicación Progresiva del Trabajo Infantil (IPE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Encuesta Case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Sistema de Información Regional sobre Trabajo Infantil (SIRTI)</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Trabajo Infantil y Adolescente. Diagnóstico Nacional. Resumen Ejecutivo. OIT, SENAME, INE, Ministerio del Trabaj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Trabajo Infantil y Adolescente en Cifras. Síntesis de la Primera Encuesta Nacional y Registro de sus Peores Formas. OIT, SENAME, INE, Ministerio del Trabaj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Explotación sexual Comercial: Contenidos Mínimos en materia de penalización de la explotación sexual comercial de personas menores de edad, según las normas internacional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Normativa Internacional: Convenio 182 OIT; Recomendación 190 OIT; Convención sobre los Derechos del Niño; </a:t>
                      </a:r>
                      <a:r>
                        <a:rPr b="0" lang="es-ES" sz="1600" spc="-1" strike="noStrike">
                          <a:solidFill>
                            <a:srgbClr val="cc3300"/>
                          </a:solidFill>
                          <a:latin typeface="Arial"/>
                        </a:rPr>
                        <a:t>Constitución Política de Chile; Código del trabaj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cc3300"/>
                          </a:solidFill>
                          <a:latin typeface="Arial"/>
                        </a:rPr>
                        <a:t>Fuentes de Información:</a:t>
                      </a:r>
                      <a:r>
                        <a:rPr b="0" lang="es-ES_tradnl" sz="1700" spc="-1" strike="noStrike">
                          <a:solidFill>
                            <a:srgbClr val="cc3300"/>
                          </a:solidFill>
                          <a:latin typeface="Arial"/>
                        </a:rPr>
                        <a:t> - Memoria sobre “Las Peores Formas de Trabajo Infantil. Análisis del Convenio Nº 182” de M. Gallegos y P. Prado</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La Protección de la Explotación Sexual de la Infancia y la Adolescencia en el Marco de la Convención sobre Derechos del Niño, UNICEF, Chile, 2002, de Cillero, Miguel</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Mapeo del Trabajo Infantil en Chile, 1998, del Colegio de Profesores de Chile</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Competencia y Resultados Educativos: teoría y evidencia para Chile. Documento de trabajo N°150, Banco Central de Chile, 2002, Internet, de Gallego, Francisco</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a:t>
                      </a:r>
                      <a:r>
                        <a:rPr b="0" lang="es-ES_tradnl" sz="1700" spc="-1" strike="noStrike">
                          <a:solidFill>
                            <a:srgbClr val="cc3300"/>
                          </a:solidFill>
                          <a:latin typeface="Arial"/>
                        </a:rPr>
                        <a:t>Sitios web de la OIT, del SENAME, de la UNICEF, del Ministerio del Trabajo y de Organizaciones que se dedican particularmente al tema.</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14:18:05Z</dcterms:created>
  <dc:creator>Patricia Valenzuela</dc:creator>
  <dc:description/>
  <dc:language>en-US</dc:language>
  <cp:lastModifiedBy>gau</cp:lastModifiedBy>
  <dcterms:modified xsi:type="dcterms:W3CDTF">2007-04-10T21:44:43Z</dcterms:modified>
  <cp:revision>9</cp:revision>
  <dc:subject/>
  <dc:title>Matriz 1</dc:title>
</cp:coreProperties>
</file>