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4DE93-530E-4A23-95A5-4F9DA064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4EA96-BA30-4E1F-80D7-F036EFCB0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456E0-EA31-458B-B578-51CC5D729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B1460-66CE-4570-98AD-C45533A92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5D814-C7D3-4463-833F-8BB11418C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DB054-D9AD-4AD7-BCD8-9930FBA9A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3A1BE-FA16-4FD4-B66D-60C70B941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5C7DD-BBBC-44CB-B398-D2188677A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F2978-7141-4A50-9157-AF5A50DBC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78E64-27B4-45C2-AAA5-A37301AD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1934-4E5E-4234-9322-39CBB222A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0329-4B77-48EA-8218-EA0421A62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78E5-CFA6-4B7C-8047-821837AEEE3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205000"/>
            <a:ext cx="60483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cc3300"/>
                </a:solidFill>
                <a:uFillTx/>
                <a:latin typeface="Arial"/>
              </a:rPr>
              <a:t>Tema Seleccionado</a:t>
            </a:r>
            <a:br>
              <a:rPr sz="4400"/>
            </a:br>
            <a:br>
              <a:rPr sz="4400"/>
            </a:br>
            <a:r>
              <a:rPr b="1" lang="es-ES_tradnl" sz="4400" spc="-1" strike="noStrike">
                <a:solidFill>
                  <a:srgbClr val="cc3300"/>
                </a:solidFill>
                <a:latin typeface="Arial"/>
              </a:rPr>
              <a:t> </a:t>
            </a:r>
            <a:r>
              <a:rPr b="0" lang="es-ES_tradnl" sz="4400" spc="-1" strike="noStrike">
                <a:solidFill>
                  <a:srgbClr val="cc3300"/>
                </a:solidFill>
                <a:latin typeface="Arial"/>
              </a:rPr>
              <a:t>La Explotación Sexual Comercial Infantil en Chile y el Plan Nacional para Erradicarla.</a:t>
            </a:r>
            <a:br>
              <a:rPr sz="5400"/>
            </a:br>
            <a:endParaRPr b="0" lang="en-US" sz="4400" spc="-1" strike="noStrike">
              <a:solidFill>
                <a:srgbClr val="000000"/>
              </a:solidFill>
              <a:latin typeface="Arial"/>
            </a:endParaRPr>
          </a:p>
        </p:txBody>
      </p:sp>
      <p:pic>
        <p:nvPicPr>
          <p:cNvPr id="42" name="" descr=""/>
          <p:cNvPicPr/>
          <p:nvPr/>
        </p:nvPicPr>
        <p:blipFill>
          <a:blip r:embed="rId1"/>
          <a:stretch/>
        </p:blipFill>
        <p:spPr>
          <a:xfrm>
            <a:off x="6516720" y="3141720"/>
            <a:ext cx="2320920" cy="3382920"/>
          </a:xfrm>
          <a:prstGeom prst="rect">
            <a:avLst/>
          </a:prstGeom>
          <a:ln w="0">
            <a:noFill/>
          </a:ln>
        </p:spPr>
      </p:pic>
      <p:pic>
        <p:nvPicPr>
          <p:cNvPr id="43" name="" descr=""/>
          <p:cNvPicPr/>
          <p:nvPr/>
        </p:nvPicPr>
        <p:blipFill>
          <a:blip r:embed="rId2"/>
          <a:stretch/>
        </p:blipFill>
        <p:spPr>
          <a:xfrm>
            <a:off x="324000" y="4149720"/>
            <a:ext cx="2340000" cy="23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468360" y="333000"/>
            <a:ext cx="8136000" cy="626436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Pregunta Principal</a:t>
            </a:r>
            <a:r>
              <a:rPr b="1" lang="es-ES_tradnl" sz="2800" spc="-1" strike="noStrike">
                <a:solidFill>
                  <a:srgbClr val="800000"/>
                </a:solidFill>
                <a:latin typeface="Arial"/>
              </a:rPr>
              <a:t>: </a:t>
            </a:r>
            <a:r>
              <a:rPr b="0" lang="es-ES_tradnl" sz="2800" spc="-1" strike="noStrike">
                <a:solidFill>
                  <a:srgbClr val="800000"/>
                </a:solidFill>
                <a:latin typeface="Arial"/>
              </a:rPr>
              <a:t>¿Cuál es el plan más adecuado y eficiente para prevenir y erradicar la explotación sexual comercial infanti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Objetivo General</a:t>
            </a:r>
            <a:r>
              <a:rPr b="1" lang="es-ES_tradnl" sz="2800" spc="-1" strike="noStrike">
                <a:solidFill>
                  <a:srgbClr val="800000"/>
                </a:solidFill>
                <a:latin typeface="Arial"/>
              </a:rPr>
              <a:t>: </a:t>
            </a:r>
            <a:r>
              <a:rPr b="0" lang="es-ES_tradnl" sz="2800" spc="-1" strike="noStrike">
                <a:solidFill>
                  <a:srgbClr val="800000"/>
                </a:solidFill>
                <a:latin typeface="Arial"/>
              </a:rPr>
              <a:t>Demostrar que la actuación interna del Estado no ha sido suficiente para erradicar la ESCI a través del Plan de Acción aplicado.</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Hipótesis:</a:t>
            </a:r>
            <a:r>
              <a:rPr b="1" lang="es-ES_tradnl" sz="2800" spc="-1" strike="noStrike">
                <a:solidFill>
                  <a:srgbClr val="800000"/>
                </a:solidFill>
                <a:latin typeface="Arial"/>
              </a:rPr>
              <a:t> </a:t>
            </a:r>
            <a:r>
              <a:rPr b="0" lang="es-ES_tradnl" sz="2800" spc="-1" strike="noStrike">
                <a:solidFill>
                  <a:srgbClr val="800000"/>
                </a:solidFill>
                <a:latin typeface="Arial"/>
              </a:rPr>
              <a:t>Las medidas estatales referidas a la sensibilización de la población, a la normativización y fiscalización han sido insuficientes para erradicar la ESCI como una de las peores formas de trabajo infantil, ya que no se ha logrado crear una conciencia social respecto la gravedad del tema y, asimismo, se sigue practicando impunem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5" name=""/>
          <p:cNvGraphicFramePr/>
          <p:nvPr/>
        </p:nvGraphicFramePr>
        <p:xfrm>
          <a:off x="324000" y="115920"/>
          <a:ext cx="8496000" cy="6545160"/>
        </p:xfrm>
        <a:graphic>
          <a:graphicData uri="http://schemas.openxmlformats.org/drawingml/2006/table">
            <a:tbl>
              <a:tblPr/>
              <a:tblGrid>
                <a:gridCol w="2519280"/>
                <a:gridCol w="3313080"/>
                <a:gridCol w="266364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uál es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 Realidad chilena ant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ómo ha enfrentado el Estado el tem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s medidas que el Estado ha asumido respecto la realidad nacional de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 Medidas tomadas por el Estado para erradicar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Quiénes son los principales actores involucrados en la erradicación de la ESC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dentificar a los actores reales en la práctica de erradicación de la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I Actores para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260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 el Plan Nacional para Erradicar el trabajo infantil (IPEC) adecuado y efectivo para lograr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Analizar la adecuación y eficiencia</a:t>
                      </a:r>
                      <a:r>
                        <a:rPr b="0" i="1" lang="es-ES_tradnl" sz="2000" spc="-1" strike="noStrike">
                          <a:solidFill>
                            <a:srgbClr val="cc3300"/>
                          </a:solidFill>
                          <a:latin typeface="Arial"/>
                        </a:rPr>
                        <a:t> </a:t>
                      </a:r>
                      <a:r>
                        <a:rPr b="0" lang="es-ES_tradnl" sz="2000" spc="-1" strike="noStrike">
                          <a:solidFill>
                            <a:srgbClr val="cc3300"/>
                          </a:solidFill>
                          <a:latin typeface="Arial"/>
                        </a:rPr>
                        <a:t>del Plan Nacional para erradicar el trabajo infantil (IPEC) en lo referido a la ESCI y plantear otras medidas más eficientes o accesorias si es procedente.</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V El Plan Nacional para erradicar el trabajo infantil (IPEC) y su eficiencia.</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79280" y="274680"/>
            <a:ext cx="532908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3300"/>
                </a:solidFill>
                <a:uFillTx/>
                <a:latin typeface="Arial"/>
              </a:rPr>
              <a:t>JUSTIFICACÍÓN</a:t>
            </a:r>
            <a:endParaRPr b="0" lang="en-US" sz="4000" spc="-1" strike="noStrike">
              <a:solidFill>
                <a:srgbClr val="000000"/>
              </a:solidFill>
              <a:latin typeface="Arial"/>
            </a:endParaRPr>
          </a:p>
        </p:txBody>
      </p:sp>
      <p:sp>
        <p:nvSpPr>
          <p:cNvPr id="47" name="PlaceHolder 2"/>
          <p:cNvSpPr>
            <a:spLocks noGrp="1"/>
          </p:cNvSpPr>
          <p:nvPr>
            <p:ph/>
          </p:nvPr>
        </p:nvSpPr>
        <p:spPr>
          <a:xfrm>
            <a:off x="0" y="981000"/>
            <a:ext cx="9144000" cy="630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Arial"/>
              </a:rPr>
              <a:t>	</a:t>
            </a:r>
            <a:r>
              <a:rPr b="0" lang="es-ES_tradnl" sz="2800" spc="-1" strike="noStrike">
                <a:solidFill>
                  <a:srgbClr val="cc0099"/>
                </a:solidFill>
                <a:latin typeface="Arial"/>
              </a:rPr>
              <a:t>	</a:t>
            </a:r>
            <a:r>
              <a:rPr b="0" lang="es-ES_tradnl" sz="2800" spc="-1" strike="noStrike">
                <a:solidFill>
                  <a:srgbClr val="cc3300"/>
                </a:solidFill>
                <a:latin typeface="Arial"/>
              </a:rPr>
              <a:t>La ESCI es una práctica no menor en Chile que afecta en lo más íntimo a los derechos del menor. Con la investigación podremos adentrarnos en el tema para comprenderlo mejor, podremos tener un esquema de las medidas tomadas por el Estado y verificar su eficacia; como también podremos analizar la actuación de órganos externos. Por medio de esta investigación podremos concluir si la actuación del Estado ha sido pertinente y suficiente para erradicar la ESCI, o si la actuación principal está en los agentes externos. En base a lo anterior, la investigación intentará dilucidar el camino más eficiente a seguir para lograr la erradicación de la ESCI, según las condiciones nacio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8" name=""/>
          <p:cNvGraphicFramePr/>
          <p:nvPr/>
        </p:nvGraphicFramePr>
        <p:xfrm>
          <a:off x="108000" y="549360"/>
          <a:ext cx="8928000" cy="5576760"/>
        </p:xfrm>
        <a:graphic>
          <a:graphicData uri="http://schemas.openxmlformats.org/drawingml/2006/table">
            <a:tbl>
              <a:tblPr/>
              <a:tblGrid>
                <a:gridCol w="4397400"/>
                <a:gridCol w="4530600"/>
              </a:tblGrid>
              <a:tr h="557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Hipótesis:</a:t>
                      </a:r>
                      <a:r>
                        <a:rPr b="0" lang="es-ES_tradnl" sz="2800" spc="-1" strike="noStrike">
                          <a:solidFill>
                            <a:srgbClr val="cc3300"/>
                          </a:solidFill>
                          <a:latin typeface="Arial"/>
                        </a:rPr>
                        <a:t> Las medidas estatales han sido insuficientes para erradicar la ESCI, ya que no se ha logrado crear una conciencia social respecto la gravedad del tema y, asimismo, se sigue practicando impunemen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Independiente: </a:t>
                      </a:r>
                      <a:r>
                        <a:rPr b="0" lang="es-ES_tradnl" sz="2800" spc="-1" strike="noStrike">
                          <a:solidFill>
                            <a:srgbClr val="cc3300"/>
                          </a:solidFill>
                          <a:latin typeface="Arial"/>
                        </a:rPr>
                        <a:t>No se ha logrado crear una conciencia social respecto la gravedad de la ESCI. La ESCI se sigue practicando impunemente</a:t>
                      </a:r>
                      <a:r>
                        <a:rPr b="0" lang="es-ES" sz="2800" spc="-1" strike="noStrike">
                          <a:solidFill>
                            <a:srgbClr val="cc33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Dependiente:</a:t>
                      </a:r>
                      <a:r>
                        <a:rPr b="0" lang="es-ES_tradnl" sz="2800" spc="-1" strike="noStrike">
                          <a:solidFill>
                            <a:srgbClr val="cc3300"/>
                          </a:solidFill>
                          <a:latin typeface="Arial"/>
                        </a:rPr>
                        <a:t> Las medidas estatales han sido insuficientes para erradicar la ES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9" name=""/>
          <p:cNvGraphicFramePr/>
          <p:nvPr/>
        </p:nvGraphicFramePr>
        <p:xfrm>
          <a:off x="395280" y="260280"/>
          <a:ext cx="8291520" cy="5865840"/>
        </p:xfrm>
        <a:graphic>
          <a:graphicData uri="http://schemas.openxmlformats.org/drawingml/2006/table">
            <a:tbl>
              <a:tblPr/>
              <a:tblGrid>
                <a:gridCol w="4146480"/>
                <a:gridCol w="4145040"/>
              </a:tblGrid>
              <a:tr h="5865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Indicadores: </a:t>
                      </a:r>
                      <a:r>
                        <a:rPr b="0" lang="es-ES_tradnl" sz="1600" spc="-1" strike="noStrike">
                          <a:solidFill>
                            <a:srgbClr val="cc3300"/>
                          </a:solidFill>
                          <a:latin typeface="Arial"/>
                        </a:rPr>
                        <a:t>Plan de Prevención y Erradicación Progresiva del Trabajo Infantil (IPE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ncuesta Cas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Sistema de Información Regional sobre Trabajo Infantil (SIRTI)</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Diagnóstico Nacional. Resumen Ejecutivo.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en Cifras. Síntesis de la Primera Encuesta Nacional y Registro de sus Peores Formas.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xplotación sexual Comercial: Contenidos Mínimos en materia de penalización de la explotación sexual comercial de personas menores de edad, según las normas internacion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Normativa Internacional: Convenio 182 OIT; Recomendación 190 OIT; Convención sobre los Derechos del Niño; </a:t>
                      </a:r>
                      <a:r>
                        <a:rPr b="0" lang="es-ES" sz="1600" spc="-1" strike="noStrike">
                          <a:solidFill>
                            <a:srgbClr val="cc3300"/>
                          </a:solidFill>
                          <a:latin typeface="Arial"/>
                        </a:rPr>
                        <a:t>Constitución Política de Chile; Código del trabaj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cc3300"/>
                          </a:solidFill>
                          <a:latin typeface="Arial"/>
                        </a:rPr>
                        <a:t>Fuentes de Información:</a:t>
                      </a:r>
                      <a:r>
                        <a:rPr b="0" lang="es-ES_tradnl" sz="1700" spc="-1" strike="noStrike">
                          <a:solidFill>
                            <a:srgbClr val="cc3300"/>
                          </a:solidFill>
                          <a:latin typeface="Arial"/>
                        </a:rPr>
                        <a:t> - Memoria sobre “Las Peores Formas de Trabajo Infantil. Análisis del Convenio Nº 182” de M. Gallegos y P. Prad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La Protección de la Explotación Sexual de la Infancia y la Adolescencia en el Marco de la Convención sobre Derechos del Niño, UNICEF, Chile, 2002, de Cillero, Miguel</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Mapeo del Trabajo Infantil en Chile, 1998, del Colegio de Profesores de Chil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Competencia y Resultados Educativos: teoría y evidencia para Chile. Documento de trabajo N°150, Banco Central de Chile, 2002, Internet, de Gallego, Francisc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a:t>
                      </a:r>
                      <a:r>
                        <a:rPr b="0" lang="es-ES_tradnl" sz="1700" spc="-1" strike="noStrike">
                          <a:solidFill>
                            <a:srgbClr val="cc3300"/>
                          </a:solidFill>
                          <a:latin typeface="Arial"/>
                        </a:rPr>
                        <a:t>Sitios web de la OIT, del SENAME, de la UNICEF, del Ministerio del Trabajo y de Organizaciones que se dedican particularmente al tem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14:18:05Z</dcterms:created>
  <dc:creator>Patricia Valenzuela</dc:creator>
  <dc:description/>
  <dc:language>en-US</dc:language>
  <cp:lastModifiedBy>gau</cp:lastModifiedBy>
  <dcterms:modified xsi:type="dcterms:W3CDTF">2007-04-10T21:44:43Z</dcterms:modified>
  <cp:revision>9</cp:revision>
  <dc:subject/>
  <dc:title>Matriz 1</dc:title>
</cp:coreProperties>
</file>