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183-22F3-4F97-8370-10554BDC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150-15D0-4D9D-93EF-487A35D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87E-A460-4E15-AA53-E9D1154B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FA1-4C0E-4D62-8DCF-E1703F49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A89-3023-4B29-B440-45383167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7E5-9BB9-4B43-B6E2-4998BF59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666-9A95-4833-B21E-7E4AB4E1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257-7106-4258-9ABD-7FACC35E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AAC-891C-4F75-BCD8-A61DC569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4A8-946B-440E-902A-8A2CFB2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606-F6BA-4A67-8C88-14C4152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1C8-244F-4D5B-B7E9-264FD6C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7825-66C7-4125-82EF-2C6FFED2B1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25T10:52:04Z</dcterms:modified>
  <cp:revision>62</cp:revision>
  <dc:subject/>
  <dc:title>Diapositiva 1</dc:title>
</cp:coreProperties>
</file>