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E7E-A233-4912-997E-371C53B9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E17-4BAA-4742-972D-74B067F5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3A1-26C1-4811-9E8A-36E177FB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7C1-0FA1-4F53-917B-4697429D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D6C-40FD-4820-A951-EDC237A4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674-10DC-4CB3-BA59-B9342D5F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8F2-89CA-441E-97C0-CB79392C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31A-542E-44D7-9E7E-00BB96DC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E83-D628-4C85-81D5-A68AEEEF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593-943F-450C-A1C8-8923E564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E1C-04FE-4EA1-BA96-34D948AA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76E-F92D-4A3C-8C0C-E044FB53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703F-31D4-4B85-B0C1-CB8281B315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25T10:52:04Z</dcterms:modified>
  <cp:revision>62</cp:revision>
  <dc:subject/>
  <dc:title>Diapositiva 1</dc:title>
</cp:coreProperties>
</file>