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22A6-FC39-4896-9E35-ADD7CE3B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E8C1-461D-4AC6-B6C7-AA6A3AED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92F-BDB3-489C-80D6-B60A299E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D2D-1C65-429A-BDB4-0275673D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B39-EA70-415D-853A-D0132523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F68-5A04-496C-A673-D68AE06A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FA98-2B3C-429A-B214-26E8788D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E618-C011-4A3C-93D8-966CF4DE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194-7C3D-4A5F-9C8A-81611B58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CF68-9B8C-47DC-9409-16D64B14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CE6-6725-4BB3-BAB3-FF408A5A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822D-38E2-4EB5-8CEF-8D0C1A4E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5A4B-705F-41B1-8D9F-DD9FB251B0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333360"/>
            <a:ext cx="55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AD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CUELA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4360" y="5661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ESOR : GABRIEL ALVAREZ UNDURRA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2637000"/>
            <a:ext cx="705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RSO DE METODOLOGÍA DE LA INVESTIGACIÓN JURÍD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60360" y="333360"/>
            <a:ext cx="647640" cy="115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81184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5373720"/>
            <a:ext cx="68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fesor : Gabriel Alvarez Undurr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32000" y="26028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structura del Proyecto de Investigación Jur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2400" y="1011240"/>
            <a:ext cx="4484880" cy="64764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153120"/>
            <a:ext cx="3651120" cy="5158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IBLIOGRAFÍA , ANEXOS , APÉND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62400" y="1658880"/>
            <a:ext cx="448488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) Planteamiento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2) Formul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3) Sistematiz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4) Objetivo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5) Justific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1658880"/>
            <a:ext cx="365112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APÍTUL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L PROBL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2400" y="5106960"/>
            <a:ext cx="4484880" cy="1046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1)  Índice del contenido del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)  Recursos: humanos, materiales y financieros emple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3) Cronograma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5106960"/>
            <a:ext cx="3651120" cy="1046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PÍTUL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PECTOS ADMINISTRA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62400" y="3957480"/>
            <a:ext cx="448488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) Tipos  y nivele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2) Método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3) Población y muestra (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) Técnicas e instrumentos de recolección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) Tratamiento de la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3957480"/>
            <a:ext cx="365112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Black"/>
              </a:rPr>
              <a:t>CAPÍTUL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Black"/>
              </a:rPr>
              <a:t>EL MARCO METOD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62400" y="2808360"/>
            <a:ext cx="4484880" cy="1149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1) Antecedentes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2) Bases teó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3) Definición de térmi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) Hipót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5) Variables e 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2808360"/>
            <a:ext cx="3651120" cy="1149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APÍTULO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L MARCO TEÓ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1011240"/>
            <a:ext cx="3651120" cy="64764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ÍTULO TENT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T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280836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395748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510696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165888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615312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2400" y="1011240"/>
            <a:ext cx="0" cy="565776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1011240"/>
            <a:ext cx="8136000" cy="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1011240"/>
            <a:ext cx="0" cy="565776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747280" y="1011240"/>
            <a:ext cx="0" cy="565776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6669000"/>
            <a:ext cx="8136000" cy="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6237360"/>
            <a:ext cx="4248000" cy="231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* Esta parte se omite en los proyectos de investigación documen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6669000"/>
            <a:ext cx="813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04000" y="3176640"/>
            <a:ext cx="1800360" cy="19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26028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xposición esquemática de los elementos con los que opera el método cient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3753000"/>
            <a:ext cx="1871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le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224172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NCE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296244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368136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440208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48000" y="512280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ND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20000" y="3537000"/>
            <a:ext cx="14032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istema teórico de la 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843280" y="2457360"/>
            <a:ext cx="504720" cy="151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843280" y="3247920"/>
            <a:ext cx="504720" cy="720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843280" y="3897360"/>
            <a:ext cx="576360" cy="7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43280" y="3968640"/>
            <a:ext cx="504720" cy="647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3280" y="3968640"/>
            <a:ext cx="504720" cy="1368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0360" y="2457360"/>
            <a:ext cx="792360" cy="935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0360" y="3247920"/>
            <a:ext cx="647640" cy="36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3897360"/>
            <a:ext cx="576360" cy="7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940360" y="4400280"/>
            <a:ext cx="576360" cy="215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940360" y="4905000"/>
            <a:ext cx="719280" cy="431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0920" y="1268280"/>
            <a:ext cx="8642160" cy="518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404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ipos de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24000" y="1484280"/>
          <a:ext cx="8532360" cy="4614840"/>
        </p:xfrm>
        <a:graphic>
          <a:graphicData uri="http://schemas.openxmlformats.org/drawingml/2006/table">
            <a:tbl>
              <a:tblPr/>
              <a:tblGrid>
                <a:gridCol w="1762560"/>
                <a:gridCol w="2219760"/>
                <a:gridCol w="974880"/>
                <a:gridCol w="1136880"/>
                <a:gridCol w="24382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o de clas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s de investig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de investigación u objetivos in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atori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la formulación de un probl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l planteamiento de hipóte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ón de variables independ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ic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l compara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 post-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de investig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gráfica (desarrollo de un tema específic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ón de variables independientes a partir de datos secund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cional a partir de datos secund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a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siva: estudio de caso (LONGITUDI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va: estudios muestrales y poblacionales (cens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RANSVERSAL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si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o pu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ósito de la investigación u objetivo ex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a o bás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la solución de problemas práct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una invención o mejora de productos exist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estigación tecnológ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900000" y="1023840"/>
          <a:ext cx="7772400" cy="6016680"/>
        </p:xfrm>
        <a:graphic>
          <a:graphicData uri="http://schemas.openxmlformats.org/drawingml/2006/table">
            <a:tbl>
              <a:tblPr/>
              <a:tblGrid>
                <a:gridCol w="1960560"/>
                <a:gridCol w="1392120"/>
                <a:gridCol w="1731960"/>
                <a:gridCol w="2687760"/>
              </a:tblGrid>
              <a:tr h="497160"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NTES DE INFORMACIÓN PARA EL TRABAJO INTELEC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plicación a la univers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 y Post grad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LIOTE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z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EROTECAS</a:t>
                      </a:r>
                      <a:r>
                        <a:rPr b="1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vistas y periódic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ó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r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roqu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dependencias y oficinas: privadas, gubernamentales, internacionales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 DE DOCUM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recept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clasificad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emisora (a otros centr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de servicio ( requerimientos de estudioso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OS</a:t>
                      </a:r>
                      <a:r>
                        <a:rPr b="1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diversos tip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ENCIA DE CARÁCTER DOC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ted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n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univers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a influencia informativa de todos los roles universi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profes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a influencia informativa dentro de círculos profes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social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junto de vivencias capitalizables como in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324000" y="260280"/>
            <a:ext cx="856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entury Gothic"/>
              </a:rPr>
              <a:t>Fuentes utilizables por el estudiante universitar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360" y="1977840"/>
            <a:ext cx="8229600" cy="41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s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ut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or su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asificación de las fuentes de inform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76040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38240" y="1778040"/>
            <a:ext cx="110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Prim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Secund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Terci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71640" y="262584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22400" y="2652840"/>
            <a:ext cx="95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Direc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direc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80000" y="3084480"/>
            <a:ext cx="71280" cy="587520"/>
          </a:xfrm>
          <a:custGeom>
            <a:avLst/>
            <a:gdLst>
              <a:gd name="textAreaLeft" fmla="*/ 45720 w 71280"/>
              <a:gd name="textAreaRight" fmla="*/ 71640 w 71280"/>
              <a:gd name="textAreaTop" fmla="*/ 15120 h 587520"/>
              <a:gd name="textAreaBottom" fmla="*/ 572400 h 58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2000" y="3040200"/>
            <a:ext cx="113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ráf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694040" y="2905560"/>
            <a:ext cx="611640" cy="2196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7560" y="3201840"/>
            <a:ext cx="616680" cy="702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84440" y="2765520"/>
            <a:ext cx="198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Bibliográficas, hemer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716360" y="3084120"/>
            <a:ext cx="576360" cy="7308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03520" y="2968560"/>
            <a:ext cx="184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conográficas, vide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97760" y="3184560"/>
            <a:ext cx="18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Fonográficas, aud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86080" y="3633840"/>
            <a:ext cx="616320" cy="702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114880" y="3516480"/>
            <a:ext cx="576360" cy="7272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17520" y="3400560"/>
            <a:ext cx="220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el conocimiento de la naturale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30480" y="3616200"/>
            <a:ext cx="20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el conocimiento de la socie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70280" y="4005360"/>
            <a:ext cx="71280" cy="587160"/>
          </a:xfrm>
          <a:custGeom>
            <a:avLst/>
            <a:gdLst>
              <a:gd name="textAreaLeft" fmla="*/ 45720 w 71280"/>
              <a:gd name="textAreaRight" fmla="*/ 71640 w 7128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41920" y="4032360"/>
            <a:ext cx="126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en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speci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465300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16400" y="4680000"/>
            <a:ext cx="162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lásicas o antigu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Actu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37228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30160" y="5327640"/>
            <a:ext cx="106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Form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form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14120" y="5229360"/>
            <a:ext cx="399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Bibliotecas, hemerotecas, archivos, centros de documentación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nformación, museo y audiencia de carácter doc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4360" y="576252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Medio ambiente universitario, profesional y soci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60280"/>
            <a:ext cx="860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étodos de invest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03280" y="1555920"/>
            <a:ext cx="51134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126828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Es el procedimiento riguroso formulado de una  manera lógica que el investigador debe seguir en la adquisición del cono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422100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anál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se inicia por la identificación de cada una de las partes que caracterizan una realidad.  De esta forma se establece la relación causa-efecto entre los elementos que componen el objeto de investig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50028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Método dedu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Proceso de conocimiento que se inicia por la observación de fenómenos de carácter general con el propósito de carácter particular contenidas explícitamente en la situación gene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270828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indu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se inicia por la observación de fenómenos particulares con el propósito de llegar a conclusiones y premisas de carácter general que pueden ser aplicadas a situaciones similares a la obser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198900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por el cual se perciben deliberadamente ciertos rasgos existentes en el objeto de cono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08720" y="3789360"/>
            <a:ext cx="1582920" cy="98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spectos metodo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uentes y técnicas de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/>
          <p:nvPr/>
        </p:nvCxnSpPr>
        <p:spPr>
          <a:xfrm>
            <a:off x="6877080" y="1916280"/>
            <a:ext cx="2160" cy="3798000"/>
          </a:xfrm>
          <a:prstGeom prst="bentConnector3">
            <a:avLst>
              <a:gd name="adj1" fmla="val 13500000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3203640" y="1125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1844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263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335772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4076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93080" y="4581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08000" y="907920"/>
            <a:ext cx="3384720" cy="2764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pectos metodológico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580536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Otros méto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El investigador puede proponer otros métodos como el método comparativo, método dialéctico, método empírico, método experimental, método estadístico,  método histórico, método sistemático, método exegético, método intuitivo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508464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sínt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procede de lo simple a lo complejo, de la causa a los efectos, de la parte al todo, de los principios a las consecu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5013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5734080"/>
            <a:ext cx="0" cy="214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66960" y="1197000"/>
            <a:ext cx="805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66960" y="2131920"/>
            <a:ext cx="171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7560" y="39988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AS FIC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84280" y="2408400"/>
            <a:ext cx="987480" cy="3770280"/>
          </a:xfrm>
          <a:custGeom>
            <a:avLst/>
            <a:gdLst>
              <a:gd name="textAreaLeft" fmla="*/ 631080 w 987480"/>
              <a:gd name="textAreaRight" fmla="*/ 987840 w 987480"/>
              <a:gd name="textAreaTop" fmla="*/ 98280 h 3770280"/>
              <a:gd name="textAreaBottom" fmla="*/ 3672000 h 377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0560" y="263052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cep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0560" y="5235480"/>
            <a:ext cx="13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La ficha de trabajo o conte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6760" y="31780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l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49800" y="2131920"/>
            <a:ext cx="447480" cy="2455920"/>
          </a:xfrm>
          <a:custGeom>
            <a:avLst/>
            <a:gdLst>
              <a:gd name="textAreaLeft" fmla="*/ 285840 w 447480"/>
              <a:gd name="textAreaRight" fmla="*/ 447840 w 447480"/>
              <a:gd name="textAreaTop" fmla="*/ 63720 h 2455920"/>
              <a:gd name="textAreaBottom" fmla="*/ 2392200 h 245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97280" y="2255760"/>
            <a:ext cx="127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 referencia a fu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97280" y="4116240"/>
            <a:ext cx="127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 trabajo /conte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0200" y="1695600"/>
            <a:ext cx="106560" cy="2008080"/>
          </a:xfrm>
          <a:custGeom>
            <a:avLst/>
            <a:gdLst>
              <a:gd name="textAreaLeft" fmla="*/ 68040 w 106560"/>
              <a:gd name="textAreaRight" fmla="*/ 106920 w 106560"/>
              <a:gd name="textAreaTop" fmla="*/ 52200 h 2008080"/>
              <a:gd name="textAreaBottom" fmla="*/ 1955880 h 200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9800" y="5000760"/>
            <a:ext cx="353880" cy="1293840"/>
          </a:xfrm>
          <a:custGeom>
            <a:avLst/>
            <a:gdLst>
              <a:gd name="textAreaLeft" fmla="*/ 226080 w 353880"/>
              <a:gd name="textAreaRight" fmla="*/ 354240 w 353880"/>
              <a:gd name="textAreaTop" fmla="*/ 33480 h 1293840"/>
              <a:gd name="textAreaBottom" fmla="*/ 1260360 h 129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40320" y="1571760"/>
            <a:ext cx="265932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bibl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hemer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arch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Aud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Vide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Icon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testimonio oral y escr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observación científ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0200" y="3822840"/>
            <a:ext cx="139680" cy="1001520"/>
          </a:xfrm>
          <a:custGeom>
            <a:avLst/>
            <a:gdLst>
              <a:gd name="textAreaLeft" fmla="*/ 89280 w 139680"/>
              <a:gd name="textAreaRight" fmla="*/ 140040 w 139680"/>
              <a:gd name="textAreaTop" fmla="*/ 25920 h 1001520"/>
              <a:gd name="textAreaBottom" fmla="*/ 97560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91360" y="3822840"/>
            <a:ext cx="30337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Textu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u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eña o infor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en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Mixta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43680" y="3705120"/>
            <a:ext cx="69840" cy="471600"/>
          </a:xfrm>
          <a:custGeom>
            <a:avLst/>
            <a:gdLst>
              <a:gd name="textAreaLeft" fmla="*/ 44640 w 69840"/>
              <a:gd name="textAreaRight" fmla="*/ 69840 w 69840"/>
              <a:gd name="textAreaTop" fmla="*/ 12240 h 471600"/>
              <a:gd name="textAreaBottom" fmla="*/ 459360 h 4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985160" y="3762360"/>
            <a:ext cx="1339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Contínu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Discontínu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48240" y="505944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aracteríst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48240" y="55594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nteg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43440" y="5435640"/>
            <a:ext cx="223920" cy="1122480"/>
          </a:xfrm>
          <a:custGeom>
            <a:avLst/>
            <a:gdLst>
              <a:gd name="textAreaLeft" fmla="*/ 143280 w 223920"/>
              <a:gd name="textAreaRight" fmla="*/ 224280 w 223920"/>
              <a:gd name="textAreaTop" fmla="*/ 29160 h 1122480"/>
              <a:gd name="textAreaBottom" fmla="*/ 1093320 h 112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41880" y="5373720"/>
            <a:ext cx="26100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ncabezado; tema y sub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dentificación de la fuente de loc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ontenido en una o varias cédu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3940200"/>
            <a:ext cx="5968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33360"/>
            <a:ext cx="896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450720" y="233280"/>
            <a:ext cx="9522000" cy="5587920"/>
            <a:chOff x="450720" y="233280"/>
            <a:chExt cx="9522000" cy="5587920"/>
          </a:xfrm>
        </p:grpSpPr>
        <p:sp>
          <p:nvSpPr>
            <p:cNvPr id="275" name=""/>
            <p:cNvSpPr/>
            <p:nvPr/>
          </p:nvSpPr>
          <p:spPr>
            <a:xfrm>
              <a:off x="907920" y="1071720"/>
              <a:ext cx="4470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0720" y="3425760"/>
              <a:ext cx="3500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LAS CITAS EN LA INVESTIG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22400" y="1697040"/>
              <a:ext cx="831960" cy="4103640"/>
            </a:xfrm>
            <a:custGeom>
              <a:avLst/>
              <a:gdLst>
                <a:gd name="textAreaLeft" fmla="*/ 531720 w 831960"/>
                <a:gd name="textAreaRight" fmla="*/ 832320 w 831960"/>
                <a:gd name="textAreaTop" fmla="*/ 106920 h 4103640"/>
                <a:gd name="textAreaBottom" fmla="*/ 3996720 h 41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84520" y="2201760"/>
              <a:ext cx="17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Concep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79600" y="4505400"/>
              <a:ext cx="175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Clases de 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27520" y="3857760"/>
              <a:ext cx="461880" cy="1942920"/>
            </a:xfrm>
            <a:custGeom>
              <a:avLst/>
              <a:gdLst>
                <a:gd name="textAreaLeft" fmla="*/ 295200 w 461880"/>
                <a:gd name="textAreaRight" fmla="*/ 462240 w 461880"/>
                <a:gd name="textAreaTop" fmla="*/ 50400 h 1942920"/>
                <a:gd name="textAreaBottom" fmla="*/ 189252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84720" y="4002120"/>
              <a:ext cx="388800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Textu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um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eñ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ención o comenta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Mixt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36520" y="233280"/>
              <a:ext cx="845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Principales instrumentos de la investig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84360" y="306360"/>
            <a:ext cx="8245440" cy="15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04920" y="37782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L USO DE LAS 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1644480"/>
            <a:ext cx="576000" cy="4789800"/>
          </a:xfrm>
          <a:custGeom>
            <a:avLst/>
            <a:gdLst>
              <a:gd name="textAreaLeft" fmla="*/ 367920 w 576000"/>
              <a:gd name="textAreaRight" fmla="*/ 576000 w 576000"/>
              <a:gd name="textAreaTop" fmla="*/ 124920 h 4789800"/>
              <a:gd name="textAreaBottom" fmla="*/ 4664880 h 478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1689120"/>
            <a:ext cx="230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 y caracterís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90920" y="2711520"/>
            <a:ext cx="26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las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66880" y="49212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 y caracterís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225432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67080" y="2406600"/>
            <a:ext cx="3200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otas de referencia a  fu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otas de ampliación de tex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3701880"/>
            <a:ext cx="228600" cy="2732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920 h 2732400"/>
              <a:gd name="textAreaBottom" fmla="*/ 2661480 h 273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95680" y="3701880"/>
            <a:ext cx="198144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odalidades sobre su colo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odalidades en cuanto a la anotación de la fu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013520" y="3235320"/>
            <a:ext cx="73080" cy="1152360"/>
          </a:xfrm>
          <a:custGeom>
            <a:avLst/>
            <a:gdLst>
              <a:gd name="textAreaLeft" fmla="*/ 46800 w 73080"/>
              <a:gd name="textAreaRight" fmla="*/ 73440 w 730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4921200"/>
            <a:ext cx="92160" cy="1655640"/>
          </a:xfrm>
          <a:custGeom>
            <a:avLst/>
            <a:gdLst>
              <a:gd name="textAreaLeft" fmla="*/ 59040 w 92160"/>
              <a:gd name="textAreaRight" fmla="*/ 92520 w 921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3216240"/>
            <a:ext cx="1981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 pie de pag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l final del capí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l final de la o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5016600"/>
            <a:ext cx="22860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de refer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contín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 d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re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ruz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06360"/>
            <a:ext cx="8928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260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uadro resumen principales técnicas de investigación empírica o de ca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84360" y="1538280"/>
          <a:ext cx="8135640" cy="5203800"/>
        </p:xfrm>
        <a:graphic>
          <a:graphicData uri="http://schemas.openxmlformats.org/drawingml/2006/table">
            <a:tbl>
              <a:tblPr/>
              <a:tblGrid>
                <a:gridCol w="3747960"/>
                <a:gridCol w="43876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es técnicas de investig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if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La técnica de observación científ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La observación no estructu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La técnica de observación estructu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Técnica de observación particip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Técnica de observación no particip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Técnica de observación experim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Las técnicas generales de testimonio oral y escr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Técnica de encue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Técnica de muestreo y elaboración de cuestion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Técnica de ent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Técnicas estad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Técnicas de estudios de ca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Técnicas jurídicas de captura y sistematización de inform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Técnicas de captura, sistematización  permanente de información (sistemática juríd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Técnica de captura  y sistematización  ocasional de in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Técnicas  jurídicas de análisis. Presentación y divulgación de informaciones (Informática jurídic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asificación y moda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os y manejo de fichas, citas y no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grayscl/>
          </a:blip>
          <a:srcRect l="0" t="0" r="4610" b="0"/>
          <a:stretch/>
        </p:blipFill>
        <p:spPr>
          <a:xfrm>
            <a:off x="4335480" y="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98560" y="436572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El Conocimi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373720"/>
            <a:ext cx="716436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630252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fesor : Gabriel Alvarez Undur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>
            <a:grayscl/>
            <a:lum bright="24000"/>
          </a:blip>
          <a:stretch/>
        </p:blipFill>
        <p:spPr>
          <a:xfrm>
            <a:off x="3708360" y="852480"/>
            <a:ext cx="5437080" cy="46879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>
            <a:grayscl/>
            <a:lum bright="24000"/>
          </a:blip>
          <a:stretch/>
        </p:blipFill>
        <p:spPr>
          <a:xfrm>
            <a:off x="3348000" y="692280"/>
            <a:ext cx="4438800" cy="48956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9280" y="2347920"/>
            <a:ext cx="69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Gothic"/>
              </a:rPr>
              <a:t>La Investigación Juríd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29080" y="5732640"/>
            <a:ext cx="55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ofesor: Gabriel Alvarez Undurr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189000"/>
            <a:ext cx="608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iclo metodológico del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5280120"/>
            <a:ext cx="17287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áted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Semi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nvestigación monográf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711760" y="5280120"/>
            <a:ext cx="10191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ientíf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92800" y="5280120"/>
            <a:ext cx="12189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Doc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87280" y="5280120"/>
            <a:ext cx="33055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V. Enseñanza del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Didáctica del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30920" y="4251240"/>
            <a:ext cx="172872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ilóso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mpa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Histó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1760" y="4251240"/>
            <a:ext cx="10191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rí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92800" y="4251240"/>
            <a:ext cx="12189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Jur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4251240"/>
            <a:ext cx="330552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II. Conocimientos del Der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ocimiento jurídico- Especulativo del Derec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(Filósofo-historiad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30920" y="3435480"/>
            <a:ext cx="172872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Hermenéu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na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Princip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11760" y="3435480"/>
            <a:ext cx="101916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Positiv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92800" y="3435480"/>
            <a:ext cx="121896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Ju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87280" y="3435480"/>
            <a:ext cx="330552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I. Aplicación del Derec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 Ejecutiva del derec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30920" y="2619360"/>
            <a:ext cx="17287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or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atu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suetudi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1760" y="2619360"/>
            <a:ext cx="101916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é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2800" y="2619360"/>
            <a:ext cx="121896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Legisl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2619360"/>
            <a:ext cx="33055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711360" indent="-711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. Formación del Derec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Genética del Derec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11760" y="1628640"/>
            <a:ext cx="274788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sp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2800" y="1628640"/>
            <a:ext cx="121896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ujetos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artífi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87280" y="1628640"/>
            <a:ext cx="330552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o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87280" y="1628640"/>
            <a:ext cx="7272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87280" y="261936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87280" y="343548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87280" y="425124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7280" y="528012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6308640"/>
            <a:ext cx="7272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87280" y="1628640"/>
            <a:ext cx="0" cy="450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492800" y="1628640"/>
            <a:ext cx="0" cy="45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11760" y="1628640"/>
            <a:ext cx="0" cy="45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459640" y="1628640"/>
            <a:ext cx="0" cy="450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30920" y="2619360"/>
            <a:ext cx="0" cy="368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189000"/>
            <a:ext cx="630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uentes del conocimient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55640" y="1413000"/>
          <a:ext cx="7488360" cy="4922640"/>
        </p:xfrm>
        <a:graphic>
          <a:graphicData uri="http://schemas.openxmlformats.org/drawingml/2006/table">
            <a:tbl>
              <a:tblPr/>
              <a:tblGrid>
                <a:gridCol w="2028960"/>
                <a:gridCol w="850680"/>
                <a:gridCol w="2664000"/>
                <a:gridCol w="1944720"/>
              </a:tblGrid>
              <a:tr h="6476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referentes a las formas y a la vida de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MEDIAT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elaboradas por un intermediario o agente y para fines científicos en orden a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NMEDIA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stadas sin la intervención de un intermediario que persiga fines científicos en orden a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ch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atura jurídic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en sentido estricto: obras  de tratadistas, comentaristas, sintetizadores, etc., privad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pilación , repertorios, antologías, etc. De fuentes juríd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ducta humana de tipo jurídic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stumbres jurídic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egislación </a:t>
                      </a:r>
                      <a:r>
                        <a:rPr b="1" i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en sentido genérico: códigos, leyes, decretos-leyes, decretos con fuerza de ley, ordenanzas, reglamentos, decretos, etc., dictados en ejercicio de la Potestad Legislativa o Reglamentaria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 consuetudina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oluciones judiciales 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generales: auto-acordados; especiales: sentencias, autos y decreto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rminología juríd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franes y aforismos, locuciones clásicas de contenido jurí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mularios; registros , fórmulas, asientos, fichas, minutas de contenido jurídi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xtos de actas o contratos o de testimonios jurí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blecimientos, locales, aparatos, muebles y demás implementos, para la realización de sesiones, actos, reuniones, etc. o para impartir sanciones o premios de tipo jurí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tributos, emblemas, distintivos, etc. de instituciones o personas para fines jurí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ros objetos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monedas, sellos, etc. De esa índole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755640" y="3357720"/>
            <a:ext cx="748836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7164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3528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826920" y="1197000"/>
          <a:ext cx="7488360" cy="4922640"/>
        </p:xfrm>
        <a:graphic>
          <a:graphicData uri="http://schemas.openxmlformats.org/drawingml/2006/table">
            <a:tbl>
              <a:tblPr/>
              <a:tblGrid>
                <a:gridCol w="2028960"/>
                <a:gridCol w="851040"/>
                <a:gridCol w="2663640"/>
                <a:gridCol w="1944720"/>
              </a:tblGrid>
              <a:tr h="6476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 INDIRECT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no referentes específica, pero si conexamente las formas y a la vida de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MEDIAT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producidas por un intermediario  para fines científicos y, aún, artísticos, no-jurídicos en sí, pero con proyección jurídic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NMEDIA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n noticia accidental o secundaria de lo jurídico o de  lo científico o social con proyección jurídica, sin la intervención finalista de un agen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ch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atura sobre Ciencias Políticas, Ciencias Naturales, Sociología, Psicología, Ecología, Filosofía, Historia, Moral, Religión, Economía, Higiene, Previsión, etc., literatura social en una palab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pilación , repertorios, antologías, etc. De fuentes normativas no juríd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ducta humana de tipo pre, proto, anti y meta-juríd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sus testimonios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éticas, higiénicas , económicas, técnicas, religiosas, sociales, etc, </a:t>
                      </a:r>
                      <a:r>
                        <a:rPr b="0" i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sus testimoni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oluciones, instrucciones, órdenes, etc.,de carácter administr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rminología política, administrativa, económico-técnico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franes, aforismos, locuciones, etc, </a:t>
                      </a:r>
                      <a:r>
                        <a:rPr b="0" i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de contenido soci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ponim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iezas orales, escritas, grabadas, fotografías, etc de creaciones intelectuales de autoridades o particulares de contenido pre, proto, anti y meta jurídic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bjetos individualizados en I, B, b” pero de contenido pre, proto, anti o meta jurídi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numentos históricos , obras artísticas, restos etno-arqueológic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ros objetos representativos de la Vida Social, la Cultura y  la Civilizació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0" y="189000"/>
            <a:ext cx="630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uentes del conocimient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6920" y="3141720"/>
            <a:ext cx="7490160" cy="295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4328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7236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0836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24000" y="189000"/>
            <a:ext cx="8569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relación  (Interrogantes, Objetivos, Hipótesis y Títulos de Investig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137360" y="3809880"/>
            <a:ext cx="181440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oneda única Latinoamerican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mpacto sobre la estabilidad económica y social de los países de esa reg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040" y="3809880"/>
            <a:ext cx="174132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creación de una moneda única para los países latinoamericanos afectará a la estabilidad y desarrollo de los mismos en el orden económico y soc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75080" y="3809880"/>
            <a:ext cx="192096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izar el impacto económico y social que se pudiese generar sobre la estabilidad y desarrollo de los países latinoamericanos como consecuencia de la creación de una moneda única para esa reg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92360" y="3809880"/>
            <a:ext cx="178272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impacto económico y social tendrá la creación de una moneda única latinoamericana sobre la estabilidad y desarrollo económico de los países de esa reg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37360" y="1805040"/>
            <a:ext cx="181440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sponsabilidad en la acción procesal civil en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96040" y="1805040"/>
            <a:ext cx="174132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 ejercicio de la acción procesal civil  por parte del Juez es condición necesaria para el cumplimiento de la obligación pública de proveer y dictar sent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75080" y="1805040"/>
            <a:ext cx="192096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r la condición necesaria para que el Juez cumpla con la obligación pública de proveer y dictar sente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92360" y="1805040"/>
            <a:ext cx="178272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Cuál  es la condición necesaria para que el Juez cumpla la obligación pública de proveer y dictar sentenci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137360" y="1305000"/>
            <a:ext cx="18144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IT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96040" y="1305000"/>
            <a:ext cx="17413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PO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75080" y="1305000"/>
            <a:ext cx="192096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92360" y="1305000"/>
            <a:ext cx="17827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TERROG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1305000"/>
            <a:ext cx="7259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805040"/>
            <a:ext cx="72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809880"/>
            <a:ext cx="72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6453360"/>
            <a:ext cx="7259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1305000"/>
            <a:ext cx="0" cy="5148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7508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9604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13736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951760" y="1305000"/>
            <a:ext cx="0" cy="5148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307800"/>
            <a:ext cx="802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triz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9640" y="1773360"/>
          <a:ext cx="8064720" cy="4117680"/>
        </p:xfrm>
        <a:graphic>
          <a:graphicData uri="http://schemas.openxmlformats.org/drawingml/2006/table">
            <a:tbl>
              <a:tblPr/>
              <a:tblGrid>
                <a:gridCol w="1881360"/>
                <a:gridCol w="2112840"/>
                <a:gridCol w="1919520"/>
                <a:gridCol w="2151000"/>
              </a:tblGrid>
              <a:tr h="44928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terrog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bjetivo 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ipót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Cuál es el nivel de eficacia del Plan de prevención y erradicación del trabajo infantil y adolescente en Chi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nalizar el nivel de eficacia del Plan de prevención y erradicación del trabajo infantil y adolescente en C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 Plan de prevención y erradicación del trabajo infantil y adolescente en Chile es ineficaz, puesto que aún se mantienen altos índices de és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lan de prevención y erradicación del trabajo infantil y adolescente en Chile. Aplicación y efica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1" name=""/>
          <p:cNvSpPr/>
          <p:nvPr/>
        </p:nvSpPr>
        <p:spPr>
          <a:xfrm>
            <a:off x="0" y="479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189000"/>
            <a:ext cx="802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triz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219640" y="4508640"/>
            <a:ext cx="2016360" cy="17380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0" y="22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470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755640" y="1316160"/>
          <a:ext cx="7843680" cy="5281560"/>
        </p:xfrm>
        <a:graphic>
          <a:graphicData uri="http://schemas.openxmlformats.org/drawingml/2006/table">
            <a:tbl>
              <a:tblPr/>
              <a:tblGrid>
                <a:gridCol w="2413080"/>
                <a:gridCol w="2712960"/>
                <a:gridCol w="2717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regu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bjetivos específ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en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.- ¿Cuál es la política social estatal en materia de erradicación del trabajo infantil en Chil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.- Describir cuál es la política social estatal en materia de erradicación del trabajo infantil en Ch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: Política social estatal y erradicación del trabajo infantil en Ch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.- ¿Cómo se ha aplicado el Plan de prevención y erradicación del trabajo infantil y adolescente en Chil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.- Analizar la forma en que se ha aplicado esta política en Chile (criterio orgánico y funcional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I: Aplicación del Plan de prevención y erradicación del trabajo infantil y adolescente en 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.- ¿Cuáles han sido los resultados de esta aplicació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.- Precisar cuáles han sido los resultados de esta aplic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II: Resultados de la aplicación del Plan de prevención y erradicación del trabajo infantil y adolescente en 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7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que establece la relación entre los principales elementos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539640" y="1413000"/>
          <a:ext cx="8229600" cy="4886280"/>
        </p:xfrm>
        <a:graphic>
          <a:graphicData uri="http://schemas.openxmlformats.org/drawingml/2006/table">
            <a:tbl>
              <a:tblPr/>
              <a:tblGrid>
                <a:gridCol w="2170080"/>
                <a:gridCol w="194472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terrog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bjetivo 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ót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¿Cuál es el nivel de influencia del dumping social en el régimen jurídico del trabajo infantil en Chile y Venezuela; qué políticas y programas sociales han establecido ambos país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alizar la influencia de dumping social en la situación sociojurídica y en la formulación de políticas y programas sociales del trabajo infantil en Chile y Venezu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dumping social, como fenómeno propio de la globalización y del modelo económico exógeno a Chile y Venezuela , que regula el mercado internacional, determina las normas jurídicas, las políticas y programas sociales en el tratamiento del trabajo infant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Trabajo Infantil en Chile y Venezuela, su problemática Sociojurídica y su relación con el Dum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07552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que establece la relación entre  preguntas secundarias y objetivo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95280" y="1341360"/>
          <a:ext cx="8497800" cy="5424480"/>
        </p:xfrm>
        <a:graphic>
          <a:graphicData uri="http://schemas.openxmlformats.org/drawingml/2006/table">
            <a:tbl>
              <a:tblPr/>
              <a:tblGrid>
                <a:gridCol w="4321080"/>
                <a:gridCol w="4176720"/>
              </a:tblGrid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gu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 específ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antecedentes históricos  tiene el trabajo infantil en ambos país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es  son los enfoques teóricos contrapuestos respecto del problem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En qué consiste el enfoque metodológico de la investigación sociojurídic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tipos de trabajo infantil se dan en ambos país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En qué consiste el dumping social en el trabajo infantil en Chile y Venezuel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 es el régimen jurídico del trabajo de menores en Chile y Venezuel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es son las propuestas de políticas y programas sociales en la materia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r los antecedentes históricos del trabajo infantil en Chile y Venezue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los enfoques teóricos existen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bir la metodología de la investigación sociojuríd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ar los tipos de trabajo infantil en Chile y Venezue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r los aspectos característicos del dumping social en estos paí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r comparativamente el régimen jurídico del trabajo infantil en ambos paí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ecer las políticas y programas sociales de ambos países en la materi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075520" cy="4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de operacionalización de las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46040" y="1628640"/>
          <a:ext cx="8373960" cy="4660920"/>
        </p:xfrm>
        <a:graphic>
          <a:graphicData uri="http://schemas.openxmlformats.org/drawingml/2006/table">
            <a:tbl>
              <a:tblPr/>
              <a:tblGrid>
                <a:gridCol w="2016000"/>
                <a:gridCol w="2376360"/>
                <a:gridCol w="2232000"/>
                <a:gridCol w="17496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ót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r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dic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dumping social, como fenómeno propio de la globalización y del modelo económico exógeno a Chile y Venezuela, que regula el mercado internacional, determina las normas jurídicas, las políticas y programas sociales en el tratamiento del trabajo infan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V. independien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umping soc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dística sobre trabajo infantil en Chile y Venezuela (discriminando sus distintos tip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abores productivas que genera el trabajo infa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aracterísticas del modelo económico en Chile y Venezuel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ores nacionales e internacionales, sus posicion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 internacionales (Declaración universal de los derechos humanos, convención internacional de los derechos del niño, Declaración de los derechos del Niño, Pacto internacional de derechos Civiles y políticos, Pacto internacional de derechos económicos sociales y culturales, Pacto de San José de Costa Rica, Convenio 138 y 182 de la OIT) y nacionales de ambos países (Constitución, Leyes de menores y de familia, Legislación laboral,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x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vestig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entes formales y mater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cu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ntrevistas, etc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1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V. Dependien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, políticas y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grama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43280" y="260280"/>
            <a:ext cx="63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ipos de Conoc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989000"/>
            <a:ext cx="51116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IENT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213000"/>
            <a:ext cx="518472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RÍTICO-REFLEX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508640"/>
            <a:ext cx="511164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E-CIENTÍFICO O SENSO-PERCEP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177624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GE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STE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4397400"/>
            <a:ext cx="2987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ST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OG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E SENTIDO COMÚ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ITOL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364000" y="4613040"/>
            <a:ext cx="792360" cy="360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4973760"/>
            <a:ext cx="86364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973760"/>
            <a:ext cx="792360" cy="5047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4000" y="4973760"/>
            <a:ext cx="792360" cy="936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19640" y="2131920"/>
            <a:ext cx="936720" cy="1447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2276640"/>
            <a:ext cx="936720" cy="144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404640"/>
            <a:ext cx="5761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ronograma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42920" y="1628640"/>
          <a:ext cx="7705800" cy="4680000"/>
        </p:xfrm>
        <a:graphic>
          <a:graphicData uri="http://schemas.openxmlformats.org/drawingml/2006/table">
            <a:tbl>
              <a:tblPr/>
              <a:tblGrid>
                <a:gridCol w="25218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41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ivida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RZ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queo bibliográf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aboración del marco teó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aboración de los instru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ueba de los instrumen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lección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cesamiento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álisis de los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dacción del borr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visión y corrección del borr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sentación del 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184464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LIMIN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76360" y="2509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structura de una tesis (monograf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4000" y="2176560"/>
            <a:ext cx="12967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TÍTULO DE LA T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AGRADECIMIENTO-RECONOCIMI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PRÓLOGO (resumen del contenido de la tes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SIGLAS ESPECIALES (si fuera necesario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ÍNDICE GEN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36720" y="2176560"/>
            <a:ext cx="1655640" cy="22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I. INTROD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-(síntesis del proceso de la investigación)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Planteamiento del problema: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 límites, valoración, (importancia). ¿Qué?  ¿Por qué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Proceso a seguir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 ¿Cóm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Objetivo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.¿Para qué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13440" y="2176560"/>
            <a:ext cx="165564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III.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 CONCLUSIÓN: OBJETIVO DE LA INVESTIGACIÓN: </a:t>
            </a: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Formalización de la te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esultado de la investigación: Solución del probl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Confirmación de la tesis: Objetivo lo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mplicaciones de la investig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RECOMEND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92360" y="2176560"/>
            <a:ext cx="2449800" cy="37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entury Gothic"/>
              </a:rPr>
              <a:t>II. CUERPO DE LA T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ITUACIÓN DE LA INVESTIG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Status Quaestioni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Justificación del problema: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antecedentes del mis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Revisión bibliográfica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situación actual del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Ubicación del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FUNDAMENTOS DE LA INVESTIGACIÓN (PROBLEM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FORMULACIÓN DE LA HIPÓTESIS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variables, Sistema de hipótesis, tesi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INTERPRETACIÓN DE LOS DATOS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elaboración del diseño para la demostración . Análisis de los datos, document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CONTRASTACIÓN-CONFIRMACIÓN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crítica hermenéutic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69080" y="2176560"/>
            <a:ext cx="108108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entury Gothic"/>
              </a:rPr>
              <a:t>POSTSCRIPTUM-EPILOGO-EXCURS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NOTAS BIBLIOGRÁFICAS-notas “ad calcem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BIBLIOGRAFÍA: General, (fundamental, especia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APÉNDICES,INDICES: de materias, onomástic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TABLAS. GRÁFICAS. ANEX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6720" y="2104920"/>
            <a:ext cx="122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413080" y="6208560"/>
            <a:ext cx="46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O DE LA TESIS – ESTRUCTURA – ESQUEM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96720" y="1816200"/>
            <a:ext cx="8425080" cy="4321080"/>
            <a:chOff x="396720" y="1816200"/>
            <a:chExt cx="8425080" cy="4321080"/>
          </a:xfrm>
        </p:grpSpPr>
        <p:sp>
          <p:nvSpPr>
            <p:cNvPr id="395" name=""/>
            <p:cNvSpPr/>
            <p:nvPr/>
          </p:nvSpPr>
          <p:spPr>
            <a:xfrm>
              <a:off x="1620720" y="2105280"/>
              <a:ext cx="0" cy="4032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20720" y="6137280"/>
              <a:ext cx="5977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7597800" y="2105280"/>
              <a:ext cx="0" cy="4032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97800" y="2105280"/>
              <a:ext cx="1224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720" y="2105280"/>
              <a:ext cx="0" cy="24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821800" y="2105280"/>
              <a:ext cx="0" cy="24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3421080" y="1816200"/>
              <a:ext cx="0" cy="1944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21080" y="1816200"/>
              <a:ext cx="244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69080" y="1816200"/>
              <a:ext cx="0" cy="187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21080" y="4410360"/>
              <a:ext cx="0" cy="1511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21080" y="5921640"/>
              <a:ext cx="244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69080" y="4410360"/>
              <a:ext cx="0" cy="1511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421080" y="1603440"/>
            <a:ext cx="25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ARROLLO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524720" y="1816200"/>
            <a:ext cx="13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042920" y="4294080"/>
            <a:ext cx="7848720" cy="244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42920" y="1414440"/>
            <a:ext cx="7848720" cy="1511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42920" y="2925720"/>
            <a:ext cx="7848720" cy="136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51280" y="1414440"/>
            <a:ext cx="5040360" cy="5327640"/>
          </a:xfrm>
          <a:prstGeom prst="rect">
            <a:avLst/>
          </a:prstGeom>
          <a:solidFill>
            <a:srgbClr val="ffffff">
              <a:alpha val="3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867280" y="2924280"/>
            <a:ext cx="3024360" cy="136980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71640" y="1701720"/>
            <a:ext cx="30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ELEMENTOS INTRODUCTO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73680" y="1473120"/>
            <a:ext cx="319068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ORT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DEDICA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RÓ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GRADEC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71640" y="3255840"/>
            <a:ext cx="32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CUERP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19440" y="30351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19440" y="349236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19440" y="3873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12120" y="2957400"/>
            <a:ext cx="152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SECCIÓN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SECCIÓN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580000" y="2925720"/>
            <a:ext cx="1726560" cy="457200"/>
            <a:chOff x="5580000" y="2925720"/>
            <a:chExt cx="1726560" cy="457200"/>
          </a:xfrm>
        </p:grpSpPr>
        <p:sp>
          <p:nvSpPr>
            <p:cNvPr id="422" name=""/>
            <p:cNvSpPr/>
            <p:nvPr/>
          </p:nvSpPr>
          <p:spPr>
            <a:xfrm>
              <a:off x="5580000" y="292572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84560" y="303984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580000" y="3359160"/>
            <a:ext cx="1726560" cy="457200"/>
            <a:chOff x="5580000" y="3359160"/>
            <a:chExt cx="1726560" cy="457200"/>
          </a:xfrm>
        </p:grpSpPr>
        <p:sp>
          <p:nvSpPr>
            <p:cNvPr id="425" name=""/>
            <p:cNvSpPr/>
            <p:nvPr/>
          </p:nvSpPr>
          <p:spPr>
            <a:xfrm>
              <a:off x="5580000" y="335916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84560" y="347328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580000" y="3790800"/>
            <a:ext cx="1726560" cy="457200"/>
            <a:chOff x="5580000" y="3790800"/>
            <a:chExt cx="1726560" cy="457200"/>
          </a:xfrm>
        </p:grpSpPr>
        <p:sp>
          <p:nvSpPr>
            <p:cNvPr id="428" name=""/>
            <p:cNvSpPr/>
            <p:nvPr/>
          </p:nvSpPr>
          <p:spPr>
            <a:xfrm>
              <a:off x="5580000" y="379080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84560" y="390492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332000" y="5014800"/>
            <a:ext cx="230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ELEMENTOS F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16000" y="260280"/>
            <a:ext cx="66038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Elementos constitutivos de los trabajos cient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282920" y="299880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82920" y="343044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82920" y="386244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7236000" y="29984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24360" y="4438800"/>
            <a:ext cx="3743280" cy="19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ONCLU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COMEND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PÉ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NE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BIBLIOGRAF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 DE  NOMBRES, DE CUADROS, ETC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476360" y="49068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QUEMA BÁSICO DE UN INFORME  DE INVESTIGACIÓ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09600" y="2400480"/>
            <a:ext cx="8750160" cy="3408120"/>
            <a:chOff x="309600" y="2400480"/>
            <a:chExt cx="8750160" cy="3408120"/>
          </a:xfrm>
        </p:grpSpPr>
        <p:sp>
          <p:nvSpPr>
            <p:cNvPr id="439" name=""/>
            <p:cNvSpPr/>
            <p:nvPr/>
          </p:nvSpPr>
          <p:spPr>
            <a:xfrm>
              <a:off x="4024440" y="3611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5364000"/>
              <a:ext cx="7938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05320" y="3840120"/>
              <a:ext cx="79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75080" y="2687760"/>
              <a:ext cx="7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4000" y="2400480"/>
              <a:ext cx="33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TRODUC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9600" y="3611520"/>
              <a:ext cx="33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SARROL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5280" y="5135400"/>
              <a:ext cx="336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CLU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43400" y="2400480"/>
              <a:ext cx="47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sentación de la investig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19720" y="345924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álisis de la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19720" y="391644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Los capítulos y subcapítu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19720" y="4983120"/>
              <a:ext cx="417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posición de resultados y logros de la investig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9000" y="3916440"/>
              <a:ext cx="7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68360" y="333360"/>
            <a:ext cx="8280360" cy="136692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20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RODUCCIÓN ( NO ES CAPÍTU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merar en el margen SUPERIOR de cada página y al centro con números ÁRAB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: 1, 2, 3,4,5, 6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9800" y="304920"/>
            <a:ext cx="8350200" cy="89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004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67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PÍTU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numera de acuerdo al orden de los capítulos  (ej: Capítulo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780000" y="4005360"/>
            <a:ext cx="5256000" cy="2852640"/>
            <a:chOff x="3780000" y="4005360"/>
            <a:chExt cx="5256000" cy="2852640"/>
          </a:xfrm>
        </p:grpSpPr>
        <p:sp>
          <p:nvSpPr>
            <p:cNvPr id="458" name=""/>
            <p:cNvSpPr/>
            <p:nvPr/>
          </p:nvSpPr>
          <p:spPr>
            <a:xfrm>
              <a:off x="3780000" y="4049640"/>
              <a:ext cx="2089080" cy="280836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1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2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3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4.1.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4. 2.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14160" y="42926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apítulo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02880" y="4005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742520" y="414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04000" y="4049640"/>
              <a:ext cx="2232000" cy="280836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1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2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3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4.1.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4. 2.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8520" y="42926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apítulo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742880" y="4005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53440" y="450864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Título del capít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50880" y="458136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Título del capít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403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ES  ( NO ES CAPÍTU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numera de acuerdo al orden de las  conclus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3004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5292720" y="1916280"/>
            <a:ext cx="3456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370480" y="1916280"/>
            <a:ext cx="388152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a hoja de 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os márge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ex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ab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g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Notas de pie de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itas textos espe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19280" y="1916280"/>
            <a:ext cx="3240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620640"/>
            <a:ext cx="67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nvestigación en sentido 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63640" y="1987560"/>
            <a:ext cx="2863800" cy="347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rganizació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elimi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uerpo de traba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aterial complementario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92360" y="2924280"/>
            <a:ext cx="705636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1. Presentación general del trabaj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Formato ge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Escritu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Encuadernamiento o anil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. Introduc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Planteamiento y formulación del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Justif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Hipótesis y/o pregunta directr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Metod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806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uerpo o desarrol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rden y equilibrio de cada parte o capít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resentación de las ideas principales y secunda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herencia y logic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ertinencia de la información recolect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nálisis e interpretación de los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portes pers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76720" y="2565360"/>
            <a:ext cx="5616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4149720"/>
            <a:ext cx="2592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00720" y="3429000"/>
            <a:ext cx="2592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00720" y="2637000"/>
            <a:ext cx="2592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2565360"/>
            <a:ext cx="2592360" cy="41036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1125360"/>
            <a:ext cx="5616360" cy="13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1125360"/>
            <a:ext cx="2592360" cy="136692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1341360"/>
            <a:ext cx="221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ocimiento concreto-sen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4221000"/>
            <a:ext cx="24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ocimiento r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43200" y="1181160"/>
            <a:ext cx="301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ens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ercep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pres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2852640"/>
            <a:ext cx="210672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Ju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Razon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Leyes y catego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i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eo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15200" y="2637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er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bstr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2360" y="3429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Positivo -  Neg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eral -   Sin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80280" y="4221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ductivo  Indu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nálisis   Sínt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7640" y="260280"/>
            <a:ext cx="7596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eso del conocimiento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2637000"/>
            <a:ext cx="5473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3429000"/>
            <a:ext cx="5473440" cy="64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4149720"/>
            <a:ext cx="5473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4. Conclus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Síntesis integradora de las ideas esboza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Recomendaciones y/o sugerenc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5. Aparato crític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Empleo y elaboración de las ci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Funcionalidad y presentación de las no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6. Bibliografí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Orden y completación de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7. Índi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Presentación y ubic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8. Apéndice y/o anex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Funcionalidad y present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9. Ortografía y reda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18920" y="465120"/>
            <a:ext cx="64832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rmato para la evaluación de exposiciones 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579600" y="1413000"/>
          <a:ext cx="8024760" cy="5018040"/>
        </p:xfrm>
        <a:graphic>
          <a:graphicData uri="http://schemas.openxmlformats.org/drawingml/2006/table">
            <a:tbl>
              <a:tblPr/>
              <a:tblGrid>
                <a:gridCol w="2568600"/>
                <a:gridCol w="546120"/>
                <a:gridCol w="546120"/>
                <a:gridCol w="549360"/>
                <a:gridCol w="541080"/>
                <a:gridCol w="546120"/>
                <a:gridCol w="544680"/>
                <a:gridCol w="547560"/>
                <a:gridCol w="544680"/>
                <a:gridCol w="546120"/>
                <a:gridCol w="544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mbre  del 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sentación pers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no de vo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itmo de exposi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nunci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minio de si m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tiv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ocabul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minio del conten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enguaje corpo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xplic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ursos audiovisu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rganización y coh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trol del 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clusiones y/o cier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27280" y="2565360"/>
            <a:ext cx="0" cy="432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24360" y="2565360"/>
            <a:ext cx="0" cy="432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79280" y="2276640"/>
            <a:ext cx="8964720" cy="2933280"/>
            <a:chOff x="179280" y="2276640"/>
            <a:chExt cx="8964720" cy="2933280"/>
          </a:xfrm>
        </p:grpSpPr>
        <p:sp>
          <p:nvSpPr>
            <p:cNvPr id="88" name=""/>
            <p:cNvSpPr/>
            <p:nvPr/>
          </p:nvSpPr>
          <p:spPr>
            <a:xfrm>
              <a:off x="179280" y="2276640"/>
              <a:ext cx="115272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sen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74920" y="2276640"/>
              <a:ext cx="115236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lóg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71640" y="2276640"/>
              <a:ext cx="115272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Análisis y sínt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67280" y="2276640"/>
              <a:ext cx="115236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científ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64000" y="2276640"/>
              <a:ext cx="1151280" cy="477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Hipót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59640" y="2276640"/>
              <a:ext cx="1152360" cy="477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Teor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83640" y="2276640"/>
              <a:ext cx="1260360" cy="550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Desarrollo del conocimiento científ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3200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2436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2728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1672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1964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12000" y="256392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5640" y="3284640"/>
              <a:ext cx="107964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Sentid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16360" y="3284640"/>
              <a:ext cx="1224000" cy="550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ceptos  juicios  conclusion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19640" y="3284640"/>
              <a:ext cx="107928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Métodos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2720" y="3284640"/>
              <a:ext cx="107928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cept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2000" y="4579920"/>
              <a:ext cx="107928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Aspectos superficiales de las co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92720" y="4579920"/>
              <a:ext cx="1224000" cy="63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Formas de pensamien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51280" y="4579920"/>
              <a:ext cx="122400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Procedimientos lógicos y técnic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29080" y="4579920"/>
              <a:ext cx="107928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Esencia de la naturaleza de las co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2000" y="2852640"/>
              <a:ext cx="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19640" y="2852640"/>
              <a:ext cx="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3528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3200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0072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0360" y="4003560"/>
              <a:ext cx="0" cy="5760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6551280" y="2168280"/>
              <a:ext cx="215640" cy="1584360"/>
            </a:xfrm>
            <a:custGeom>
              <a:avLst/>
              <a:gdLst>
                <a:gd name="textAreaLeft" fmla="*/ 0 w 215640"/>
                <a:gd name="textAreaRight" fmla="*/ 151200 w 215640"/>
                <a:gd name="textAreaTop" fmla="*/ 65880 h 1584360"/>
                <a:gd name="textAreaBottom" fmla="*/ 151848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" name=""/>
            <p:cNvCxnSpPr>
              <a:stCxn id="102" idx="3"/>
              <a:endCxn id="115" idx="2"/>
            </p:cNvCxnSpPr>
            <p:nvPr/>
          </p:nvCxnSpPr>
          <p:spPr>
            <a:xfrm flipV="1">
              <a:off x="5954760" y="3087000"/>
              <a:ext cx="705240" cy="5763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</p:cxnSp>
      </p:grpSp>
      <p:pic>
        <p:nvPicPr>
          <p:cNvPr id="117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92360" y="260280"/>
            <a:ext cx="565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l Cono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755640" y="1197000"/>
          <a:ext cx="7992720" cy="5538600"/>
        </p:xfrm>
        <a:graphic>
          <a:graphicData uri="http://schemas.openxmlformats.org/drawingml/2006/table">
            <a:tbl>
              <a:tblPr/>
              <a:tblGrid>
                <a:gridCol w="2664000"/>
                <a:gridCol w="2664360"/>
                <a:gridCol w="2664360"/>
              </a:tblGrid>
              <a:tr h="13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Form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ilosof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ó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temá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4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Fáct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Na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i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uím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í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Zo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di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otánica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2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) Ciencias 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trop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que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re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conom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dí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ngüí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dag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sic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olí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ociología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700360" y="260280"/>
            <a:ext cx="6443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asificación de las Ci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482920" y="1484280"/>
            <a:ext cx="424980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EMA O ÁREA DE E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11280" y="227664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OBLEMA U OB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2997360"/>
            <a:ext cx="4321440" cy="70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ÉTODO CIENTÍFICO Y TÉCNICAS DE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400536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472428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NOCIMIENTO CIENTÍ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551664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I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0720" y="1989000"/>
            <a:ext cx="0" cy="28764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2708280"/>
            <a:ext cx="0" cy="2890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3716280"/>
            <a:ext cx="0" cy="2890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4437000"/>
            <a:ext cx="0" cy="2872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5157720"/>
            <a:ext cx="0" cy="3589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6" idx="1"/>
            <a:endCxn id="121" idx="1"/>
          </p:cNvCxnSpPr>
          <p:nvPr/>
        </p:nvCxnSpPr>
        <p:spPr>
          <a:xfrm flipH="1" rot="10800000">
            <a:off x="2382480" y="1710720"/>
            <a:ext cx="72000" cy="4032720"/>
          </a:xfrm>
          <a:prstGeom prst="bentConnector3">
            <a:avLst>
              <a:gd name="adj1" fmla="val -1497487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403280" y="333360"/>
            <a:ext cx="774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eso de la investigación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grayscl/>
          </a:blip>
          <a:srcRect l="33459" t="0" r="0" b="0"/>
          <a:stretch/>
        </p:blipFill>
        <p:spPr>
          <a:xfrm>
            <a:off x="3059280" y="374760"/>
            <a:ext cx="6084720" cy="6294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3645000"/>
            <a:ext cx="7164360" cy="192276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La Investigación científ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68720" y="587700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fesor: Gabriel Alvarez Undurr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333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Esquema del proceso de la investigación cient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84880" y="120636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84880" y="2573280"/>
            <a:ext cx="609480" cy="399960"/>
          </a:xfrm>
          <a:prstGeom prst="rightArrow">
            <a:avLst>
              <a:gd name="adj1" fmla="val 50000"/>
              <a:gd name="adj2" fmla="val 3809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1206360"/>
            <a:ext cx="2735280" cy="25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ELECCIÓN DEL 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1120680"/>
            <a:ext cx="3059280" cy="1217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VISIÓN BIBLIOGRÁ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ONSULTA A EXPERTOS Y/O ESPECIAL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OBSERVACIÓN DIRECTA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2214720"/>
            <a:ext cx="2735280" cy="129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FORMULACIÓN DEL ANTE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ELABORACIÓN DEL 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2489040"/>
            <a:ext cx="3059280" cy="4448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LANTEAMIENTO, FORMULACIÓN Y SISTEMATIZACIÓN 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OBJETIVOS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JUSTIFICACIÓN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NTECEDENTES DE LA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TEORÍ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ISTEMA CONCEPT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HIPÓTESIS, VARIABLES E 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TIPOS Y NIVELE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MÉTODOS Y TÉCNICA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DEL CONTENIDO DE LA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CURSOS HUMANOS Y MATERI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RONOGRAMA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BIBLIOGRAFÍA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3040" y="4081320"/>
            <a:ext cx="243864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46240" y="3870360"/>
            <a:ext cx="2641680" cy="156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AMPLIACIÓN DEL MARCO TEÓR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UEBA DE INSTRUMENTOS (ESTUDIO PILOT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COLECCIÓN DE DATOS (APLICACIÓN DE INSTRUMENTO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OCESAMIENTO Y ANÁLISIS DE LOS DA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INTERPRETACIÓN DE LOS RESULTA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VERIFICACIÓN O FALSEAMIENTO DE LA HIPÓTE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LABORACIÓN DE CONCLUSIO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13492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170964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16360" y="1596960"/>
            <a:ext cx="27352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IDENTIFICACIÓN DE UN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54360" y="28623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41680" y="44467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41680" y="610236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3040" y="5681520"/>
            <a:ext cx="243864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DIVUL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46240" y="5526000"/>
            <a:ext cx="2641680" cy="113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DACCIÓN DEL BORRAD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VISIÓN Y CORREC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ESENTACIÓN DEL INFORME DE INVESTIGACIÓN (MONOGRAFÍA, TRABAJO DE GRADO, TESIS U OTR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VALUACIÓN DEL TRABAJO ESCRITO Y SU PRESENTACIÓN O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1349280"/>
            <a:ext cx="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484360" y="1709640"/>
            <a:ext cx="28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206360"/>
            <a:ext cx="2408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PLAN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6:12:13Z</dcterms:created>
  <dc:creator>Gabriel Alvarez</dc:creator>
  <dc:description/>
  <dc:language>en-US</dc:language>
  <cp:lastModifiedBy>gau</cp:lastModifiedBy>
  <dcterms:modified xsi:type="dcterms:W3CDTF">2007-08-25T10:52:04Z</dcterms:modified>
  <cp:revision>62</cp:revision>
  <dc:subject/>
  <dc:title>Diapositiva 1</dc:title>
</cp:coreProperties>
</file>