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287D-F44A-48D7-8599-C29E7A072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210-E381-427B-96AA-FA81F566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3810-D28A-48BE-8B4A-13376BDE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811-2547-4212-860A-E5CDB2A7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2689-1E7A-4CD3-9A97-B5BBC9F9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8690-8362-4083-8340-A0EEBE0E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F74C-D82F-4BA8-B97F-A02419AF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08CE-7A45-4688-A997-4E010CD4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A9CC-A3AE-46E1-93DB-8E8C20F0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9655-9074-4FF9-AC9F-F6A04C7F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501C-0043-4016-971A-8414E91B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BC02-2CC2-4F87-9C99-011F17A0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7D3B-6BC2-4B01-B228-9C1AE012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3FF0-7FC8-4101-AE96-4FB4A1BC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E69B-AA31-4663-A233-A2219CF6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DF29-6982-4AE6-A472-D41CF420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F3B8-898E-44CF-BA80-FD76545C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902-6E28-49CE-A981-8A2C1041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442C-9D97-4245-B77A-6A52D984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4894-AB3D-43B5-BE2A-16FF4C65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5F0-771D-4E62-89CD-BA5B3F6B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2FB-9A57-42E0-9748-0163850B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720-8C02-4184-BDDE-C0313BFA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94D5-4848-449B-A474-8C29E652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B6FD-BB0C-4D2A-9FED-5CA1AD3C0C2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2FD6-1762-4027-ABAE-74286F0430E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Mecanismos de entendimiento intercultural: proceso necesario e inminente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Santiago, Octubre 15  de 200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ablo Rubio Almu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Ayuda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Mediación Intercultural: Caso chilen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Existe sólo en ámbito reduci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ey indígena art. 39 literal d) y h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servado a conflictos dentro de las comun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Interés por implementarla: fase de estud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743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Peritaje antropológico: Una forma privilegiada de aproximación al pluralismo jurídic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Conflicto de interlegalidad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Existe un conflicto de interlegalidad ante “</a:t>
            </a:r>
            <a:r>
              <a:rPr b="0" i="1" lang="es-CR" sz="3200" spc="-1" strike="noStrike">
                <a:solidFill>
                  <a:srgbClr val="ffffff"/>
                </a:solidFill>
                <a:latin typeface="Tahoma"/>
              </a:rPr>
              <a:t>la existencia de una multiplicidad de ordenes normativos susceptibles de reivindicar la calificación de jurídicos y de aplicarse a simultáneamente al comportamiento de un individuo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Tahoma"/>
              </a:rPr>
              <a:t>Jacques Vanderlinden,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Vers une nouvelle conception du pluralisme juridique », </a:t>
            </a:r>
            <a:r>
              <a:rPr b="0" i="1" lang="es-ES" sz="1400" spc="-1" strike="noStrike">
                <a:solidFill>
                  <a:srgbClr val="ffffff"/>
                </a:solidFill>
                <a:latin typeface="Tahoma"/>
              </a:rPr>
              <a:t>Revue de la Recherche Juridique - Droit prospectif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, XVIII, 1993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Posibles conflicto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Indígena versus indígena. (salida al sistema ordinar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Indígena versus occident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o relevante en principio no es el sujeto, sino el Derecho en que basa sus pretens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Problemas de comunicabilidad </a:t>
            </a:r>
            <a:r>
              <a:rPr b="1" i="1" lang="es-CR" sz="4000" spc="-1" strike="noStrike">
                <a:solidFill>
                  <a:srgbClr val="ffffcc"/>
                </a:solidFill>
                <a:latin typeface="Tahoma"/>
              </a:rPr>
              <a:t>del </a:t>
            </a: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Derecho Propi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Características del derecho indíge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Rechaza sanciones autónom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Rechaza la uniformid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Conocido de pocos (carácter místico/religios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Principialismo, indeterminación relativ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enguaje de formul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Dinamism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Doble ciudadanía (indígena/nacion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La prueba pericial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Consiste en la opinión emitida en un </a:t>
            </a:r>
            <a:r>
              <a:rPr b="1" i="1" lang="es-CR" sz="3200" spc="-1" strike="noStrike">
                <a:solidFill>
                  <a:srgbClr val="ffffff"/>
                </a:solidFill>
                <a:latin typeface="Tahoma"/>
              </a:rPr>
              <a:t>proceso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, por una persona que posee conocimientos especiales en una ciencia o arte, acerca de una circunstancia o hecho relevante para la adecuada revisión de un asunt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Un enfoque desde la antropología jurídica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Es la disciplina que por el análisis de los discursos (orales o escritos), practicas y representaciones, estudia los procesos de juridización propios de cada sociedad y se aboca a descubrir las lógicas que los comanda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Norbert Rouland, Anthropologie Juridique, PUF, 198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Ventajas del enfoque desde la antropología jurídica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ermite superar el juridismo o </a:t>
            </a:r>
            <a:r>
              <a:rPr b="0" i="1" lang="es-CR" sz="3200" spc="-1" strike="noStrike">
                <a:solidFill>
                  <a:srgbClr val="ffffff"/>
                </a:solidFill>
                <a:latin typeface="Tahoma"/>
              </a:rPr>
              <a:t>juridisme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una especie de finalismo que es sin duda la más difundida de todas las teorías espontáneas de la practica y que consiste en hacer como si las practicas tuvieran por principio la obediencia conciente a reglas consientemente elaboradas y sancionada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CR" sz="24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aul Bordieu, </a:t>
            </a:r>
            <a:r>
              <a:rPr b="0" i="1" lang="es-CR" sz="2400" spc="-1" strike="noStrike">
                <a:solidFill>
                  <a:srgbClr val="ffffff"/>
                </a:solidFill>
                <a:latin typeface="Tahoma"/>
              </a:rPr>
              <a:t>Le sens practique</a:t>
            </a: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,198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imita los efectos nocivos del etnocentrismo (reconoce existencia de otros órdenes normativo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l juridismo que amenaza al antropólogo corresponde al riesgo del etnocentrismo que pesa sobre el jurist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tienne Le Roy,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Le jeu des lois, une anthropologie ‘dynamique’ du droit, 1999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Objetivo de la prueba pericial antropológica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Busca explicar al tribunal el significado que un determinado hecho tiene en la integralidad de un cultura que le es ajen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Esther Sánchez Botero, El peritaje antropológico: una forma de conocimiento 199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Antecedente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Movimientos socia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conocimiento de la multiculturalidad (pueblos/etnias/nacione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cepción constitucional del pluralismo juríd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Problemas que enfrenta el derecho propio en su recepción judicial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Etnocentrism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lativa parcialidad del tribu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imitado conocimi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Conjunto normativo y cultura juríd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038480" y="4648320"/>
            <a:ext cx="1143000" cy="761760"/>
          </a:xfrm>
          <a:custGeom>
            <a:avLst/>
            <a:gdLst>
              <a:gd name="textAreaLeft" fmla="*/ 0 w 1143000"/>
              <a:gd name="textAreaRight" fmla="*/ 1143360 w 11430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352680"/>
            <a:ext cx="21333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Per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Antropólogo Juríd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5791320"/>
            <a:ext cx="1295280" cy="685800"/>
          </a:xfrm>
          <a:prstGeom prst="rightArrow">
            <a:avLst>
              <a:gd name="adj1" fmla="val 50000"/>
              <a:gd name="adj2" fmla="val 4721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Signific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5105520"/>
            <a:ext cx="1676160" cy="1523880"/>
          </a:xfrm>
          <a:prstGeom prst="roundRect">
            <a:avLst>
              <a:gd name="adj" fmla="val 2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5334120"/>
            <a:ext cx="1447920" cy="1295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457200"/>
            <a:ext cx="1676520" cy="1676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7320" y="1295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Ju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7800" y="571500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Dº Occid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7360" y="563868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Dº Propio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costumb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5562720"/>
            <a:ext cx="1523880" cy="106668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56386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Tahoma"/>
              </a:rPr>
              <a:t>Hecho con relevancia juríd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2209320" y="5714640"/>
            <a:ext cx="1295640" cy="692280"/>
          </a:xfrm>
          <a:prstGeom prst="rightArrow">
            <a:avLst>
              <a:gd name="adj1" fmla="val 50000"/>
              <a:gd name="adj2" fmla="val 4678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8836400">
            <a:off x="6629400" y="2590560"/>
            <a:ext cx="762120" cy="2438280"/>
          </a:xfrm>
          <a:prstGeom prst="upArrow">
            <a:avLst>
              <a:gd name="adj1" fmla="val 50000"/>
              <a:gd name="adj2" fmla="val 7998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629800">
            <a:off x="2133360" y="2438280"/>
            <a:ext cx="761760" cy="2438640"/>
          </a:xfrm>
          <a:prstGeom prst="upArrow">
            <a:avLst>
              <a:gd name="adj1" fmla="val 50000"/>
              <a:gd name="adj2" fmla="val 800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762120"/>
            <a:ext cx="2438280" cy="1218960"/>
          </a:xfrm>
          <a:prstGeom prst="wedgeRectCallout">
            <a:avLst>
              <a:gd name="adj1" fmla="val -83592"/>
              <a:gd name="adj2" fmla="val 1002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609480"/>
            <a:ext cx="2514600" cy="1219320"/>
          </a:xfrm>
          <a:prstGeom prst="wedgeRectCallout">
            <a:avLst>
              <a:gd name="adj1" fmla="val 81060"/>
              <a:gd name="adj2" fmla="val 1627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838080"/>
            <a:ext cx="2362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-conocimiento limit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-pertenece a una cultu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determin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8879000">
            <a:off x="1688040" y="35722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Argu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709000">
            <a:off x="6411600" y="36489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Argu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8672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Arial"/>
              </a:rPr>
              <a:t>Signific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8680" y="861840"/>
            <a:ext cx="180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-Etnocentrism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-Juego normativ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4876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2438280"/>
            <a:ext cx="1371600" cy="757440"/>
          </a:xfrm>
          <a:custGeom>
            <a:avLst/>
            <a:gdLst>
              <a:gd name="textAreaLeft" fmla="*/ 0 w 1371600"/>
              <a:gd name="textAreaRight" fmla="*/ 1371960 w 1371600"/>
              <a:gd name="textAreaTop" fmla="*/ 189360 h 757440"/>
              <a:gd name="textAreaBottom" fmla="*/ 568080 h 75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39560" y="266688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Tra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847600">
            <a:off x="6667560" y="1866960"/>
            <a:ext cx="914400" cy="1447920"/>
          </a:xfrm>
          <a:prstGeom prst="wedgeEllipseCallout">
            <a:avLst>
              <a:gd name="adj1" fmla="val -30981"/>
              <a:gd name="adj2" fmla="val 11630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847600">
            <a:off x="1797120" y="1784160"/>
            <a:ext cx="982440" cy="1681200"/>
          </a:xfrm>
          <a:prstGeom prst="wedgeEllipseCallout">
            <a:avLst>
              <a:gd name="adj1" fmla="val -68023"/>
              <a:gd name="adj2" fmla="val -758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228600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Arial"/>
              </a:rPr>
              <a:t>Equidad proce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860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Arial"/>
              </a:rPr>
              <a:t>Conocimiento ple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3581280"/>
            <a:ext cx="2361960" cy="9144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Resolver libre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Ejes epistemológicos para la aproximación a los derechos indígenas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Ver que no vem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Los sistemas autorregulados son sistemas cerrados desde el punto de vista de la inform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¿Conocimiento empírico y/o conocimiento en construcción?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¿Son? o ¿Son indígenas en devenir?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¿Relativismo y universalismo en conflict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Lo que encaja sobrev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Salvadores mort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Pluralismo y diversidad, empresa  intelectual e impulso polí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  <a:ea typeface="宋体"/>
              </a:rPr>
              <a:t>Esther Sánchez Botero,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  <a:ea typeface="宋体"/>
              </a:rPr>
              <a:t>Construcciones epistemológicas para el conocimiento de los sistemas d derecho propio y de las justicias indígenas, 1997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Ventajas y desventajas del peritaje antropológic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Ventajas.</a:t>
            </a: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ermite la democratización de la aplicación del derech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ermite al juez un espectro mayor de posibilidades de resolución de un confli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Facilita el dialogo cultural/instituc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ermite superar el juridismo y el etnocentrism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Desventaj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No es autónom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uede confundirse con la defensa de interés indíge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No es obligatorio (puede ser decretado de oficio o a petición de par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Regulación en Chile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No existe norma expresa, se aplican las reglas generales en materia probator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misión a la costumbre, lo hace procedente. (articulo 54, Ley 1925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roceso civil y penal: situación actual y proyec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Algunos casos relevante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Caso Juana Catrilaf año 195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Primer referente en Chi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Palabras clav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Asesinato, brujería, machi, fuerza mayor, incultura y debilidad men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Resulta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Exculp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Marido golpeador es procesado por la ronda y sancionado en públ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rocedimiento y sanción atentatorios a la dignidad del sujeto indígena que recurre a a la justicia ordinar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eritaje: explica/contextualiza los procedimientos y los declara pertinentes culturalme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sultado: absolución a los ronder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Rondas campesinas del Perú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Indígena tenía amante dentro de su comunidad, sancionado primariamente viola la resolución y reinc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iña entre la esposa y la amante, resultado de muer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¿a quien sancionar? y ¿cóm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Poner fuego en dos corazones”. Caso de un guambiano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Concepciones de debido proceso.</a:t>
            </a: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Sentencia 189/96, 349/96 TC de Colombia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Indigenas sancionados conforme a procedimientos internos recurren invocando violacion al debido proceso, con el objeto de incumplir la san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CR" sz="2800" spc="-1" strike="noStrike">
                <a:solidFill>
                  <a:srgbClr val="ffffff"/>
                </a:solidFill>
                <a:latin typeface="Tahoma"/>
              </a:rPr>
              <a:t>De exigir la vigencia de normas rigurosamente idénticas y equivalentes a las nuestras, se seguiría una completa distorsión de lo que el legislador se propuso al erigir el pluralismo jurídico como un principio básico del sistema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Facilitadores Interculturales.</a:t>
            </a: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Facilitar las relaciones entre sujetos pertenecientes a grupos culturales distintos, poniendo de manifiesto las diversas expresiones culturales, aunque </a:t>
            </a:r>
            <a:r>
              <a:rPr b="0" i="1" lang="es-CR" sz="3200" spc="-1" strike="noStrike">
                <a:solidFill>
                  <a:srgbClr val="ffffff"/>
                </a:solidFill>
                <a:latin typeface="Tahoma"/>
              </a:rPr>
              <a:t>sin asignar al sujeto facilitador una función activa en el proceso al cuál accede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Facilitadores interculturale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¿Quiénes cumplen esta función?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Personas indígenas (urbanizado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Personas no indígenas con manejo cultur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Característica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Se espera el manejo de la lengua pertin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Se espera buen grado de relaciones intra-comunitar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Ámbito de aplicación: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Ámbito educativo (educación intercultural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Ámbito de negociación entre particul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Ámbito judicial/post-judi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Facilitadores interculturales: ámbito judicial/prejudicial/post-judicial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Ha cobrado mucha relevancia en Chile, sobretodo en material Pe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lación con la reforma al sistema Procesal Penal (acuerdos reparatorios, suspensiones condicionales del procedimient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Ha operado como un remedio a la inexistencia de mecanismos pluralist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Muy limitado en sus posibil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Facilitadores interculturales:</a:t>
            </a:r>
            <a:br>
              <a:rPr sz="4000"/>
            </a:b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Algunos Casos relevantes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Caso de los gitan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Condena por robo a reclusión noctur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Gitanos pueblo nómada, la rea es madre de niños pequeñ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Se argumenta la variable cultural para modificar la medida de cumplimiento alternativa de la pe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800" spc="-1" strike="noStrike">
                <a:solidFill>
                  <a:srgbClr val="ffffff"/>
                </a:solidFill>
                <a:latin typeface="Tahoma"/>
              </a:rPr>
              <a:t>Se entiende que la carpa es el domicilio válido para cumplir la pena de reclusión nocturna domicilia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Mediación intercultural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Se entiende como un recurso profesionalizado que pretende contribuir a una mejor comunicación relación e integración entre personas o grupos presentes en un territorio y pertenecientes a una o varias culturas, mediante la acción de un tercero que colabora para que las partes en conflicto adopten una solución propuesta por ellos mismos”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(Desenvolupament Comunitari y Andalucía Acoge, 2002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Mediación Intercultural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Ventaj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Solución surgida de las partes en confli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Mayores posibilidades de concreción del acuer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Restablece las relaciones entre las partes de modo durade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Descomprime el sistema judic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Mediación Intercultural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Desventaj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Campos de aplicación limit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Depende de la voluntad de las par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El mediador no es completamente neut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Se trabaja desde determinados lineami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ferencia05</cp:lastModifiedBy>
  <dcterms:modified xsi:type="dcterms:W3CDTF">2008-10-15T16:51:5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